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 id="328" r:id="rId231"/>
    <p:sldId id="329" r:id="rId232"/>
    <p:sldId id="330" r:id="rId233"/>
    <p:sldId id="331" r:id="rId234"/>
    <p:sldId id="332" r:id="rId235"/>
    <p:sldId id="333" r:id="rId236"/>
    <p:sldId id="334" r:id="rId237"/>
    <p:sldId id="335" r:id="rId238"/>
    <p:sldId id="336" r:id="rId239"/>
    <p:sldId id="337" r:id="rId240"/>
    <p:sldId id="338" r:id="rId241"/>
    <p:sldId id="339" r:id="rId242"/>
    <p:sldId id="340" r:id="rId243"/>
    <p:sldId id="341" r:id="rId244"/>
    <p:sldId id="342" r:id="rId245"/>
    <p:sldId id="343" r:id="rId246"/>
    <p:sldId id="344" r:id="rId247"/>
    <p:sldId id="345" r:id="rId248"/>
    <p:sldId id="346" r:id="rId249"/>
    <p:sldId id="347" r:id="rId250"/>
    <p:sldId id="348" r:id="rId251"/>
    <p:sldId id="349" r:id="rId252"/>
    <p:sldId id="350" r:id="rId253"/>
    <p:sldId id="351" r:id="rId254"/>
    <p:sldId id="352" r:id="rId255"/>
    <p:sldId id="353" r:id="rId256"/>
    <p:sldId id="354" r:id="rId257"/>
    <p:sldId id="355" r:id="rId258"/>
    <p:sldId id="356" r:id="rId259"/>
    <p:sldId id="357" r:id="rId260"/>
    <p:sldId id="358" r:id="rId261"/>
    <p:sldId id="359" r:id="rId26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slide" Target="slides/slide73.xml"/><Relationship Id="rId232" Type="http://schemas.openxmlformats.org/officeDocument/2006/relationships/slide" Target="slides/slide74.xml"/><Relationship Id="rId233" Type="http://schemas.openxmlformats.org/officeDocument/2006/relationships/slide" Target="slides/slide75.xml"/><Relationship Id="rId234" Type="http://schemas.openxmlformats.org/officeDocument/2006/relationships/slide" Target="slides/slide76.xml"/><Relationship Id="rId235" Type="http://schemas.openxmlformats.org/officeDocument/2006/relationships/slide" Target="slides/slide77.xml"/><Relationship Id="rId236" Type="http://schemas.openxmlformats.org/officeDocument/2006/relationships/slide" Target="slides/slide78.xml"/><Relationship Id="rId237" Type="http://schemas.openxmlformats.org/officeDocument/2006/relationships/slide" Target="slides/slide79.xml"/><Relationship Id="rId238" Type="http://schemas.openxmlformats.org/officeDocument/2006/relationships/slide" Target="slides/slide80.xml"/><Relationship Id="rId239" Type="http://schemas.openxmlformats.org/officeDocument/2006/relationships/slide" Target="slides/slide81.xml"/><Relationship Id="rId240" Type="http://schemas.openxmlformats.org/officeDocument/2006/relationships/slide" Target="slides/slide82.xml"/><Relationship Id="rId241" Type="http://schemas.openxmlformats.org/officeDocument/2006/relationships/slide" Target="slides/slide83.xml"/><Relationship Id="rId242" Type="http://schemas.openxmlformats.org/officeDocument/2006/relationships/slide" Target="slides/slide84.xml"/><Relationship Id="rId243" Type="http://schemas.openxmlformats.org/officeDocument/2006/relationships/slide" Target="slides/slide85.xml"/><Relationship Id="rId244" Type="http://schemas.openxmlformats.org/officeDocument/2006/relationships/slide" Target="slides/slide86.xml"/><Relationship Id="rId245" Type="http://schemas.openxmlformats.org/officeDocument/2006/relationships/slide" Target="slides/slide87.xml"/><Relationship Id="rId246" Type="http://schemas.openxmlformats.org/officeDocument/2006/relationships/slide" Target="slides/slide88.xml"/><Relationship Id="rId247" Type="http://schemas.openxmlformats.org/officeDocument/2006/relationships/slide" Target="slides/slide89.xml"/><Relationship Id="rId248" Type="http://schemas.openxmlformats.org/officeDocument/2006/relationships/slide" Target="slides/slide90.xml"/><Relationship Id="rId249" Type="http://schemas.openxmlformats.org/officeDocument/2006/relationships/slide" Target="slides/slide91.xml"/><Relationship Id="rId250" Type="http://schemas.openxmlformats.org/officeDocument/2006/relationships/slide" Target="slides/slide92.xml"/><Relationship Id="rId251" Type="http://schemas.openxmlformats.org/officeDocument/2006/relationships/slide" Target="slides/slide93.xml"/><Relationship Id="rId252" Type="http://schemas.openxmlformats.org/officeDocument/2006/relationships/slide" Target="slides/slide94.xml"/><Relationship Id="rId253" Type="http://schemas.openxmlformats.org/officeDocument/2006/relationships/slide" Target="slides/slide95.xml"/><Relationship Id="rId254" Type="http://schemas.openxmlformats.org/officeDocument/2006/relationships/slide" Target="slides/slide96.xml"/><Relationship Id="rId255" Type="http://schemas.openxmlformats.org/officeDocument/2006/relationships/slide" Target="slides/slide97.xml"/><Relationship Id="rId256" Type="http://schemas.openxmlformats.org/officeDocument/2006/relationships/slide" Target="slides/slide98.xml"/><Relationship Id="rId257" Type="http://schemas.openxmlformats.org/officeDocument/2006/relationships/slide" Target="slides/slide99.xml"/><Relationship Id="rId258" Type="http://schemas.openxmlformats.org/officeDocument/2006/relationships/slide" Target="slides/slide100.xml"/><Relationship Id="rId259" Type="http://schemas.openxmlformats.org/officeDocument/2006/relationships/slide" Target="slides/slide101.xml"/><Relationship Id="rId260" Type="http://schemas.openxmlformats.org/officeDocument/2006/relationships/slide" Target="slides/slide102.xml"/><Relationship Id="rId261" Type="http://schemas.openxmlformats.org/officeDocument/2006/relationships/slide" Target="slides/slide103.xml"/><Relationship Id="rId262" Type="http://schemas.openxmlformats.org/officeDocument/2006/relationships/slide" Target="slides/slide104.xml"/><Relationship Id="rId2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Text Box 2"/>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PlaceHolder 1"/>
          <p:cNvSpPr>
            <a:spLocks noGrp="1"/>
          </p:cNvSpPr>
          <p:nvPr>
            <p:ph type="dt" idx="169"/>
          </p:nvPr>
        </p:nvSpPr>
        <p:spPr>
          <a:xfrm>
            <a:off x="3884760" y="0"/>
            <a:ext cx="29700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8" name="PlaceHolder 2"/>
          <p:cNvSpPr>
            <a:spLocks noGrp="1"/>
          </p:cNvSpPr>
          <p:nvPr>
            <p:ph type="sldImg"/>
          </p:nvPr>
        </p:nvSpPr>
        <p:spPr>
          <a:xfrm>
            <a:off x="985320" y="733320"/>
            <a:ext cx="4884840" cy="3664080"/>
          </a:xfrm>
          <a:prstGeom prst="rect">
            <a:avLst/>
          </a:prstGeom>
          <a:noFill/>
          <a:ln w="12600">
            <a:solidFill>
              <a:srgbClr val="000000"/>
            </a:solidFill>
            <a:miter/>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89" name="PlaceHolder 3"/>
          <p:cNvSpPr>
            <a:spLocks noGrp="1"/>
          </p:cNvSpPr>
          <p:nvPr>
            <p:ph type="body"/>
          </p:nvPr>
        </p:nvSpPr>
        <p:spPr>
          <a:xfrm>
            <a:off x="685800" y="4642920"/>
            <a:ext cx="5484960" cy="43959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0" name="Text Box 6"/>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1" name="PlaceHolder 4"/>
          <p:cNvSpPr>
            <a:spLocks noGrp="1"/>
          </p:cNvSpPr>
          <p:nvPr>
            <p:ph type="sldNum" idx="170"/>
          </p:nvPr>
        </p:nvSpPr>
        <p:spPr>
          <a:xfrm>
            <a:off x="3884760" y="9283680"/>
            <a:ext cx="2970000" cy="487440"/>
          </a:xfrm>
          <a:prstGeom prst="rect">
            <a:avLst/>
          </a:prstGeom>
          <a:noFill/>
          <a:ln w="0">
            <a:noFill/>
          </a:ln>
        </p:spPr>
        <p:txBody>
          <a:bodyPr lIns="90000" rIns="90000" tIns="46800" bIns="46800" anchor="b">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D75B8-C1C2-4733-BF4C-EDDB63B7591B}"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4"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B3948-EA1E-4D28-ADC5-F39F04DEDEB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5" name="PlaceHolder 1"/>
          <p:cNvSpPr>
            <a:spLocks noGrp="1"/>
          </p:cNvSpPr>
          <p:nvPr>
            <p:ph type="sldImg"/>
          </p:nvPr>
        </p:nvSpPr>
        <p:spPr>
          <a:xfrm>
            <a:off x="985680" y="733320"/>
            <a:ext cx="4886640" cy="3665520"/>
          </a:xfrm>
          <a:prstGeom prst="rect">
            <a:avLst/>
          </a:prstGeom>
          <a:ln w="0">
            <a:noFill/>
          </a:ln>
        </p:spPr>
      </p:sp>
      <p:sp>
        <p:nvSpPr>
          <p:cNvPr id="732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7AD96-DB40-463A-BAA7-4D3192D1554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2E0DF-D461-440A-AF97-EE369C6C7E8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1" name="PlaceHolder 1"/>
          <p:cNvSpPr>
            <a:spLocks noGrp="1"/>
          </p:cNvSpPr>
          <p:nvPr>
            <p:ph type="sldImg"/>
          </p:nvPr>
        </p:nvSpPr>
        <p:spPr>
          <a:xfrm>
            <a:off x="985680" y="741240"/>
            <a:ext cx="4886640" cy="3665520"/>
          </a:xfrm>
          <a:prstGeom prst="rect">
            <a:avLst/>
          </a:prstGeom>
          <a:ln w="0">
            <a:noFill/>
          </a:ln>
        </p:spPr>
      </p:sp>
      <p:sp>
        <p:nvSpPr>
          <p:cNvPr id="7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2C3BC3-5644-4466-9609-4C959B35ED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1BADA-9E4B-4104-8B41-425E14C44AB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1" name="PlaceHolder 1"/>
          <p:cNvSpPr>
            <a:spLocks noGrp="1"/>
          </p:cNvSpPr>
          <p:nvPr>
            <p:ph type="sldImg"/>
          </p:nvPr>
        </p:nvSpPr>
        <p:spPr>
          <a:xfrm>
            <a:off x="985680" y="741240"/>
            <a:ext cx="4886640" cy="3665520"/>
          </a:xfrm>
          <a:prstGeom prst="rect">
            <a:avLst/>
          </a:prstGeom>
          <a:ln w="0">
            <a:noFill/>
          </a:ln>
        </p:spPr>
      </p:sp>
      <p:sp>
        <p:nvSpPr>
          <p:cNvPr id="7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72CDD-8424-4954-934A-64F4B03C12F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92D18-4727-4938-A084-91427C79312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5" name="PlaceHolder 1"/>
          <p:cNvSpPr>
            <a:spLocks noGrp="1"/>
          </p:cNvSpPr>
          <p:nvPr>
            <p:ph type="sldImg"/>
          </p:nvPr>
        </p:nvSpPr>
        <p:spPr>
          <a:xfrm>
            <a:off x="985680" y="741240"/>
            <a:ext cx="4886640" cy="3665520"/>
          </a:xfrm>
          <a:prstGeom prst="rect">
            <a:avLst/>
          </a:prstGeom>
          <a:ln w="0">
            <a:noFill/>
          </a:ln>
        </p:spPr>
      </p:sp>
      <p:sp>
        <p:nvSpPr>
          <p:cNvPr id="77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7BA9E-C5B0-492E-A664-6B24050A392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5695D-845B-4309-A1E6-CA0CF02C1D3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9" name="PlaceHolder 1"/>
          <p:cNvSpPr>
            <a:spLocks noGrp="1"/>
          </p:cNvSpPr>
          <p:nvPr>
            <p:ph type="sldImg"/>
          </p:nvPr>
        </p:nvSpPr>
        <p:spPr>
          <a:xfrm>
            <a:off x="985680" y="741240"/>
            <a:ext cx="4886640" cy="3665520"/>
          </a:xfrm>
          <a:prstGeom prst="rect">
            <a:avLst/>
          </a:prstGeom>
          <a:ln w="0">
            <a:noFill/>
          </a:ln>
        </p:spPr>
      </p:sp>
      <p:sp>
        <p:nvSpPr>
          <p:cNvPr id="7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67985-0D75-461A-A0DF-C87D272C762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8C44A-831E-4C61-ADDA-39B9680EA1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3" name="PlaceHolder 1"/>
          <p:cNvSpPr>
            <a:spLocks noGrp="1"/>
          </p:cNvSpPr>
          <p:nvPr>
            <p:ph type="sldImg"/>
          </p:nvPr>
        </p:nvSpPr>
        <p:spPr>
          <a:xfrm>
            <a:off x="985680" y="741240"/>
            <a:ext cx="4886640" cy="3665520"/>
          </a:xfrm>
          <a:prstGeom prst="rect">
            <a:avLst/>
          </a:prstGeom>
          <a:ln w="0">
            <a:noFill/>
          </a:ln>
        </p:spPr>
      </p:sp>
      <p:sp>
        <p:nvSpPr>
          <p:cNvPr id="7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AA7DC-763B-4CA4-8D38-0BD9D7B917B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6" name="PlaceHolder 1"/>
          <p:cNvSpPr>
            <a:spLocks noGrp="1"/>
          </p:cNvSpPr>
          <p:nvPr>
            <p:ph type="sldImg"/>
          </p:nvPr>
        </p:nvSpPr>
        <p:spPr>
          <a:xfrm>
            <a:off x="985680" y="733320"/>
            <a:ext cx="4886640" cy="3665520"/>
          </a:xfrm>
          <a:prstGeom prst="rect">
            <a:avLst/>
          </a:prstGeom>
          <a:ln w="0">
            <a:noFill/>
          </a:ln>
        </p:spPr>
      </p:sp>
      <p:sp>
        <p:nvSpPr>
          <p:cNvPr id="7737"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04EB0-419D-4C96-A907-E832213258E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5E8F7-8BC9-475A-98E4-2B429FEBFD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5" name="PlaceHolder 1"/>
          <p:cNvSpPr>
            <a:spLocks noGrp="1"/>
          </p:cNvSpPr>
          <p:nvPr>
            <p:ph type="sldImg"/>
          </p:nvPr>
        </p:nvSpPr>
        <p:spPr>
          <a:xfrm>
            <a:off x="985680" y="741240"/>
            <a:ext cx="4886640" cy="3665520"/>
          </a:xfrm>
          <a:prstGeom prst="rect">
            <a:avLst/>
          </a:prstGeom>
          <a:ln w="0">
            <a:noFill/>
          </a:ln>
        </p:spPr>
      </p:sp>
      <p:sp>
        <p:nvSpPr>
          <p:cNvPr id="7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BB8B8-5E92-4265-81DB-855EA1ACC8A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C508E-AE11-4258-BD8B-B5F8CFB052E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9" name="PlaceHolder 1"/>
          <p:cNvSpPr>
            <a:spLocks noGrp="1"/>
          </p:cNvSpPr>
          <p:nvPr>
            <p:ph type="sldImg"/>
          </p:nvPr>
        </p:nvSpPr>
        <p:spPr>
          <a:xfrm>
            <a:off x="985680" y="741240"/>
            <a:ext cx="4886640" cy="3665520"/>
          </a:xfrm>
          <a:prstGeom prst="rect">
            <a:avLst/>
          </a:prstGeom>
          <a:ln w="0">
            <a:noFill/>
          </a:ln>
        </p:spPr>
      </p:sp>
      <p:sp>
        <p:nvSpPr>
          <p:cNvPr id="7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82801-B23E-41BA-90FB-739086C4D34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DF8F3-D293-420F-908B-F2A4DD0B65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73" name="PlaceHolder 1"/>
          <p:cNvSpPr>
            <a:spLocks noGrp="1"/>
          </p:cNvSpPr>
          <p:nvPr>
            <p:ph type="sldImg"/>
          </p:nvPr>
        </p:nvSpPr>
        <p:spPr>
          <a:xfrm>
            <a:off x="985680" y="741240"/>
            <a:ext cx="4886640" cy="3665520"/>
          </a:xfrm>
          <a:prstGeom prst="rect">
            <a:avLst/>
          </a:prstGeom>
          <a:ln w="0">
            <a:noFill/>
          </a:ln>
        </p:spPr>
      </p:sp>
      <p:sp>
        <p:nvSpPr>
          <p:cNvPr id="7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ECE39-AC8D-4A57-BE27-F4A27D1F9F4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D4EAA-8881-4EAB-9277-D9E189D6099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77" name="PlaceHolder 1"/>
          <p:cNvSpPr>
            <a:spLocks noGrp="1"/>
          </p:cNvSpPr>
          <p:nvPr>
            <p:ph type="sldImg"/>
          </p:nvPr>
        </p:nvSpPr>
        <p:spPr>
          <a:xfrm>
            <a:off x="985680" y="741240"/>
            <a:ext cx="4886640" cy="3665520"/>
          </a:xfrm>
          <a:prstGeom prst="rect">
            <a:avLst/>
          </a:prstGeom>
          <a:ln w="0">
            <a:noFill/>
          </a:ln>
        </p:spPr>
      </p:sp>
      <p:sp>
        <p:nvSpPr>
          <p:cNvPr id="7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6DA1E-B01F-4346-89D3-C3FEF5EEB41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4770C-72F1-4AC7-ABBE-25055C233BA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81" name="PlaceHolder 1"/>
          <p:cNvSpPr>
            <a:spLocks noGrp="1"/>
          </p:cNvSpPr>
          <p:nvPr>
            <p:ph type="sldImg"/>
          </p:nvPr>
        </p:nvSpPr>
        <p:spPr>
          <a:xfrm>
            <a:off x="985680" y="741240"/>
            <a:ext cx="4886640" cy="3665520"/>
          </a:xfrm>
          <a:prstGeom prst="rect">
            <a:avLst/>
          </a:prstGeom>
          <a:ln w="0">
            <a:noFill/>
          </a:ln>
        </p:spPr>
      </p:sp>
      <p:sp>
        <p:nvSpPr>
          <p:cNvPr id="7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7D88A-1751-47AC-8737-B1C47E19EA5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9341E2-B5AC-4CBB-81C0-3F9B28F300E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85" name="PlaceHolder 1"/>
          <p:cNvSpPr>
            <a:spLocks noGrp="1"/>
          </p:cNvSpPr>
          <p:nvPr>
            <p:ph type="sldImg"/>
          </p:nvPr>
        </p:nvSpPr>
        <p:spPr>
          <a:xfrm>
            <a:off x="985680" y="741240"/>
            <a:ext cx="4886640" cy="3665520"/>
          </a:xfrm>
          <a:prstGeom prst="rect">
            <a:avLst/>
          </a:prstGeom>
          <a:ln w="0">
            <a:noFill/>
          </a:ln>
        </p:spPr>
      </p:sp>
      <p:sp>
        <p:nvSpPr>
          <p:cNvPr id="7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B4D50-5E63-4F05-91A0-7A4BCAFDBF9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0647A-8464-441C-8E1D-642326DC4FB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89" name="PlaceHolder 1"/>
          <p:cNvSpPr>
            <a:spLocks noGrp="1"/>
          </p:cNvSpPr>
          <p:nvPr>
            <p:ph type="sldImg"/>
          </p:nvPr>
        </p:nvSpPr>
        <p:spPr>
          <a:xfrm>
            <a:off x="985680" y="741240"/>
            <a:ext cx="4886640" cy="3665520"/>
          </a:xfrm>
          <a:prstGeom prst="rect">
            <a:avLst/>
          </a:prstGeom>
          <a:ln w="0">
            <a:noFill/>
          </a:ln>
        </p:spPr>
      </p:sp>
      <p:sp>
        <p:nvSpPr>
          <p:cNvPr id="7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B54EE-9785-44C3-BF53-B69BC66C477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41831-5B50-4F9F-83DF-56389B5598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93" name="PlaceHolder 1"/>
          <p:cNvSpPr>
            <a:spLocks noGrp="1"/>
          </p:cNvSpPr>
          <p:nvPr>
            <p:ph type="sldImg"/>
          </p:nvPr>
        </p:nvSpPr>
        <p:spPr>
          <a:xfrm>
            <a:off x="985680" y="741240"/>
            <a:ext cx="4886640" cy="3665520"/>
          </a:xfrm>
          <a:prstGeom prst="rect">
            <a:avLst/>
          </a:prstGeom>
          <a:ln w="0">
            <a:noFill/>
          </a:ln>
        </p:spPr>
      </p:sp>
      <p:sp>
        <p:nvSpPr>
          <p:cNvPr id="7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1DC25-4F8A-43B6-8942-0F10EC09DC8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CAB0A-436A-40EF-B668-2487111A5B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97" name="PlaceHolder 1"/>
          <p:cNvSpPr>
            <a:spLocks noGrp="1"/>
          </p:cNvSpPr>
          <p:nvPr>
            <p:ph type="sldImg"/>
          </p:nvPr>
        </p:nvSpPr>
        <p:spPr>
          <a:xfrm>
            <a:off x="985680" y="741240"/>
            <a:ext cx="4886640" cy="3665520"/>
          </a:xfrm>
          <a:prstGeom prst="rect">
            <a:avLst/>
          </a:prstGeom>
          <a:ln w="0">
            <a:noFill/>
          </a:ln>
        </p:spPr>
      </p:sp>
      <p:sp>
        <p:nvSpPr>
          <p:cNvPr id="7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7C913-741B-4E2B-AF60-3E75B9CB52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96DC6-B8D2-4C36-9D38-A06D19951D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29" name="PlaceHolder 1"/>
          <p:cNvSpPr>
            <a:spLocks noGrp="1"/>
          </p:cNvSpPr>
          <p:nvPr>
            <p:ph type="sldImg"/>
          </p:nvPr>
        </p:nvSpPr>
        <p:spPr>
          <a:xfrm>
            <a:off x="985680" y="741240"/>
            <a:ext cx="4886640" cy="3665520"/>
          </a:xfrm>
          <a:prstGeom prst="rect">
            <a:avLst/>
          </a:prstGeom>
          <a:ln w="0">
            <a:noFill/>
          </a:ln>
        </p:spPr>
      </p:sp>
      <p:sp>
        <p:nvSpPr>
          <p:cNvPr id="7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B7D31-6303-4BF8-BEFE-A68F19937B6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A672A-800E-4EC3-88ED-2C625541EB7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01" name="PlaceHolder 1"/>
          <p:cNvSpPr>
            <a:spLocks noGrp="1"/>
          </p:cNvSpPr>
          <p:nvPr>
            <p:ph type="sldImg"/>
          </p:nvPr>
        </p:nvSpPr>
        <p:spPr>
          <a:xfrm>
            <a:off x="985680" y="741240"/>
            <a:ext cx="4886640" cy="3665520"/>
          </a:xfrm>
          <a:prstGeom prst="rect">
            <a:avLst/>
          </a:prstGeom>
          <a:ln w="0">
            <a:noFill/>
          </a:ln>
        </p:spPr>
      </p:sp>
      <p:sp>
        <p:nvSpPr>
          <p:cNvPr id="74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B0786-5B2B-44C5-BA5D-BC4182DD5F4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54CB8-63C7-4705-912B-91CBD2CE3C9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05" name="PlaceHolder 1"/>
          <p:cNvSpPr>
            <a:spLocks noGrp="1"/>
          </p:cNvSpPr>
          <p:nvPr>
            <p:ph type="sldImg"/>
          </p:nvPr>
        </p:nvSpPr>
        <p:spPr>
          <a:xfrm>
            <a:off x="985680" y="741240"/>
            <a:ext cx="4886640" cy="3665520"/>
          </a:xfrm>
          <a:prstGeom prst="rect">
            <a:avLst/>
          </a:prstGeom>
          <a:ln w="0">
            <a:noFill/>
          </a:ln>
        </p:spPr>
      </p:sp>
      <p:sp>
        <p:nvSpPr>
          <p:cNvPr id="7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43B01-F5E0-4215-8AF5-5C64551E7E3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82D94-AC14-4D3C-B404-ADD02BCDB9A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09" name="PlaceHolder 1"/>
          <p:cNvSpPr>
            <a:spLocks noGrp="1"/>
          </p:cNvSpPr>
          <p:nvPr>
            <p:ph type="sldImg"/>
          </p:nvPr>
        </p:nvSpPr>
        <p:spPr>
          <a:xfrm>
            <a:off x="985680" y="741240"/>
            <a:ext cx="4886640" cy="3665520"/>
          </a:xfrm>
          <a:prstGeom prst="rect">
            <a:avLst/>
          </a:prstGeom>
          <a:ln w="0">
            <a:noFill/>
          </a:ln>
        </p:spPr>
      </p:sp>
      <p:sp>
        <p:nvSpPr>
          <p:cNvPr id="7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EE52DB-70B4-45CF-A570-2F3A360305C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35DD5-B79E-4B01-B7B3-70FDF56C36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13" name="PlaceHolder 1"/>
          <p:cNvSpPr>
            <a:spLocks noGrp="1"/>
          </p:cNvSpPr>
          <p:nvPr>
            <p:ph type="sldImg"/>
          </p:nvPr>
        </p:nvSpPr>
        <p:spPr>
          <a:xfrm>
            <a:off x="985680" y="741240"/>
            <a:ext cx="4886640" cy="3665520"/>
          </a:xfrm>
          <a:prstGeom prst="rect">
            <a:avLst/>
          </a:prstGeom>
          <a:ln w="0">
            <a:noFill/>
          </a:ln>
        </p:spPr>
      </p:sp>
      <p:sp>
        <p:nvSpPr>
          <p:cNvPr id="74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F157B-0EE5-43E4-A572-BBFCD03EFD3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536785-52B4-4D03-B9DA-44E8313BF03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17" name="PlaceHolder 1"/>
          <p:cNvSpPr>
            <a:spLocks noGrp="1"/>
          </p:cNvSpPr>
          <p:nvPr>
            <p:ph type="sldImg"/>
          </p:nvPr>
        </p:nvSpPr>
        <p:spPr>
          <a:xfrm>
            <a:off x="985680" y="741240"/>
            <a:ext cx="4886640" cy="3665520"/>
          </a:xfrm>
          <a:prstGeom prst="rect">
            <a:avLst/>
          </a:prstGeom>
          <a:ln w="0">
            <a:noFill/>
          </a:ln>
        </p:spPr>
      </p:sp>
      <p:sp>
        <p:nvSpPr>
          <p:cNvPr id="7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78185-A5B0-44F7-82C9-02432EA4013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2945C-4C0D-4DB7-861B-566272543A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21" name="PlaceHolder 1"/>
          <p:cNvSpPr>
            <a:spLocks noGrp="1"/>
          </p:cNvSpPr>
          <p:nvPr>
            <p:ph type="sldImg"/>
          </p:nvPr>
        </p:nvSpPr>
        <p:spPr>
          <a:xfrm>
            <a:off x="985680" y="741240"/>
            <a:ext cx="4886640" cy="3665520"/>
          </a:xfrm>
          <a:prstGeom prst="rect">
            <a:avLst/>
          </a:prstGeom>
          <a:ln w="0">
            <a:noFill/>
          </a:ln>
        </p:spPr>
      </p:sp>
      <p:sp>
        <p:nvSpPr>
          <p:cNvPr id="7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04E3E-7AFE-46EA-A8A7-499DCC77AB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6658C-EDA1-485E-A7DB-446D0DA65E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25" name="PlaceHolder 1"/>
          <p:cNvSpPr>
            <a:spLocks noGrp="1"/>
          </p:cNvSpPr>
          <p:nvPr>
            <p:ph type="sldImg"/>
          </p:nvPr>
        </p:nvSpPr>
        <p:spPr>
          <a:xfrm>
            <a:off x="985680" y="741240"/>
            <a:ext cx="4886640" cy="3665520"/>
          </a:xfrm>
          <a:prstGeom prst="rect">
            <a:avLst/>
          </a:prstGeom>
          <a:ln w="0">
            <a:noFill/>
          </a:ln>
        </p:spPr>
      </p:sp>
      <p:sp>
        <p:nvSpPr>
          <p:cNvPr id="74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E3707-982C-4015-A9F5-FC43953C830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B81CF2-2B41-449A-B42D-2CCDEC285B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29" name="PlaceHolder 1"/>
          <p:cNvSpPr>
            <a:spLocks noGrp="1"/>
          </p:cNvSpPr>
          <p:nvPr>
            <p:ph type="sldImg"/>
          </p:nvPr>
        </p:nvSpPr>
        <p:spPr>
          <a:xfrm>
            <a:off x="985680" y="741240"/>
            <a:ext cx="4886640" cy="3665520"/>
          </a:xfrm>
          <a:prstGeom prst="rect">
            <a:avLst/>
          </a:prstGeom>
          <a:ln w="0">
            <a:noFill/>
          </a:ln>
        </p:spPr>
      </p:sp>
      <p:sp>
        <p:nvSpPr>
          <p:cNvPr id="7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AEEAB-DF5B-4516-B149-82286FE4388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6D02A-DE56-422C-995F-D92F1E8B087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33" name="PlaceHolder 1"/>
          <p:cNvSpPr>
            <a:spLocks noGrp="1"/>
          </p:cNvSpPr>
          <p:nvPr>
            <p:ph type="sldImg"/>
          </p:nvPr>
        </p:nvSpPr>
        <p:spPr>
          <a:xfrm>
            <a:off x="985680" y="741240"/>
            <a:ext cx="4886640" cy="3665520"/>
          </a:xfrm>
          <a:prstGeom prst="rect">
            <a:avLst/>
          </a:prstGeom>
          <a:ln w="0">
            <a:noFill/>
          </a:ln>
        </p:spPr>
      </p:sp>
      <p:sp>
        <p:nvSpPr>
          <p:cNvPr id="7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37456-E8B4-445A-9FFB-10D9F8D7D89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F9C4C-AF04-4FA0-8DE1-CDECB54781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37" name="PlaceHolder 1"/>
          <p:cNvSpPr>
            <a:spLocks noGrp="1"/>
          </p:cNvSpPr>
          <p:nvPr>
            <p:ph type="sldImg"/>
          </p:nvPr>
        </p:nvSpPr>
        <p:spPr>
          <a:xfrm>
            <a:off x="985680" y="741240"/>
            <a:ext cx="4886640" cy="3665520"/>
          </a:xfrm>
          <a:prstGeom prst="rect">
            <a:avLst/>
          </a:prstGeom>
          <a:ln w="0">
            <a:noFill/>
          </a:ln>
        </p:spPr>
      </p:sp>
      <p:sp>
        <p:nvSpPr>
          <p:cNvPr id="74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46643-220E-4D60-9F12-24886D9A95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2CBE6-2B2F-49D4-902E-0DE51829D5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3" name="PlaceHolder 1"/>
          <p:cNvSpPr>
            <a:spLocks noGrp="1"/>
          </p:cNvSpPr>
          <p:nvPr>
            <p:ph type="sldImg"/>
          </p:nvPr>
        </p:nvSpPr>
        <p:spPr>
          <a:xfrm>
            <a:off x="985680" y="741240"/>
            <a:ext cx="4886640" cy="3665520"/>
          </a:xfrm>
          <a:prstGeom prst="rect">
            <a:avLst/>
          </a:prstGeom>
          <a:ln w="0">
            <a:noFill/>
          </a:ln>
        </p:spPr>
      </p:sp>
      <p:sp>
        <p:nvSpPr>
          <p:cNvPr id="7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85C68-2CEE-44BB-AB03-4613339C973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F7823F-323C-49A8-B5A2-23F167DEFE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41" name="PlaceHolder 1"/>
          <p:cNvSpPr>
            <a:spLocks noGrp="1"/>
          </p:cNvSpPr>
          <p:nvPr>
            <p:ph type="sldImg"/>
          </p:nvPr>
        </p:nvSpPr>
        <p:spPr>
          <a:xfrm>
            <a:off x="985680" y="741240"/>
            <a:ext cx="4886640" cy="3665520"/>
          </a:xfrm>
          <a:prstGeom prst="rect">
            <a:avLst/>
          </a:prstGeom>
          <a:ln w="0">
            <a:noFill/>
          </a:ln>
        </p:spPr>
      </p:sp>
      <p:sp>
        <p:nvSpPr>
          <p:cNvPr id="7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5155B-B427-48EE-8016-A5FB25157A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689AB-D751-46AE-85EF-4C02A27B78D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45" name="PlaceHolder 1"/>
          <p:cNvSpPr>
            <a:spLocks noGrp="1"/>
          </p:cNvSpPr>
          <p:nvPr>
            <p:ph type="sldImg"/>
          </p:nvPr>
        </p:nvSpPr>
        <p:spPr>
          <a:xfrm>
            <a:off x="985680" y="741240"/>
            <a:ext cx="4886640" cy="3665520"/>
          </a:xfrm>
          <a:prstGeom prst="rect">
            <a:avLst/>
          </a:prstGeom>
          <a:ln w="0">
            <a:noFill/>
          </a:ln>
        </p:spPr>
      </p:sp>
      <p:sp>
        <p:nvSpPr>
          <p:cNvPr id="7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8CF09-F98A-4110-B3E4-8E2CB686B8A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B0AAA-72D1-43E3-B0B0-FF585C52E12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49" name="PlaceHolder 1"/>
          <p:cNvSpPr>
            <a:spLocks noGrp="1"/>
          </p:cNvSpPr>
          <p:nvPr>
            <p:ph type="sldImg"/>
          </p:nvPr>
        </p:nvSpPr>
        <p:spPr>
          <a:xfrm>
            <a:off x="985680" y="741240"/>
            <a:ext cx="4886640" cy="3665520"/>
          </a:xfrm>
          <a:prstGeom prst="rect">
            <a:avLst/>
          </a:prstGeom>
          <a:ln w="0">
            <a:noFill/>
          </a:ln>
        </p:spPr>
      </p:sp>
      <p:sp>
        <p:nvSpPr>
          <p:cNvPr id="74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F670D-D815-4557-880A-912322DA907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85EAB-2E73-453C-8F4D-AC5677C57FC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53" name="PlaceHolder 1"/>
          <p:cNvSpPr>
            <a:spLocks noGrp="1"/>
          </p:cNvSpPr>
          <p:nvPr>
            <p:ph type="sldImg"/>
          </p:nvPr>
        </p:nvSpPr>
        <p:spPr>
          <a:xfrm>
            <a:off x="985680" y="741240"/>
            <a:ext cx="4886640" cy="3665520"/>
          </a:xfrm>
          <a:prstGeom prst="rect">
            <a:avLst/>
          </a:prstGeom>
          <a:ln w="0">
            <a:noFill/>
          </a:ln>
        </p:spPr>
      </p:sp>
      <p:sp>
        <p:nvSpPr>
          <p:cNvPr id="74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16E8A-2093-4EC9-8076-ABA72668E2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66AA1-BB05-47B5-B956-F80263DC772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57" name="PlaceHolder 1"/>
          <p:cNvSpPr>
            <a:spLocks noGrp="1"/>
          </p:cNvSpPr>
          <p:nvPr>
            <p:ph type="sldImg"/>
          </p:nvPr>
        </p:nvSpPr>
        <p:spPr>
          <a:xfrm>
            <a:off x="985680" y="741240"/>
            <a:ext cx="4886640" cy="3665520"/>
          </a:xfrm>
          <a:prstGeom prst="rect">
            <a:avLst/>
          </a:prstGeom>
          <a:ln w="0">
            <a:noFill/>
          </a:ln>
        </p:spPr>
      </p:sp>
      <p:sp>
        <p:nvSpPr>
          <p:cNvPr id="74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C2FA2-A697-445F-82B0-A54AE7C0050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F7C30-A7FD-4EB4-BFE5-EEA3F19B7D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61" name="PlaceHolder 1"/>
          <p:cNvSpPr>
            <a:spLocks noGrp="1"/>
          </p:cNvSpPr>
          <p:nvPr>
            <p:ph type="sldImg"/>
          </p:nvPr>
        </p:nvSpPr>
        <p:spPr>
          <a:xfrm>
            <a:off x="985680" y="741240"/>
            <a:ext cx="4886640" cy="3665520"/>
          </a:xfrm>
          <a:prstGeom prst="rect">
            <a:avLst/>
          </a:prstGeom>
          <a:ln w="0">
            <a:noFill/>
          </a:ln>
        </p:spPr>
      </p:sp>
      <p:sp>
        <p:nvSpPr>
          <p:cNvPr id="74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57B84-D651-483D-B2DA-CAF7C7691D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EB20D-3E14-4203-8E43-E92A3CA26F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65" name="PlaceHolder 1"/>
          <p:cNvSpPr>
            <a:spLocks noGrp="1"/>
          </p:cNvSpPr>
          <p:nvPr>
            <p:ph type="sldImg"/>
          </p:nvPr>
        </p:nvSpPr>
        <p:spPr>
          <a:xfrm>
            <a:off x="985680" y="741240"/>
            <a:ext cx="4886640" cy="3665520"/>
          </a:xfrm>
          <a:prstGeom prst="rect">
            <a:avLst/>
          </a:prstGeom>
          <a:ln w="0">
            <a:noFill/>
          </a:ln>
        </p:spPr>
      </p:sp>
      <p:sp>
        <p:nvSpPr>
          <p:cNvPr id="74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222EB2-BCC3-4266-994E-9BEB87DCCD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901D7-6299-40D4-BFE0-B657BE1936E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69" name="PlaceHolder 1"/>
          <p:cNvSpPr>
            <a:spLocks noGrp="1"/>
          </p:cNvSpPr>
          <p:nvPr>
            <p:ph type="sldImg"/>
          </p:nvPr>
        </p:nvSpPr>
        <p:spPr>
          <a:xfrm>
            <a:off x="985680" y="741240"/>
            <a:ext cx="4886640" cy="3665520"/>
          </a:xfrm>
          <a:prstGeom prst="rect">
            <a:avLst/>
          </a:prstGeom>
          <a:ln w="0">
            <a:noFill/>
          </a:ln>
        </p:spPr>
      </p:sp>
      <p:sp>
        <p:nvSpPr>
          <p:cNvPr id="74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4C700-EAC2-4DE5-8ADB-838D9D2D6EC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6746A-DC40-4C57-B42F-3D834B0EDED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73" name="PlaceHolder 1"/>
          <p:cNvSpPr>
            <a:spLocks noGrp="1"/>
          </p:cNvSpPr>
          <p:nvPr>
            <p:ph type="sldImg"/>
          </p:nvPr>
        </p:nvSpPr>
        <p:spPr>
          <a:xfrm>
            <a:off x="985680" y="741240"/>
            <a:ext cx="4886640" cy="3665520"/>
          </a:xfrm>
          <a:prstGeom prst="rect">
            <a:avLst/>
          </a:prstGeom>
          <a:ln w="0">
            <a:noFill/>
          </a:ln>
        </p:spPr>
      </p:sp>
      <p:sp>
        <p:nvSpPr>
          <p:cNvPr id="74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F7248-5ACD-45DC-8828-FE786935FB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A0C0F-8BD4-4CB9-BE50-2FEABCF789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77" name="PlaceHolder 1"/>
          <p:cNvSpPr>
            <a:spLocks noGrp="1"/>
          </p:cNvSpPr>
          <p:nvPr>
            <p:ph type="sldImg"/>
          </p:nvPr>
        </p:nvSpPr>
        <p:spPr>
          <a:xfrm>
            <a:off x="985680" y="741240"/>
            <a:ext cx="4886640" cy="3665520"/>
          </a:xfrm>
          <a:prstGeom prst="rect">
            <a:avLst/>
          </a:prstGeom>
          <a:ln w="0">
            <a:noFill/>
          </a:ln>
        </p:spPr>
      </p:sp>
      <p:sp>
        <p:nvSpPr>
          <p:cNvPr id="74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AC39D-F39D-41AF-AF77-4526BF5230B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075888-9527-435D-B289-F0EC2A2C9D4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7" name="PlaceHolder 1"/>
          <p:cNvSpPr>
            <a:spLocks noGrp="1"/>
          </p:cNvSpPr>
          <p:nvPr>
            <p:ph type="sldImg"/>
          </p:nvPr>
        </p:nvSpPr>
        <p:spPr>
          <a:xfrm>
            <a:off x="985680" y="741240"/>
            <a:ext cx="4886640" cy="3665520"/>
          </a:xfrm>
          <a:prstGeom prst="rect">
            <a:avLst/>
          </a:prstGeom>
          <a:ln w="0">
            <a:noFill/>
          </a:ln>
        </p:spPr>
      </p:sp>
      <p:sp>
        <p:nvSpPr>
          <p:cNvPr id="7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551B5B-9A34-47B4-9693-A05D671163C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73712-8996-487C-8CC0-3C9D5C3393C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1" name="PlaceHolder 1"/>
          <p:cNvSpPr>
            <a:spLocks noGrp="1"/>
          </p:cNvSpPr>
          <p:nvPr>
            <p:ph type="sldImg"/>
          </p:nvPr>
        </p:nvSpPr>
        <p:spPr>
          <a:xfrm>
            <a:off x="985680" y="741240"/>
            <a:ext cx="4886640" cy="3665520"/>
          </a:xfrm>
          <a:prstGeom prst="rect">
            <a:avLst/>
          </a:prstGeom>
          <a:ln w="0">
            <a:noFill/>
          </a:ln>
        </p:spPr>
      </p:sp>
      <p:sp>
        <p:nvSpPr>
          <p:cNvPr id="74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A4479-609E-43AB-9B51-AA9794B11A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4CD08-4438-4D75-ACBE-6372A393846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5" name="PlaceHolder 1"/>
          <p:cNvSpPr>
            <a:spLocks noGrp="1"/>
          </p:cNvSpPr>
          <p:nvPr>
            <p:ph type="sldImg"/>
          </p:nvPr>
        </p:nvSpPr>
        <p:spPr>
          <a:xfrm>
            <a:off x="985680" y="741240"/>
            <a:ext cx="4886640" cy="3665520"/>
          </a:xfrm>
          <a:prstGeom prst="rect">
            <a:avLst/>
          </a:prstGeom>
          <a:ln w="0">
            <a:noFill/>
          </a:ln>
        </p:spPr>
      </p:sp>
      <p:sp>
        <p:nvSpPr>
          <p:cNvPr id="74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0F89C-CA0D-4489-B7E5-4B6BFF0E6FE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D1517-205B-43EE-B84C-094BD0E3C93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9" name="PlaceHolder 1"/>
          <p:cNvSpPr>
            <a:spLocks noGrp="1"/>
          </p:cNvSpPr>
          <p:nvPr>
            <p:ph type="sldImg"/>
          </p:nvPr>
        </p:nvSpPr>
        <p:spPr>
          <a:xfrm>
            <a:off x="985680" y="741240"/>
            <a:ext cx="4886640" cy="3665520"/>
          </a:xfrm>
          <a:prstGeom prst="rect">
            <a:avLst/>
          </a:prstGeom>
          <a:ln w="0">
            <a:noFill/>
          </a:ln>
        </p:spPr>
      </p:sp>
      <p:sp>
        <p:nvSpPr>
          <p:cNvPr id="74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31907-7924-47C0-AE2A-2AF3BE0D1C6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B58DF-9275-435B-82CF-824F30DC90B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3" name="PlaceHolder 1"/>
          <p:cNvSpPr>
            <a:spLocks noGrp="1"/>
          </p:cNvSpPr>
          <p:nvPr>
            <p:ph type="sldImg"/>
          </p:nvPr>
        </p:nvSpPr>
        <p:spPr>
          <a:xfrm>
            <a:off x="985680" y="741240"/>
            <a:ext cx="4886640" cy="3665520"/>
          </a:xfrm>
          <a:prstGeom prst="rect">
            <a:avLst/>
          </a:prstGeom>
          <a:ln w="0">
            <a:noFill/>
          </a:ln>
        </p:spPr>
      </p:sp>
      <p:sp>
        <p:nvSpPr>
          <p:cNvPr id="74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33873-4241-4176-B455-A12EB6F9236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A8392-66D3-4720-8782-4B69AF13174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7" name="PlaceHolder 1"/>
          <p:cNvSpPr>
            <a:spLocks noGrp="1"/>
          </p:cNvSpPr>
          <p:nvPr>
            <p:ph type="sldImg"/>
          </p:nvPr>
        </p:nvSpPr>
        <p:spPr>
          <a:xfrm>
            <a:off x="985680" y="741240"/>
            <a:ext cx="4886640" cy="3665520"/>
          </a:xfrm>
          <a:prstGeom prst="rect">
            <a:avLst/>
          </a:prstGeom>
          <a:ln w="0">
            <a:noFill/>
          </a:ln>
        </p:spPr>
      </p:sp>
      <p:sp>
        <p:nvSpPr>
          <p:cNvPr id="74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4D393-6152-42E8-A375-6E747A98DDD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8B986-FCEB-4655-9CD6-24349DA9569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1" name="PlaceHolder 1"/>
          <p:cNvSpPr>
            <a:spLocks noGrp="1"/>
          </p:cNvSpPr>
          <p:nvPr>
            <p:ph type="sldImg"/>
          </p:nvPr>
        </p:nvSpPr>
        <p:spPr>
          <a:xfrm>
            <a:off x="985680" y="741240"/>
            <a:ext cx="4886640" cy="3665520"/>
          </a:xfrm>
          <a:prstGeom prst="rect">
            <a:avLst/>
          </a:prstGeom>
          <a:ln w="0">
            <a:noFill/>
          </a:ln>
        </p:spPr>
      </p:sp>
      <p:sp>
        <p:nvSpPr>
          <p:cNvPr id="75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D3338-F99C-4B35-8093-27C24726CE3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21B6D-6A52-42E7-A911-C3EBAB09506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5" name="PlaceHolder 1"/>
          <p:cNvSpPr>
            <a:spLocks noGrp="1"/>
          </p:cNvSpPr>
          <p:nvPr>
            <p:ph type="sldImg"/>
          </p:nvPr>
        </p:nvSpPr>
        <p:spPr>
          <a:xfrm>
            <a:off x="985680" y="741240"/>
            <a:ext cx="4886640" cy="3665520"/>
          </a:xfrm>
          <a:prstGeom prst="rect">
            <a:avLst/>
          </a:prstGeom>
          <a:ln w="0">
            <a:noFill/>
          </a:ln>
        </p:spPr>
      </p:sp>
      <p:sp>
        <p:nvSpPr>
          <p:cNvPr id="75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B1C38-DFBB-4DE9-B1E9-25451BAD96B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D5866-403B-49DF-AAB6-3206D81FE45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9" name="PlaceHolder 1"/>
          <p:cNvSpPr>
            <a:spLocks noGrp="1"/>
          </p:cNvSpPr>
          <p:nvPr>
            <p:ph type="sldImg"/>
          </p:nvPr>
        </p:nvSpPr>
        <p:spPr>
          <a:xfrm>
            <a:off x="985680" y="741240"/>
            <a:ext cx="4886640" cy="3665520"/>
          </a:xfrm>
          <a:prstGeom prst="rect">
            <a:avLst/>
          </a:prstGeom>
          <a:ln w="0">
            <a:noFill/>
          </a:ln>
        </p:spPr>
      </p:sp>
      <p:sp>
        <p:nvSpPr>
          <p:cNvPr id="75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AF53B-1EF1-4579-9B0D-64E6CEED6D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556624-8FFE-433C-A15E-AEC66CF47E8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3" name="PlaceHolder 1"/>
          <p:cNvSpPr>
            <a:spLocks noGrp="1"/>
          </p:cNvSpPr>
          <p:nvPr>
            <p:ph type="sldImg"/>
          </p:nvPr>
        </p:nvSpPr>
        <p:spPr>
          <a:xfrm>
            <a:off x="985680" y="741240"/>
            <a:ext cx="4886640" cy="3665520"/>
          </a:xfrm>
          <a:prstGeom prst="rect">
            <a:avLst/>
          </a:prstGeom>
          <a:ln w="0">
            <a:noFill/>
          </a:ln>
        </p:spPr>
      </p:sp>
      <p:sp>
        <p:nvSpPr>
          <p:cNvPr id="75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14F04-C0A0-4251-B58E-367DA19DB36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B2B0E-4E4F-465F-9BC4-F273303DF90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7" name="PlaceHolder 1"/>
          <p:cNvSpPr>
            <a:spLocks noGrp="1"/>
          </p:cNvSpPr>
          <p:nvPr>
            <p:ph type="sldImg"/>
          </p:nvPr>
        </p:nvSpPr>
        <p:spPr>
          <a:xfrm>
            <a:off x="985680" y="741240"/>
            <a:ext cx="4886640" cy="3665520"/>
          </a:xfrm>
          <a:prstGeom prst="rect">
            <a:avLst/>
          </a:prstGeom>
          <a:ln w="0">
            <a:noFill/>
          </a:ln>
        </p:spPr>
      </p:sp>
      <p:sp>
        <p:nvSpPr>
          <p:cNvPr id="75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0AC822-5A5E-49EC-AD1D-39BBB27B019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60D7A-D010-45C0-8B80-57BD1557545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1" name="PlaceHolder 1"/>
          <p:cNvSpPr>
            <a:spLocks noGrp="1"/>
          </p:cNvSpPr>
          <p:nvPr>
            <p:ph type="sldImg"/>
          </p:nvPr>
        </p:nvSpPr>
        <p:spPr>
          <a:xfrm>
            <a:off x="985680" y="741240"/>
            <a:ext cx="4886640" cy="3665520"/>
          </a:xfrm>
          <a:prstGeom prst="rect">
            <a:avLst/>
          </a:prstGeom>
          <a:ln w="0">
            <a:noFill/>
          </a:ln>
        </p:spPr>
      </p:sp>
      <p:sp>
        <p:nvSpPr>
          <p:cNvPr id="7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E54A3-9683-48BD-A55B-4CFAA0E1A0C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60629-AA28-4249-B3D1-C5F8DD05B2E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1" name="PlaceHolder 1"/>
          <p:cNvSpPr>
            <a:spLocks noGrp="1"/>
          </p:cNvSpPr>
          <p:nvPr>
            <p:ph type="sldImg"/>
          </p:nvPr>
        </p:nvSpPr>
        <p:spPr>
          <a:xfrm>
            <a:off x="985680" y="741240"/>
            <a:ext cx="4886640" cy="3665520"/>
          </a:xfrm>
          <a:prstGeom prst="rect">
            <a:avLst/>
          </a:prstGeom>
          <a:ln w="0">
            <a:noFill/>
          </a:ln>
        </p:spPr>
      </p:sp>
      <p:sp>
        <p:nvSpPr>
          <p:cNvPr id="75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993C4-9994-4102-8AE1-489C6F4AD60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1272C-3DF0-44A4-8DC1-80352AB99DF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5" name="PlaceHolder 1"/>
          <p:cNvSpPr>
            <a:spLocks noGrp="1"/>
          </p:cNvSpPr>
          <p:nvPr>
            <p:ph type="sldImg"/>
          </p:nvPr>
        </p:nvSpPr>
        <p:spPr>
          <a:xfrm>
            <a:off x="985680" y="741240"/>
            <a:ext cx="4886640" cy="3665520"/>
          </a:xfrm>
          <a:prstGeom prst="rect">
            <a:avLst/>
          </a:prstGeom>
          <a:ln w="0">
            <a:noFill/>
          </a:ln>
        </p:spPr>
      </p:sp>
      <p:sp>
        <p:nvSpPr>
          <p:cNvPr id="75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D1775-534D-4F67-A3F3-4862764F34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08086-EDA8-4402-82DD-06008511EC6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9" name="PlaceHolder 1"/>
          <p:cNvSpPr>
            <a:spLocks noGrp="1"/>
          </p:cNvSpPr>
          <p:nvPr>
            <p:ph type="sldImg"/>
          </p:nvPr>
        </p:nvSpPr>
        <p:spPr>
          <a:xfrm>
            <a:off x="985680" y="741240"/>
            <a:ext cx="4886640" cy="3665520"/>
          </a:xfrm>
          <a:prstGeom prst="rect">
            <a:avLst/>
          </a:prstGeom>
          <a:ln w="0">
            <a:noFill/>
          </a:ln>
        </p:spPr>
      </p:sp>
      <p:sp>
        <p:nvSpPr>
          <p:cNvPr id="75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940C3-9B6C-4D61-B770-E8A8926397E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0DEC5-FA80-462C-AE14-ADC287E3865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3" name="PlaceHolder 1"/>
          <p:cNvSpPr>
            <a:spLocks noGrp="1"/>
          </p:cNvSpPr>
          <p:nvPr>
            <p:ph type="sldImg"/>
          </p:nvPr>
        </p:nvSpPr>
        <p:spPr>
          <a:xfrm>
            <a:off x="985680" y="741240"/>
            <a:ext cx="4886640" cy="3665520"/>
          </a:xfrm>
          <a:prstGeom prst="rect">
            <a:avLst/>
          </a:prstGeom>
          <a:ln w="0">
            <a:noFill/>
          </a:ln>
        </p:spPr>
      </p:sp>
      <p:sp>
        <p:nvSpPr>
          <p:cNvPr id="75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BECFB-DAC8-4554-B89A-73B51916EB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03C3C-9419-47AD-9504-71D70B48C55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7" name="PlaceHolder 1"/>
          <p:cNvSpPr>
            <a:spLocks noGrp="1"/>
          </p:cNvSpPr>
          <p:nvPr>
            <p:ph type="sldImg"/>
          </p:nvPr>
        </p:nvSpPr>
        <p:spPr>
          <a:xfrm>
            <a:off x="985680" y="741240"/>
            <a:ext cx="4886640" cy="3665520"/>
          </a:xfrm>
          <a:prstGeom prst="rect">
            <a:avLst/>
          </a:prstGeom>
          <a:ln w="0">
            <a:noFill/>
          </a:ln>
        </p:spPr>
      </p:sp>
      <p:sp>
        <p:nvSpPr>
          <p:cNvPr id="75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CBCAD-C89F-4E7F-BF6D-5D6C76D15A6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BEA224-CA2E-4C49-A3F7-8F271FB315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1" name="PlaceHolder 1"/>
          <p:cNvSpPr>
            <a:spLocks noGrp="1"/>
          </p:cNvSpPr>
          <p:nvPr>
            <p:ph type="sldImg"/>
          </p:nvPr>
        </p:nvSpPr>
        <p:spPr>
          <a:xfrm>
            <a:off x="985680" y="741240"/>
            <a:ext cx="4886640" cy="3665520"/>
          </a:xfrm>
          <a:prstGeom prst="rect">
            <a:avLst/>
          </a:prstGeom>
          <a:ln w="0">
            <a:noFill/>
          </a:ln>
        </p:spPr>
      </p:sp>
      <p:sp>
        <p:nvSpPr>
          <p:cNvPr id="75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5FEBC-0EF5-42CE-96AC-28EBF88C301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43916-1B29-40A2-B708-7CDD66C45C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5" name="PlaceHolder 1"/>
          <p:cNvSpPr>
            <a:spLocks noGrp="1"/>
          </p:cNvSpPr>
          <p:nvPr>
            <p:ph type="sldImg"/>
          </p:nvPr>
        </p:nvSpPr>
        <p:spPr>
          <a:xfrm>
            <a:off x="985680" y="741240"/>
            <a:ext cx="4886640" cy="3665520"/>
          </a:xfrm>
          <a:prstGeom prst="rect">
            <a:avLst/>
          </a:prstGeom>
          <a:ln w="0">
            <a:noFill/>
          </a:ln>
        </p:spPr>
      </p:sp>
      <p:sp>
        <p:nvSpPr>
          <p:cNvPr id="75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66F48-7A0D-45EF-9B24-588DD47AFA4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F82F3-9FCB-49A6-ADE2-9D306F93837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9" name="PlaceHolder 1"/>
          <p:cNvSpPr>
            <a:spLocks noGrp="1"/>
          </p:cNvSpPr>
          <p:nvPr>
            <p:ph type="sldImg"/>
          </p:nvPr>
        </p:nvSpPr>
        <p:spPr>
          <a:xfrm>
            <a:off x="985680" y="741240"/>
            <a:ext cx="4886640" cy="3665520"/>
          </a:xfrm>
          <a:prstGeom prst="rect">
            <a:avLst/>
          </a:prstGeom>
          <a:ln w="0">
            <a:noFill/>
          </a:ln>
        </p:spPr>
      </p:sp>
      <p:sp>
        <p:nvSpPr>
          <p:cNvPr id="75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B075F2-A3A3-43CA-BFEA-229AA0A9359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EDB5F-40C9-471E-997A-7B585D7E021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3" name="PlaceHolder 1"/>
          <p:cNvSpPr>
            <a:spLocks noGrp="1"/>
          </p:cNvSpPr>
          <p:nvPr>
            <p:ph type="sldImg"/>
          </p:nvPr>
        </p:nvSpPr>
        <p:spPr>
          <a:xfrm>
            <a:off x="985680" y="741240"/>
            <a:ext cx="4886640" cy="3665520"/>
          </a:xfrm>
          <a:prstGeom prst="rect">
            <a:avLst/>
          </a:prstGeom>
          <a:ln w="0">
            <a:noFill/>
          </a:ln>
        </p:spPr>
      </p:sp>
      <p:sp>
        <p:nvSpPr>
          <p:cNvPr id="75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99611-D555-4A64-97DF-B6BC02950DE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10EC3-295F-4550-8161-15F8B5539E6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7" name="PlaceHolder 1"/>
          <p:cNvSpPr>
            <a:spLocks noGrp="1"/>
          </p:cNvSpPr>
          <p:nvPr>
            <p:ph type="sldImg"/>
          </p:nvPr>
        </p:nvSpPr>
        <p:spPr>
          <a:xfrm>
            <a:off x="985680" y="741240"/>
            <a:ext cx="4886640" cy="3665520"/>
          </a:xfrm>
          <a:prstGeom prst="rect">
            <a:avLst/>
          </a:prstGeom>
          <a:ln w="0">
            <a:noFill/>
          </a:ln>
        </p:spPr>
      </p:sp>
      <p:sp>
        <p:nvSpPr>
          <p:cNvPr id="75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0E8DF-D180-4DF5-A5C1-FFCD6A35FD3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15353-6C01-427D-94DE-86FFEA381A1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5" name="PlaceHolder 1"/>
          <p:cNvSpPr>
            <a:spLocks noGrp="1"/>
          </p:cNvSpPr>
          <p:nvPr>
            <p:ph type="sldImg"/>
          </p:nvPr>
        </p:nvSpPr>
        <p:spPr>
          <a:xfrm>
            <a:off x="985680" y="741240"/>
            <a:ext cx="4886640" cy="3665520"/>
          </a:xfrm>
          <a:prstGeom prst="rect">
            <a:avLst/>
          </a:prstGeom>
          <a:ln w="0">
            <a:noFill/>
          </a:ln>
        </p:spPr>
      </p:sp>
      <p:sp>
        <p:nvSpPr>
          <p:cNvPr id="7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B3A9E-AC35-43E3-B833-3A563608844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0773D-4FE3-4781-B62A-F6F36FEB21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1" name="PlaceHolder 1"/>
          <p:cNvSpPr>
            <a:spLocks noGrp="1"/>
          </p:cNvSpPr>
          <p:nvPr>
            <p:ph type="sldImg"/>
          </p:nvPr>
        </p:nvSpPr>
        <p:spPr>
          <a:xfrm>
            <a:off x="985680" y="741240"/>
            <a:ext cx="4886640" cy="3665520"/>
          </a:xfrm>
          <a:prstGeom prst="rect">
            <a:avLst/>
          </a:prstGeom>
          <a:ln w="0">
            <a:noFill/>
          </a:ln>
        </p:spPr>
      </p:sp>
      <p:sp>
        <p:nvSpPr>
          <p:cNvPr id="75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DB85A-FBF0-4B89-8BBD-42D6B0D06DF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FF779-359D-43E4-8592-2E6656AE736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5" name="PlaceHolder 1"/>
          <p:cNvSpPr>
            <a:spLocks noGrp="1"/>
          </p:cNvSpPr>
          <p:nvPr>
            <p:ph type="sldImg"/>
          </p:nvPr>
        </p:nvSpPr>
        <p:spPr>
          <a:xfrm>
            <a:off x="985680" y="741240"/>
            <a:ext cx="4886640" cy="3665520"/>
          </a:xfrm>
          <a:prstGeom prst="rect">
            <a:avLst/>
          </a:prstGeom>
          <a:ln w="0">
            <a:noFill/>
          </a:ln>
        </p:spPr>
      </p:sp>
      <p:sp>
        <p:nvSpPr>
          <p:cNvPr id="75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A64CA-50C9-4C72-9BB3-A63BE00D478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BCC03-3AA4-46F8-ADE4-6F9FFF92128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9" name="PlaceHolder 1"/>
          <p:cNvSpPr>
            <a:spLocks noGrp="1"/>
          </p:cNvSpPr>
          <p:nvPr>
            <p:ph type="sldImg"/>
          </p:nvPr>
        </p:nvSpPr>
        <p:spPr>
          <a:xfrm>
            <a:off x="985680" y="741240"/>
            <a:ext cx="4886640" cy="3665520"/>
          </a:xfrm>
          <a:prstGeom prst="rect">
            <a:avLst/>
          </a:prstGeom>
          <a:ln w="0">
            <a:noFill/>
          </a:ln>
        </p:spPr>
      </p:sp>
      <p:sp>
        <p:nvSpPr>
          <p:cNvPr id="75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AB14C-50F5-422D-B373-C8D8EED69D4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8F9E7-248B-43EF-9D53-6A76BF1F5E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3" name="PlaceHolder 1"/>
          <p:cNvSpPr>
            <a:spLocks noGrp="1"/>
          </p:cNvSpPr>
          <p:nvPr>
            <p:ph type="sldImg"/>
          </p:nvPr>
        </p:nvSpPr>
        <p:spPr>
          <a:xfrm>
            <a:off x="985680" y="741240"/>
            <a:ext cx="4886640" cy="3665520"/>
          </a:xfrm>
          <a:prstGeom prst="rect">
            <a:avLst/>
          </a:prstGeom>
          <a:ln w="0">
            <a:noFill/>
          </a:ln>
        </p:spPr>
      </p:sp>
      <p:sp>
        <p:nvSpPr>
          <p:cNvPr id="75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8C4AD-44DF-4754-B3C0-27C8DB2D04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28179-BF85-4077-AFD9-CD9B1AA8A85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7" name="PlaceHolder 1"/>
          <p:cNvSpPr>
            <a:spLocks noGrp="1"/>
          </p:cNvSpPr>
          <p:nvPr>
            <p:ph type="sldImg"/>
          </p:nvPr>
        </p:nvSpPr>
        <p:spPr>
          <a:xfrm>
            <a:off x="985680" y="741240"/>
            <a:ext cx="4886640" cy="3665520"/>
          </a:xfrm>
          <a:prstGeom prst="rect">
            <a:avLst/>
          </a:prstGeom>
          <a:ln w="0">
            <a:noFill/>
          </a:ln>
        </p:spPr>
      </p:sp>
      <p:sp>
        <p:nvSpPr>
          <p:cNvPr id="75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C2E42-F9C6-4BA2-9C72-D5ABCD127BC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8EA00-5CCB-4DBC-82D1-09B7AB370D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1" name="PlaceHolder 1"/>
          <p:cNvSpPr>
            <a:spLocks noGrp="1"/>
          </p:cNvSpPr>
          <p:nvPr>
            <p:ph type="sldImg"/>
          </p:nvPr>
        </p:nvSpPr>
        <p:spPr>
          <a:xfrm>
            <a:off x="985680" y="741240"/>
            <a:ext cx="4886640" cy="3665520"/>
          </a:xfrm>
          <a:prstGeom prst="rect">
            <a:avLst/>
          </a:prstGeom>
          <a:ln w="0">
            <a:noFill/>
          </a:ln>
        </p:spPr>
      </p:sp>
      <p:sp>
        <p:nvSpPr>
          <p:cNvPr id="75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99189-EC10-455B-96EF-7731830FD92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8C3EF-B22F-4B1C-9E3E-6F73C104DA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5" name="PlaceHolder 1"/>
          <p:cNvSpPr>
            <a:spLocks noGrp="1"/>
          </p:cNvSpPr>
          <p:nvPr>
            <p:ph type="sldImg"/>
          </p:nvPr>
        </p:nvSpPr>
        <p:spPr>
          <a:xfrm>
            <a:off x="985680" y="741240"/>
            <a:ext cx="4886640" cy="3665520"/>
          </a:xfrm>
          <a:prstGeom prst="rect">
            <a:avLst/>
          </a:prstGeom>
          <a:ln w="0">
            <a:noFill/>
          </a:ln>
        </p:spPr>
      </p:sp>
      <p:sp>
        <p:nvSpPr>
          <p:cNvPr id="75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C9A00-18F3-46CA-B258-CE0FC573E6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F4338-89C8-4455-A27B-65D3BF7EECF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9" name="PlaceHolder 1"/>
          <p:cNvSpPr>
            <a:spLocks noGrp="1"/>
          </p:cNvSpPr>
          <p:nvPr>
            <p:ph type="sldImg"/>
          </p:nvPr>
        </p:nvSpPr>
        <p:spPr>
          <a:xfrm>
            <a:off x="985680" y="741240"/>
            <a:ext cx="4886640" cy="3665520"/>
          </a:xfrm>
          <a:prstGeom prst="rect">
            <a:avLst/>
          </a:prstGeom>
          <a:ln w="0">
            <a:noFill/>
          </a:ln>
        </p:spPr>
      </p:sp>
      <p:sp>
        <p:nvSpPr>
          <p:cNvPr id="75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73D44-7032-4FC2-AA19-8C796B0DDE6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2871E-3893-4A2E-A16A-3EADC67DDE1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3" name="PlaceHolder 1"/>
          <p:cNvSpPr>
            <a:spLocks noGrp="1"/>
          </p:cNvSpPr>
          <p:nvPr>
            <p:ph type="sldImg"/>
          </p:nvPr>
        </p:nvSpPr>
        <p:spPr>
          <a:xfrm>
            <a:off x="985680" y="741240"/>
            <a:ext cx="4886640" cy="3665520"/>
          </a:xfrm>
          <a:prstGeom prst="rect">
            <a:avLst/>
          </a:prstGeom>
          <a:ln w="0">
            <a:noFill/>
          </a:ln>
        </p:spPr>
      </p:sp>
      <p:sp>
        <p:nvSpPr>
          <p:cNvPr id="75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196C5-8EAA-40EA-88CC-02ADEBB9BB8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8A0DB-B37F-4FF6-90B7-29E74C43F76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7" name="PlaceHolder 1"/>
          <p:cNvSpPr>
            <a:spLocks noGrp="1"/>
          </p:cNvSpPr>
          <p:nvPr>
            <p:ph type="sldImg"/>
          </p:nvPr>
        </p:nvSpPr>
        <p:spPr>
          <a:xfrm>
            <a:off x="985680" y="741240"/>
            <a:ext cx="4886640" cy="3665520"/>
          </a:xfrm>
          <a:prstGeom prst="rect">
            <a:avLst/>
          </a:prstGeom>
          <a:ln w="0">
            <a:noFill/>
          </a:ln>
        </p:spPr>
      </p:sp>
      <p:sp>
        <p:nvSpPr>
          <p:cNvPr id="75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C970A-70CF-4010-BEC2-07F3F82DEB8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282B0-9304-4257-B9AC-BCE305760E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9" name="PlaceHolder 1"/>
          <p:cNvSpPr>
            <a:spLocks noGrp="1"/>
          </p:cNvSpPr>
          <p:nvPr>
            <p:ph type="sldImg"/>
          </p:nvPr>
        </p:nvSpPr>
        <p:spPr>
          <a:xfrm>
            <a:off x="985680" y="741240"/>
            <a:ext cx="4886640" cy="3665520"/>
          </a:xfrm>
          <a:prstGeom prst="rect">
            <a:avLst/>
          </a:prstGeom>
          <a:ln w="0">
            <a:noFill/>
          </a:ln>
        </p:spPr>
      </p:sp>
      <p:sp>
        <p:nvSpPr>
          <p:cNvPr id="7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D2F3A-0A37-4567-A223-6D503803CC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6E049-309E-4018-9474-2B3434F7935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1" name="PlaceHolder 1"/>
          <p:cNvSpPr>
            <a:spLocks noGrp="1"/>
          </p:cNvSpPr>
          <p:nvPr>
            <p:ph type="sldImg"/>
          </p:nvPr>
        </p:nvSpPr>
        <p:spPr>
          <a:xfrm>
            <a:off x="985680" y="741240"/>
            <a:ext cx="4886640" cy="3665520"/>
          </a:xfrm>
          <a:prstGeom prst="rect">
            <a:avLst/>
          </a:prstGeom>
          <a:ln w="0">
            <a:noFill/>
          </a:ln>
        </p:spPr>
      </p:sp>
      <p:sp>
        <p:nvSpPr>
          <p:cNvPr id="76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B8F1B-F360-4FF9-AF14-B34B37DCFE7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3E9F6-EA62-4019-8FF3-19BCB7D740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5" name="PlaceHolder 1"/>
          <p:cNvSpPr>
            <a:spLocks noGrp="1"/>
          </p:cNvSpPr>
          <p:nvPr>
            <p:ph type="sldImg"/>
          </p:nvPr>
        </p:nvSpPr>
        <p:spPr>
          <a:xfrm>
            <a:off x="985680" y="741240"/>
            <a:ext cx="4886640" cy="3665520"/>
          </a:xfrm>
          <a:prstGeom prst="rect">
            <a:avLst/>
          </a:prstGeom>
          <a:ln w="0">
            <a:noFill/>
          </a:ln>
        </p:spPr>
      </p:sp>
      <p:sp>
        <p:nvSpPr>
          <p:cNvPr id="7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D0A33-9B4B-42DD-A99D-78F1584C60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C7DE8-7136-47BE-8E5B-D1A6D2BE20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9" name="PlaceHolder 1"/>
          <p:cNvSpPr>
            <a:spLocks noGrp="1"/>
          </p:cNvSpPr>
          <p:nvPr>
            <p:ph type="sldImg"/>
          </p:nvPr>
        </p:nvSpPr>
        <p:spPr>
          <a:xfrm>
            <a:off x="985680" y="741240"/>
            <a:ext cx="4886640" cy="3665520"/>
          </a:xfrm>
          <a:prstGeom prst="rect">
            <a:avLst/>
          </a:prstGeom>
          <a:ln w="0">
            <a:noFill/>
          </a:ln>
        </p:spPr>
      </p:sp>
      <p:sp>
        <p:nvSpPr>
          <p:cNvPr id="76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42C9B-60A5-4DA1-86E7-C9FA3AF11D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AA87C-D477-4F4E-BA8C-948F14A15CB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3" name="PlaceHolder 1"/>
          <p:cNvSpPr>
            <a:spLocks noGrp="1"/>
          </p:cNvSpPr>
          <p:nvPr>
            <p:ph type="sldImg"/>
          </p:nvPr>
        </p:nvSpPr>
        <p:spPr>
          <a:xfrm>
            <a:off x="985680" y="741240"/>
            <a:ext cx="4886640" cy="3665520"/>
          </a:xfrm>
          <a:prstGeom prst="rect">
            <a:avLst/>
          </a:prstGeom>
          <a:ln w="0">
            <a:noFill/>
          </a:ln>
        </p:spPr>
      </p:sp>
      <p:sp>
        <p:nvSpPr>
          <p:cNvPr id="76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2E8FB-43B0-4D94-BF8F-037EBE45E6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164080-3F37-4CFA-B367-CDAF80625B1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7" name="PlaceHolder 1"/>
          <p:cNvSpPr>
            <a:spLocks noGrp="1"/>
          </p:cNvSpPr>
          <p:nvPr>
            <p:ph type="sldImg"/>
          </p:nvPr>
        </p:nvSpPr>
        <p:spPr>
          <a:xfrm>
            <a:off x="985680" y="741240"/>
            <a:ext cx="4886640" cy="3665520"/>
          </a:xfrm>
          <a:prstGeom prst="rect">
            <a:avLst/>
          </a:prstGeom>
          <a:ln w="0">
            <a:noFill/>
          </a:ln>
        </p:spPr>
      </p:sp>
      <p:sp>
        <p:nvSpPr>
          <p:cNvPr id="7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DCE19-8B59-4AEA-8E3B-63FB71473C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6809D-1683-4268-91F2-99FD34938F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1" name="PlaceHolder 1"/>
          <p:cNvSpPr>
            <a:spLocks noGrp="1"/>
          </p:cNvSpPr>
          <p:nvPr>
            <p:ph type="sldImg"/>
          </p:nvPr>
        </p:nvSpPr>
        <p:spPr>
          <a:xfrm>
            <a:off x="985680" y="741240"/>
            <a:ext cx="4886640" cy="3665520"/>
          </a:xfrm>
          <a:prstGeom prst="rect">
            <a:avLst/>
          </a:prstGeom>
          <a:ln w="0">
            <a:noFill/>
          </a:ln>
        </p:spPr>
      </p:sp>
      <p:sp>
        <p:nvSpPr>
          <p:cNvPr id="7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AE5F2-BA33-4358-834D-B7C9FEF76D9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44473-A95E-4D78-BCAD-36953784D9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5" name="PlaceHolder 1"/>
          <p:cNvSpPr>
            <a:spLocks noGrp="1"/>
          </p:cNvSpPr>
          <p:nvPr>
            <p:ph type="sldImg"/>
          </p:nvPr>
        </p:nvSpPr>
        <p:spPr>
          <a:xfrm>
            <a:off x="985680" y="741240"/>
            <a:ext cx="4886640" cy="3665520"/>
          </a:xfrm>
          <a:prstGeom prst="rect">
            <a:avLst/>
          </a:prstGeom>
          <a:ln w="0">
            <a:noFill/>
          </a:ln>
        </p:spPr>
      </p:sp>
      <p:sp>
        <p:nvSpPr>
          <p:cNvPr id="7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32AED-2E1D-4882-86BD-D5773C3FA19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6DE55-2CBA-4D0E-A899-EE5B85325C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9" name="PlaceHolder 1"/>
          <p:cNvSpPr>
            <a:spLocks noGrp="1"/>
          </p:cNvSpPr>
          <p:nvPr>
            <p:ph type="sldImg"/>
          </p:nvPr>
        </p:nvSpPr>
        <p:spPr>
          <a:xfrm>
            <a:off x="985680" y="741240"/>
            <a:ext cx="4886640" cy="3665520"/>
          </a:xfrm>
          <a:prstGeom prst="rect">
            <a:avLst/>
          </a:prstGeom>
          <a:ln w="0">
            <a:noFill/>
          </a:ln>
        </p:spPr>
      </p:sp>
      <p:sp>
        <p:nvSpPr>
          <p:cNvPr id="7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78CF02-E591-46D7-9059-A03E7E703EC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8AD16-DFEB-47A8-BBC6-0C56160EDD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3" name="PlaceHolder 1"/>
          <p:cNvSpPr>
            <a:spLocks noGrp="1"/>
          </p:cNvSpPr>
          <p:nvPr>
            <p:ph type="sldImg"/>
          </p:nvPr>
        </p:nvSpPr>
        <p:spPr>
          <a:xfrm>
            <a:off x="985680" y="741240"/>
            <a:ext cx="4886640" cy="3665520"/>
          </a:xfrm>
          <a:prstGeom prst="rect">
            <a:avLst/>
          </a:prstGeom>
          <a:ln w="0">
            <a:noFill/>
          </a:ln>
        </p:spPr>
      </p:sp>
      <p:sp>
        <p:nvSpPr>
          <p:cNvPr id="7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96FE3-BDE0-48A3-BA08-FA609F1B26A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73F68-2069-407C-AB0D-6BF20D20B8A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7" name="PlaceHolder 1"/>
          <p:cNvSpPr>
            <a:spLocks noGrp="1"/>
          </p:cNvSpPr>
          <p:nvPr>
            <p:ph type="sldImg"/>
          </p:nvPr>
        </p:nvSpPr>
        <p:spPr>
          <a:xfrm>
            <a:off x="985680" y="741240"/>
            <a:ext cx="4886640" cy="3665520"/>
          </a:xfrm>
          <a:prstGeom prst="rect">
            <a:avLst/>
          </a:prstGeom>
          <a:ln w="0">
            <a:noFill/>
          </a:ln>
        </p:spPr>
      </p:sp>
      <p:sp>
        <p:nvSpPr>
          <p:cNvPr id="7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A18A3-EBF9-4AD7-8F30-A1DEFEC7A90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59D63-45D5-4C4A-8226-02A23A8AAB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3" name="PlaceHolder 1"/>
          <p:cNvSpPr>
            <a:spLocks noGrp="1"/>
          </p:cNvSpPr>
          <p:nvPr>
            <p:ph type="sldImg"/>
          </p:nvPr>
        </p:nvSpPr>
        <p:spPr>
          <a:xfrm>
            <a:off x="985680" y="741240"/>
            <a:ext cx="4886640" cy="3665520"/>
          </a:xfrm>
          <a:prstGeom prst="rect">
            <a:avLst/>
          </a:prstGeom>
          <a:ln w="0">
            <a:noFill/>
          </a:ln>
        </p:spPr>
      </p:sp>
      <p:sp>
        <p:nvSpPr>
          <p:cNvPr id="7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35E31-295F-4925-A0DC-B5355D1B9F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B95CA-81DC-45CC-BEC5-8F107172A84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1" name="PlaceHolder 1"/>
          <p:cNvSpPr>
            <a:spLocks noGrp="1"/>
          </p:cNvSpPr>
          <p:nvPr>
            <p:ph type="sldImg"/>
          </p:nvPr>
        </p:nvSpPr>
        <p:spPr>
          <a:xfrm>
            <a:off x="985680" y="741240"/>
            <a:ext cx="4886640" cy="3665520"/>
          </a:xfrm>
          <a:prstGeom prst="rect">
            <a:avLst/>
          </a:prstGeom>
          <a:ln w="0">
            <a:noFill/>
          </a:ln>
        </p:spPr>
      </p:sp>
      <p:sp>
        <p:nvSpPr>
          <p:cNvPr id="7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672DAE-F932-4587-B428-D0F89F69494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0C388E-B201-4E87-83DB-AA55965B925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5" name="PlaceHolder 1"/>
          <p:cNvSpPr>
            <a:spLocks noGrp="1"/>
          </p:cNvSpPr>
          <p:nvPr>
            <p:ph type="sldImg"/>
          </p:nvPr>
        </p:nvSpPr>
        <p:spPr>
          <a:xfrm>
            <a:off x="985680" y="741240"/>
            <a:ext cx="4886640" cy="3665520"/>
          </a:xfrm>
          <a:prstGeom prst="rect">
            <a:avLst/>
          </a:prstGeom>
          <a:ln w="0">
            <a:noFill/>
          </a:ln>
        </p:spPr>
      </p:sp>
      <p:sp>
        <p:nvSpPr>
          <p:cNvPr id="7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C7DA7-E3CA-4299-955D-A55AAF3D649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D271D-6EB9-4548-94E0-D8CF3886F3E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9" name="PlaceHolder 1"/>
          <p:cNvSpPr>
            <a:spLocks noGrp="1"/>
          </p:cNvSpPr>
          <p:nvPr>
            <p:ph type="sldImg"/>
          </p:nvPr>
        </p:nvSpPr>
        <p:spPr>
          <a:xfrm>
            <a:off x="985680" y="741240"/>
            <a:ext cx="4886640" cy="3665520"/>
          </a:xfrm>
          <a:prstGeom prst="rect">
            <a:avLst/>
          </a:prstGeom>
          <a:ln w="0">
            <a:noFill/>
          </a:ln>
        </p:spPr>
      </p:sp>
      <p:sp>
        <p:nvSpPr>
          <p:cNvPr id="7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9337B-AF8E-4AFC-9A4C-1D62F80F046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01816-E6F3-4B90-B287-7A4B75FCEE4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3" name="PlaceHolder 1"/>
          <p:cNvSpPr>
            <a:spLocks noGrp="1"/>
          </p:cNvSpPr>
          <p:nvPr>
            <p:ph type="sldImg"/>
          </p:nvPr>
        </p:nvSpPr>
        <p:spPr>
          <a:xfrm>
            <a:off x="985680" y="741240"/>
            <a:ext cx="4886640" cy="3665520"/>
          </a:xfrm>
          <a:prstGeom prst="rect">
            <a:avLst/>
          </a:prstGeom>
          <a:ln w="0">
            <a:noFill/>
          </a:ln>
        </p:spPr>
      </p:sp>
      <p:sp>
        <p:nvSpPr>
          <p:cNvPr id="7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D9B92-67BB-439C-9264-429BB17D601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AE91E-21F1-4D75-AD38-A449827C334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7" name="PlaceHolder 1"/>
          <p:cNvSpPr>
            <a:spLocks noGrp="1"/>
          </p:cNvSpPr>
          <p:nvPr>
            <p:ph type="sldImg"/>
          </p:nvPr>
        </p:nvSpPr>
        <p:spPr>
          <a:xfrm>
            <a:off x="985680" y="741240"/>
            <a:ext cx="4886640" cy="3665520"/>
          </a:xfrm>
          <a:prstGeom prst="rect">
            <a:avLst/>
          </a:prstGeom>
          <a:ln w="0">
            <a:noFill/>
          </a:ln>
        </p:spPr>
      </p:sp>
      <p:sp>
        <p:nvSpPr>
          <p:cNvPr id="7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72ABF-E656-4C5C-B239-5A2C948EDB4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A6FCE-FFE5-40B5-875E-B44E649A6DA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1" name="PlaceHolder 1"/>
          <p:cNvSpPr>
            <a:spLocks noGrp="1"/>
          </p:cNvSpPr>
          <p:nvPr>
            <p:ph type="sldImg"/>
          </p:nvPr>
        </p:nvSpPr>
        <p:spPr>
          <a:xfrm>
            <a:off x="985680" y="741240"/>
            <a:ext cx="4886640" cy="3665520"/>
          </a:xfrm>
          <a:prstGeom prst="rect">
            <a:avLst/>
          </a:prstGeom>
          <a:ln w="0">
            <a:noFill/>
          </a:ln>
        </p:spPr>
      </p:sp>
      <p:sp>
        <p:nvSpPr>
          <p:cNvPr id="7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54D74-8774-4F95-9C3A-F984D1F49E5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42281-9946-442E-BBDB-12FCF877401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5" name="PlaceHolder 1"/>
          <p:cNvSpPr>
            <a:spLocks noGrp="1"/>
          </p:cNvSpPr>
          <p:nvPr>
            <p:ph type="sldImg"/>
          </p:nvPr>
        </p:nvSpPr>
        <p:spPr>
          <a:xfrm>
            <a:off x="985680" y="741240"/>
            <a:ext cx="4886640" cy="3665520"/>
          </a:xfrm>
          <a:prstGeom prst="rect">
            <a:avLst/>
          </a:prstGeom>
          <a:ln w="0">
            <a:noFill/>
          </a:ln>
        </p:spPr>
      </p:sp>
      <p:sp>
        <p:nvSpPr>
          <p:cNvPr id="7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6DBFD-80A8-46F0-BD73-4DB90399320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22E90-C11F-4E85-A0E9-770F844733A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9" name="PlaceHolder 1"/>
          <p:cNvSpPr>
            <a:spLocks noGrp="1"/>
          </p:cNvSpPr>
          <p:nvPr>
            <p:ph type="sldImg"/>
          </p:nvPr>
        </p:nvSpPr>
        <p:spPr>
          <a:xfrm>
            <a:off x="985680" y="741240"/>
            <a:ext cx="4886640" cy="3665520"/>
          </a:xfrm>
          <a:prstGeom prst="rect">
            <a:avLst/>
          </a:prstGeom>
          <a:ln w="0">
            <a:noFill/>
          </a:ln>
        </p:spPr>
      </p:sp>
      <p:sp>
        <p:nvSpPr>
          <p:cNvPr id="7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BC6E9-8B5A-407C-AAD8-7C07AD56CA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B52A1-007C-4D3F-BC47-E85A87B61C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3" name="PlaceHolder 1"/>
          <p:cNvSpPr>
            <a:spLocks noGrp="1"/>
          </p:cNvSpPr>
          <p:nvPr>
            <p:ph type="sldImg"/>
          </p:nvPr>
        </p:nvSpPr>
        <p:spPr>
          <a:xfrm>
            <a:off x="985680" y="741240"/>
            <a:ext cx="4886640" cy="3665520"/>
          </a:xfrm>
          <a:prstGeom prst="rect">
            <a:avLst/>
          </a:prstGeom>
          <a:ln w="0">
            <a:noFill/>
          </a:ln>
        </p:spPr>
      </p:sp>
      <p:sp>
        <p:nvSpPr>
          <p:cNvPr id="7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551E6-2177-4663-AE81-F852C83CE32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5F2E5-5710-42D0-827B-41A6B7B4387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7" name="PlaceHolder 1"/>
          <p:cNvSpPr>
            <a:spLocks noGrp="1"/>
          </p:cNvSpPr>
          <p:nvPr>
            <p:ph type="sldImg"/>
          </p:nvPr>
        </p:nvSpPr>
        <p:spPr>
          <a:xfrm>
            <a:off x="985680" y="741240"/>
            <a:ext cx="4886640" cy="3665520"/>
          </a:xfrm>
          <a:prstGeom prst="rect">
            <a:avLst/>
          </a:prstGeom>
          <a:ln w="0">
            <a:noFill/>
          </a:ln>
        </p:spPr>
      </p:sp>
      <p:sp>
        <p:nvSpPr>
          <p:cNvPr id="7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3D687-5335-4C92-8095-CFD04C14894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052C9-467E-47EC-A0B0-B0307064B37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7" name="PlaceHolder 1"/>
          <p:cNvSpPr>
            <a:spLocks noGrp="1"/>
          </p:cNvSpPr>
          <p:nvPr>
            <p:ph type="sldImg"/>
          </p:nvPr>
        </p:nvSpPr>
        <p:spPr>
          <a:xfrm>
            <a:off x="985680" y="741240"/>
            <a:ext cx="4886640" cy="3665520"/>
          </a:xfrm>
          <a:prstGeom prst="rect">
            <a:avLst/>
          </a:prstGeom>
          <a:ln w="0">
            <a:noFill/>
          </a:ln>
        </p:spPr>
      </p:sp>
      <p:sp>
        <p:nvSpPr>
          <p:cNvPr id="7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A3DDE-B6D0-4C33-99F6-0121A368EE6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837E5-CBD7-46D5-9797-BA415CECB17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1" name="PlaceHolder 1"/>
          <p:cNvSpPr>
            <a:spLocks noGrp="1"/>
          </p:cNvSpPr>
          <p:nvPr>
            <p:ph type="sldImg"/>
          </p:nvPr>
        </p:nvSpPr>
        <p:spPr>
          <a:xfrm>
            <a:off x="985680" y="741240"/>
            <a:ext cx="4886640" cy="3665520"/>
          </a:xfrm>
          <a:prstGeom prst="rect">
            <a:avLst/>
          </a:prstGeom>
          <a:ln w="0">
            <a:noFill/>
          </a:ln>
        </p:spPr>
      </p:sp>
      <p:sp>
        <p:nvSpPr>
          <p:cNvPr id="7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C16E35-FD40-4DDD-92FC-7CB7CB68F6F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6C13C-881D-4DB9-991C-774A407A41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5" name="PlaceHolder 1"/>
          <p:cNvSpPr>
            <a:spLocks noGrp="1"/>
          </p:cNvSpPr>
          <p:nvPr>
            <p:ph type="sldImg"/>
          </p:nvPr>
        </p:nvSpPr>
        <p:spPr>
          <a:xfrm>
            <a:off x="985680" y="741240"/>
            <a:ext cx="4886640" cy="3665520"/>
          </a:xfrm>
          <a:prstGeom prst="rect">
            <a:avLst/>
          </a:prstGeom>
          <a:ln w="0">
            <a:noFill/>
          </a:ln>
        </p:spPr>
      </p:sp>
      <p:sp>
        <p:nvSpPr>
          <p:cNvPr id="7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FC06D-17DB-4186-ACB8-08CE47FC8BC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1696C-D970-4E5A-B9DC-0B0749BE83E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9" name="PlaceHolder 1"/>
          <p:cNvSpPr>
            <a:spLocks noGrp="1"/>
          </p:cNvSpPr>
          <p:nvPr>
            <p:ph type="sldImg"/>
          </p:nvPr>
        </p:nvSpPr>
        <p:spPr>
          <a:xfrm>
            <a:off x="985680" y="741240"/>
            <a:ext cx="4886640" cy="3665520"/>
          </a:xfrm>
          <a:prstGeom prst="rect">
            <a:avLst/>
          </a:prstGeom>
          <a:ln w="0">
            <a:noFill/>
          </a:ln>
        </p:spPr>
      </p:sp>
      <p:sp>
        <p:nvSpPr>
          <p:cNvPr id="76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D1D00-DB80-41CA-9A0D-8FBEFA8A0B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0BA52-638F-461B-B030-A233DD9D85B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3" name="PlaceHolder 1"/>
          <p:cNvSpPr>
            <a:spLocks noGrp="1"/>
          </p:cNvSpPr>
          <p:nvPr>
            <p:ph type="sldImg"/>
          </p:nvPr>
        </p:nvSpPr>
        <p:spPr>
          <a:xfrm>
            <a:off x="985680" y="741240"/>
            <a:ext cx="4886640" cy="3665520"/>
          </a:xfrm>
          <a:prstGeom prst="rect">
            <a:avLst/>
          </a:prstGeom>
          <a:ln w="0">
            <a:noFill/>
          </a:ln>
        </p:spPr>
      </p:sp>
      <p:sp>
        <p:nvSpPr>
          <p:cNvPr id="7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D7B19-6EFC-4338-B14C-7114EC6D7FB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2BF3B-3CC8-40F1-ACB2-90D5825A064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7" name="PlaceHolder 1"/>
          <p:cNvSpPr>
            <a:spLocks noGrp="1"/>
          </p:cNvSpPr>
          <p:nvPr>
            <p:ph type="sldImg"/>
          </p:nvPr>
        </p:nvSpPr>
        <p:spPr>
          <a:xfrm>
            <a:off x="985680" y="741240"/>
            <a:ext cx="4886640" cy="3665520"/>
          </a:xfrm>
          <a:prstGeom prst="rect">
            <a:avLst/>
          </a:prstGeom>
          <a:ln w="0">
            <a:noFill/>
          </a:ln>
        </p:spPr>
      </p:sp>
      <p:sp>
        <p:nvSpPr>
          <p:cNvPr id="7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AC515-46FB-40FD-843C-09C91822BC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E4E8F-EF01-4808-9342-A7E28DEE6B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1" name="PlaceHolder 1"/>
          <p:cNvSpPr>
            <a:spLocks noGrp="1"/>
          </p:cNvSpPr>
          <p:nvPr>
            <p:ph type="sldImg"/>
          </p:nvPr>
        </p:nvSpPr>
        <p:spPr>
          <a:xfrm>
            <a:off x="985680" y="741240"/>
            <a:ext cx="4886640" cy="3665520"/>
          </a:xfrm>
          <a:prstGeom prst="rect">
            <a:avLst/>
          </a:prstGeom>
          <a:ln w="0">
            <a:noFill/>
          </a:ln>
        </p:spPr>
      </p:sp>
      <p:sp>
        <p:nvSpPr>
          <p:cNvPr id="77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35249-C341-44BB-87EF-32225E47545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203FF-D2C7-465E-ACE9-FE4A3D3E60E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5" name="PlaceHolder 1"/>
          <p:cNvSpPr>
            <a:spLocks noGrp="1"/>
          </p:cNvSpPr>
          <p:nvPr>
            <p:ph type="sldImg"/>
          </p:nvPr>
        </p:nvSpPr>
        <p:spPr>
          <a:xfrm>
            <a:off x="985680" y="741240"/>
            <a:ext cx="4886640" cy="3665520"/>
          </a:xfrm>
          <a:prstGeom prst="rect">
            <a:avLst/>
          </a:prstGeom>
          <a:ln w="0">
            <a:noFill/>
          </a:ln>
        </p:spPr>
      </p:sp>
      <p:sp>
        <p:nvSpPr>
          <p:cNvPr id="7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9265C-ABD8-4775-92F4-989561E65D2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714DF-AD87-483D-91AF-08EDF9407A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9" name="PlaceHolder 1"/>
          <p:cNvSpPr>
            <a:spLocks noGrp="1"/>
          </p:cNvSpPr>
          <p:nvPr>
            <p:ph type="sldImg"/>
          </p:nvPr>
        </p:nvSpPr>
        <p:spPr>
          <a:xfrm>
            <a:off x="985680" y="741240"/>
            <a:ext cx="4886640" cy="3665520"/>
          </a:xfrm>
          <a:prstGeom prst="rect">
            <a:avLst/>
          </a:prstGeom>
          <a:ln w="0">
            <a:noFill/>
          </a:ln>
        </p:spPr>
      </p:sp>
      <p:sp>
        <p:nvSpPr>
          <p:cNvPr id="7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EFD1D-E1A9-47FE-8D96-1D570EBF9B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7747B3-E869-4E07-B83F-DBAD0596904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3" name="PlaceHolder 1"/>
          <p:cNvSpPr>
            <a:spLocks noGrp="1"/>
          </p:cNvSpPr>
          <p:nvPr>
            <p:ph type="sldImg"/>
          </p:nvPr>
        </p:nvSpPr>
        <p:spPr>
          <a:xfrm>
            <a:off x="985680" y="741240"/>
            <a:ext cx="4886640" cy="3665520"/>
          </a:xfrm>
          <a:prstGeom prst="rect">
            <a:avLst/>
          </a:prstGeom>
          <a:ln w="0">
            <a:noFill/>
          </a:ln>
        </p:spPr>
      </p:sp>
      <p:sp>
        <p:nvSpPr>
          <p:cNvPr id="77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DEC55-6F29-4823-9170-4251F9E00FC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38E91-B0C9-45E4-A49E-29FF48C4E2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7" name="PlaceHolder 1"/>
          <p:cNvSpPr>
            <a:spLocks noGrp="1"/>
          </p:cNvSpPr>
          <p:nvPr>
            <p:ph type="sldImg"/>
          </p:nvPr>
        </p:nvSpPr>
        <p:spPr>
          <a:xfrm>
            <a:off x="985680" y="741240"/>
            <a:ext cx="4886640" cy="3665520"/>
          </a:xfrm>
          <a:prstGeom prst="rect">
            <a:avLst/>
          </a:prstGeom>
          <a:ln w="0">
            <a:noFill/>
          </a:ln>
        </p:spPr>
      </p:sp>
      <p:sp>
        <p:nvSpPr>
          <p:cNvPr id="7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46BD2-2FC2-4DDB-ACF6-D1722FC604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EE95BF4-AF45-42F5-889B-010546608C3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D21845E-0B24-41E1-9442-5CA8E4A4EF33}"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28B50C45-67A9-41EC-868E-106A6E549649}"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78F159B5-4610-4C28-A975-DFB070B86F53}"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8567B216-A563-4E26-8233-9A3B68F5140B}"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2411E0F1-99BA-4CC4-A07F-3A08B007E28F}"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0990DA0-DDF9-4524-B05C-3407EBBC66F0}"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614F5760-5911-4D70-9941-1251883B9578}"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7602E714-D71F-441A-9C93-0C2E28585376}"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97EAA3ED-5FEB-4020-AFFA-E8284DB02145}"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8146C3A8-BF78-437C-B17C-D42F1DB74D25}"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DC367961-C97C-489C-9528-434E5EE74B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34D8955-4702-484D-804A-BECB961672E7}"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3D92B14C-9ABC-4125-869E-67A273488CD1}"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3FFCE0F1-A680-4B0B-A940-C5DD0BFCE12C}"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62E0A70C-DC62-4121-B1DD-2F6676535D74}"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A7A95B1E-C89B-4835-938D-1F5FEF22BF8F}"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E6595E1C-3D4F-4E10-89B0-5EA4690E3EC8}"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EC1286B7-A2DE-4AA1-9752-3E70C6DA24CE}"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6F6B1850-76D2-4401-9B3F-63480B14DD9D}"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4295B23C-FF73-4BCA-9188-8A53FFC681E2}"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65CB1631-D9DD-4ACC-8C78-57B518305860}"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51CFF930-9C21-43EF-A7E0-737E02CDFD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2FE0ECE6-5A6C-4AC7-A1E3-97D16CD1D6A7}"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D6052B1A-0CBF-4E7C-A2C2-E4DCE7351E3C}"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FEBC597F-F6DC-4DA1-8FED-8C34951F5930}"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603F6056-96DE-4400-AEB5-84776FED8B28}"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363E9E49-A68F-466D-B282-8A931E274FBA}"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3CF441BD-0259-4257-93E5-B59C7529C122}"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D43766E0-1DB4-4B29-BA3B-A3AE82ABEAEA}"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D9CFF0E0-DA4E-47C4-8904-E919EE94B743}"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43CF90C4-BE32-4E1D-A55C-4D1473195FBE}"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1BC1B637-2CB8-4288-A07D-F26855A0198C}"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89C62D43-5178-45DA-8C45-63133EDD5F9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BCC4808-1422-4147-96B2-28F06E630171}"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2B869F73-B494-4C29-BD4F-65141F1F0DD3}"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2CD5069A-32FC-4224-ABC0-C58814E7AB1A}"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88FFA797-8F3E-4698-9D9B-EA504F0488BB}"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74F8B119-5295-4302-94E5-31033300037F}"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2E9951DB-AB27-49D9-A277-E662F1A29280}"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57112BE3-40BC-4D8E-AD7F-08967F6BEB68}"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3A729E0D-03DC-4259-B15A-C6974DD9715E}"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8FA648AF-D285-465D-93D9-AF518EAAA80B}"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32FDE73C-E361-41BD-A17F-4355455EA660}"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FCDA0D9C-C404-4FD2-8984-50D6AB1AD7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0418908-D24D-4A7E-8736-4BD8EC31056F}"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978C8A94-2456-4584-93D7-B101198C2692}"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6AB26833-93AD-4488-AB29-C14541AB41C8}"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48704114-F721-4303-A912-4FB31C0D4146}"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853441EF-9060-43C4-927E-EFAD889B271E}"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48C55CB0-21DB-43B4-B815-C32A2252247E}"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48BF15B5-8822-46DA-AA77-6B4E41303FDD}"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D3A48DCB-5758-4269-BC1A-BBB558917F63}"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53A7A2E8-C97E-490D-90B0-F10F3C87884F}"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C4395090-1338-431E-BBF2-0AE283EB32B8}"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FA5C106C-728F-4AE1-8278-9A2DC8B7C28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457AF0A-F170-402D-A1B2-7DA0FD310C4C}"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042279C0-2F31-4547-BF2A-738004DD9135}"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A7A6D23D-9B47-4A94-A538-D38834F5791D}"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7D24F59-40EF-42B7-8ECA-CD78335A7D4F}"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46F14703-B2B2-40AC-BDD6-14FF5E1C95CD}"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7A2EFF8C-3810-4403-9728-0AB3CC801C28}"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D064666D-3FF5-4330-8863-5B5D0B22C572}"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68EA1528-9C7C-4145-BA4E-AEE94C8943B2}"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AAD533FA-772B-419B-AC69-B5FE06C5C029}"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E5A0EB4D-CA9B-4953-966C-0AE34C0532BB}"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BBF03076-8031-4A71-BB94-7D0701DCA5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6DC6138-F134-494C-8F8A-211BD96F3003}"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A4B5E8D2-123D-46A9-9982-B63E59CA9397}"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B8B24211-EBF4-48AF-8656-A0776FEB9584}"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DB93F8FB-A054-4956-9795-37E24D6FF5C9}"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6C4DC9A7-6008-430D-A9CF-BF9971341B9D}"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7B5890E0-B0AC-423D-92B4-A479155D6D71}"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5961F253-BDE2-40D0-8BFD-A9009DE13994}"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721D9F31-2075-4497-892B-4E8AD954D603}"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EA40F053-A855-4110-A210-A46D4DED5C7D}"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163E6AE0-7917-43A2-A9D0-298566B47B98}"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E8212162-A93B-477B-BCD3-C575E8B0786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D1A53A4A-E69C-4F79-84A3-DE2C20DCCD23}"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0D19709C-6AE1-4AFF-AF09-8FE0F44A80E8}"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88A8D07E-D9F0-4EA3-80F7-D9BDDFE8DE8B}"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0311E43D-3A35-43EF-925F-8181F54DE32A}"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07EFFF96-018E-446E-9735-C556505B292D}"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CC476FF8-7A88-4933-BED7-1B7C6932C8B8}"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C1ECC002-C45F-4A9C-B223-B0E73D9FCA18}"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755F12D4-99D7-4E95-9481-01C53776CDD8}"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44F342B4-C074-4630-92D1-0D02DCEA7BFE}"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8FEC49A7-82DC-4E5A-85B0-7BD9FD3D556C}"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94577DE1-E81E-4C04-80ED-934D07B183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AE1C1BFD-AB02-4FB8-A681-7CB47A219F00}"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5096E66B-E273-4EE8-AE03-98DEDEE57F01}"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DF593D03-1826-4924-841A-06E5E45AA669}"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4869A321-99CB-40D3-AA64-A374B2ED3787}"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FA9E7866-0A0D-44A5-ABB2-15C4DFBF4641}"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4E043B14-EF18-4AB4-9C1A-6816468E6467}"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5A73AC68-BC80-42D3-8D1C-42D1F53C15C7}"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F400211C-D679-41BE-A72A-C7418A9D136F}"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F11FA030-0547-44F0-A89F-17786DD18099}"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E995FBC-2B20-48B0-8DA3-6D75DB76F68A}"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8828FDD5-60C4-4042-8390-82F94C98F43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1D16560-EA3C-4CBF-9C38-655BE5BA6092}"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B16B2EF3-D7EA-48C4-9AB8-EC67CD634AA1}"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BE869A0C-9FAD-4725-BA3B-33DF371F9F30}"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C8A8D770-DDF8-4472-A888-3402EB2E054F}"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90D46D7F-D243-4AC6-9AF6-4F2212A0249B}"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DD7B758F-EF12-489D-9970-85526346D174}"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E56043AD-B557-491E-BD8D-5EF30DDBAEB1}"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FF7DD768-47DE-4B9A-AD17-CD06816CA28E}"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CDC74F97-FE43-460B-8440-A7FAB2C0B8ED}"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0498AA97-6733-428D-A727-98CD7B1682F3}"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C969EE23-D992-4895-BAED-55CFADB31B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F8E6FE6-4982-4323-A47F-06757C8C2FC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302B432-63C0-4BBA-A66A-16621971AEC3}"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6AEF85D5-9F26-4411-81A2-1D18B92383C3}"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0E248900-6EC0-4B56-B4F1-9C5073DF9271}"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2800D918-0C78-468C-B659-F519642C4EBE}"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39727EF1-C519-41BE-8DC0-130C5DD5C011}"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D1031257-F0DB-4A74-9A3C-5521D5CEC7C6}"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0330C616-233D-48F1-89A5-6C4F3445F7DA}"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A8453AD3-B7D1-4F55-BB6F-C90F39FCD1EF}"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14F2EA22-9C3B-41A8-8F6A-39C2E1F23CBF}"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B13BF0CE-1C7A-41FC-96D1-83F2490BD44B}"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909F7A75-3709-4142-B066-1A917A688BF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5F1AE7B-338E-4D55-8F51-39F0C8C8090B}"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E4F36EE1-E6B2-4806-BD64-3E50A5BBA122}"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FAC0F077-EBFD-4017-A840-21BCADDB7BBB}"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83BEA2C1-7AA7-4345-BBDD-15F0033C3D48}"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6070295C-CF05-437C-BD99-A881D040E48B}"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81251F0D-ACCE-4166-A1C4-C5B41D83354A}"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62377ABD-5917-4444-9BE8-864762FB6C61}"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5075C033-A454-433C-88D6-44EB4ED68795}"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AA76237F-6037-4FFE-AE99-780DD59487C5}"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F34B6282-487C-4573-9FD1-B57DC8E29171}"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D34B4D3C-1635-4725-8303-729F79BB1F0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182E5E1-3187-411A-9A2F-0C45C302CE6A}"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B011D0DF-A155-4FB6-A2A0-23F87F003DC8}"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4D83B06E-940B-428F-9E4A-0D3F68A08767}"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D21147B4-1559-4D26-9AAA-73E30EC74A00}"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13C3D3AD-B118-47A2-9B6B-226AC9D9EA05}"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4A6DABB5-8F14-47C5-8229-2F92D75C1615}"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822013A8-E71C-4B1C-BB72-FC964676B6F9}"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8D3381BD-3CE3-4526-8B26-A973E0CC7263}"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6D44391A-FE9C-44DA-94D5-32C2CD61160E}"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B7BDB16A-925B-411D-9C06-AA17DA6C57EA}"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0AED93C1-103B-4CD2-BB27-A12B4343068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654AD91-714C-4161-AFFD-0C50988F55E9}"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748B3DDC-9D9D-4121-856A-0D65A6797ADE}"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7C188792-3D34-4B28-AE56-D347E09A64E8}"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2F4ACEB1-64D3-4CAE-B032-FFD313F74A01}"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009CF3D3-30CD-403D-B9CB-AFBEB2382637}"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1DB9730E-05F1-495C-8769-5B875462B258}"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3356909F-D7A7-44D6-8EB4-A41B5CF6F431}"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AB043014-183A-4D88-806C-AD5C1EA17AC3}"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6C62E0E4-255A-48EB-9FF9-201A3E5CE5D7}"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063F8EAC-8DBA-46D1-BA7E-800AB4A69B4E}"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81FB6BFA-06DA-42DC-B5E8-41056B6E7D8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3339B5D2-D517-473D-98F3-95F6E75EBFE4}"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63365F82-BD92-4F84-A03E-6893ABCF67A0}"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5455ACFC-9BDB-475B-96A6-4FA61733D88C}"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DD860803-F75D-4CF6-9C34-54B36053ADD0}"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4EFC3AD2-0713-4A8F-955C-5B9CAD0DDA8E}"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B6952EBA-193D-4E6F-83CD-BEF255334E25}"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04E3BBC7-99F4-4446-BDAF-916DEFFD35CA}"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D99B92B8-825E-46A4-A805-576ADD4E0FA6}"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F797EA3F-5F93-4BFD-9AB3-F23D0559D71E}"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FF9FDC79-4A15-4A2B-AD66-C23FE5F19FC9}"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D1F7F450-1412-4EE2-9AA9-A898763711A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6FC7133-66C3-4AAE-84AB-72039F246519}"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E2BEC498-D9C4-4744-9FF5-0DA2524B5CEE}"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C168C759-1282-420D-A428-8AE9A3157C2F}"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7B2A876A-D11C-4D35-9D51-B3ED09E310D1}"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E6B7F4B7-CD04-4900-B974-0A82925CF9A0}"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F90E1E0D-070F-49AB-A139-0CC08DE5C1DF}"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C64EDAB7-B253-4B7D-8D61-69250DB22A7D}"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FEA79DA7-4561-440F-879F-F1DE88BE11D6}"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116810A3-2B6B-49F0-A638-12A48E5B1423}"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6115E443-5CB8-4D59-94FE-446DA209A127}"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C2184CE9-1051-4E3E-9AA1-4A649C538B2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7DF567B-57BB-4355-AEE2-4B4094C91DB2}"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D5CE09A0-5089-46AD-AC07-E26E24080C8C}"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492494F4-3FAC-4552-B5A3-8879EEAFA9B3}"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EBDBEB97-C35F-482C-B31D-311EAA91E01E}"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F1E34943-FDA9-47AD-977B-2ADED9F183E9}"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B1D06D99-681D-40AE-843B-12A44B1082D1}"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A38D3CDF-6A22-4595-AC84-9C24F98A7671}"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BBF9CCB5-9263-4E65-B59C-B2B2D0A76094}"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EF468380-D97D-4B6A-8568-72439C18DFBA}"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99414650-52B5-4B5B-80E5-C6A951DFE967}"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050F3818-0F56-411C-999D-4CCEA88BD94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460F14B-B70D-4E48-B82B-A6BACFEF71C5}"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68AB326F-89FE-48DC-8FD0-CA2642B7F72F}"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AC6D4452-8D72-4106-8152-2415F80ED6A3}"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F94C68E0-D972-47D1-8BEF-B377E6C806E3}"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46A21CCA-AA98-410C-9496-40650C50C6BC}"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C35463D9-FF5F-463A-B32B-EA5EB0200A2A}"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A77BDDC6-843E-4B87-918E-FBF7B0C8138C}"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0B584F62-EF37-4196-964C-FFD82E7E36F6}"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4A002197-8896-44E1-98EA-21B06A0FA76B}"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249ACCAF-C8D1-4C49-97C9-78E854997FF5}"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6EF54E8C-D0B9-46BC-8FF7-390503CDEE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7F9C8CE-474F-418A-9D52-F50C743AA5B8}"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9FF3E1E1-9C96-41E7-B758-796C6A899A5C}"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81B54580-E1BC-474B-AB5B-677DEC321378}"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4C651017-0B43-45E7-A38A-50A1B8535855}"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9F5F51B4-FC6F-435E-91F9-8D24F72B2AB1}"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8E2A562B-EEB3-405B-8AC5-72AB19FA9CB0}"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E0E33FF4-8FEA-4BCE-885D-BA95C4AFE011}"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539ADDFC-57AB-4F72-B1E7-AF1FDEBD9480}"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EFB0559F-63FC-4F19-8ADF-BC85F4C220DB}"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FCFC0BC7-28C3-41B0-9E3E-30D71CD1503F}"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05A28BDD-1FE6-4DAB-A6CE-69156A6B66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31E40E0-527D-4233-8DAB-C0CC7B96F9CE}"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D949C8A4-FBD2-41C4-8DC7-A8186B203800}"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714682CD-05BD-4BE6-9B5D-852349686C65}"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A5C574DE-AC33-4A93-B939-AE5613F81081}"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EB33EAC0-B62C-4C2E-80D3-4EA513F04E36}"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05406CCF-2791-4F68-9678-FAB333BD2417}"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0E46748A-A081-4C38-BCBC-1AE54EFAEE44}"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D475FC4F-AA19-4A36-9520-7F16946D39FA}"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CADEF6F6-49BB-4F1A-A979-1B6F3F601EA3}"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9459EC4F-8E30-46FF-A585-5FB7FE1214B8}"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E86150D7-E795-43E1-B1BA-01B96BC7F5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656406D-7AB3-4A1E-B92D-BE4556C967E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02E9D7E6-86F7-4C73-9358-758AEE4CCC37}"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06A192BD-85B2-4023-9082-408EF7C22D98}"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03E6E7B3-CDC5-4B43-8385-D4489E3DC793}"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52FD159B-8544-4C5E-8650-BB9B71CDDFA4}"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86C664F4-4823-4A58-9BDF-64273B51E19A}"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FCEDE5E5-AFF9-4794-874E-C8B2E54A1CF4}"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308348EC-3D93-43ED-8C79-094D4A90BE5B}"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13086082-E9BE-40D3-885E-E39726563167}"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9905B988-7CCA-47BC-921E-88C836DDFC5C}"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63C1CEB9-C85B-4ECB-9092-90A2F7D04D5F}"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5C4845F-9E1D-4FAB-8375-3CBB158E927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6096051-0B34-4900-AEF5-86A5397EB929}"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27E048AA-47C4-48D4-93A4-2E5D4CFEC841}"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7B9B896D-B4F4-4E2C-A146-EAFED60F50A4}"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C955B9AE-90EE-4C23-8103-F64C1BA45490}"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8DB18977-0BAA-4273-925F-2DE6F607A53C}"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20AC1513-42D0-4E3F-A983-637B8BDBC609}"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F59EAAF8-AC9B-4D94-A930-5471C95AE1EB}"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CA8A8872-1296-49FC-BFEB-2BFC1EBA2FA2}"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3F251B0E-CA18-4F7C-882F-BD4A9E4C88CC}"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9C1E1CE6-CD00-4871-912F-E6D734025C11}"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1809AA87-24A4-43C7-8855-0484A01DEBF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BC8825E-AD2B-4156-9BC0-95174FF0B621}"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7C2F9526-F710-4BAE-A647-901167661431}"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9620292E-C35D-4DC4-B6D8-96795A5B88A9}"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A3BE7175-2498-4138-8E4B-5242149A3F5C}"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D76AF7B8-51D0-4398-8C3D-49ABBCEDBD8C}"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64CDBFF6-90EA-4DCA-8222-09EFDE8DB80C}"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F2465CB6-2789-41AE-8FEA-19492FA64C23}"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DECA1743-6ECB-44B4-84C3-4D4F5DE93021}"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EE289584-4634-42E7-89C0-B60163B08A70}"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6DE819A6-3FB3-4AB3-B732-8099D7604DC0}"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063321F0-6C33-4E1E-BE23-A3009076B3C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EA234EB-E400-4B71-B6A2-6FA1798C8439}"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DE4DB978-3106-4501-82DD-831EB66075B1}"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D85B88C5-091C-4CEF-964F-8218A6B855BD}"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E5F2617B-72B0-4505-A2EF-83B498A1A4F9}"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928B4B51-3DAE-4BEF-894D-0C549317766B}"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8D7BE4AC-3CBB-48F3-9608-7D46DDF2F7A6}"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DE2D6584-1735-4FD7-80C1-9C90A4ABDB29}"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13D1D4CD-B5E7-493E-A828-9D3D8BB1FCC3}"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E39CE06A-D85E-431D-AADF-B75B99843D05}"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22EEBF49-088A-4A1F-A701-EAAD5003BEA1}"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4D79FA2C-7B5D-4C01-8FC4-FC383C6CEAA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45D79A7-3893-4720-B882-688BB90B2A9D}"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AB191E29-FA64-4296-BC28-85A91019BE3C}"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3034406F-02FA-4B5D-A913-B5E89F587EA1}"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7B4B6041-88BB-4AC4-B7C6-103DD80E6A7E}"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52335DD6-9E2C-4138-A177-5FA32815AB05}"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7FB05707-AA17-422F-B8D5-ED77D7CB71DC}"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A4F34B3E-0A5C-46EC-A24A-5280C1C3B89A}"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D9927CFA-36CA-4FFE-BBD9-022F227BB2BC}"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F5771D3C-5DC6-4804-BEC8-20FCF3070A7D}"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FD33DD72-511D-4C06-8C7C-FBAF6D78ED4E}"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591E7C46-B66D-4F43-805A-CDD24FF9D3D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32C0833C-959E-4196-AC61-1B9A2B6E89D2}"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7955BCBF-3C36-4523-921F-53B64D0719C8}"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A241899D-CBA3-4BC2-A5F7-00B33581AE53}"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9B84F4EE-DB53-4BAF-B8D2-9247570BE96D}"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C75D823A-EDD9-4C05-9BA5-063EDC2809B2}"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745F7376-9BB5-4004-83D5-956A2B410064}"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36E2602C-A425-4CDF-8ACF-6F46CE2967A2}"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36A250B5-44AB-4E73-8D42-F734E3B75907}"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F04422A4-79B6-459B-80B0-3DE208EB4FDA}"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39BA230A-814B-4796-BCF5-70930D554BFC}"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8622A2F0-380D-4299-A11D-ADCB3FA76E8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D5E45E59-BC1C-4282-AFF1-CFF50D246C72}"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513B0484-A5B7-4424-8DFC-DF96A33C4A45}"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AD7EB381-9807-4A7B-96AD-231E4423EE7A}"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2BC22099-71EC-4E4A-ADEA-8FBB5E12B644}"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D5A5500B-021E-4FDF-95C5-F713E22EF24A}"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5B8C0E54-99E9-449C-9CB3-BDA94F89CF15}"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CA14D7DC-7610-4038-9BCB-AE6956569E32}"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A6D08885-63AE-4175-AD6E-545F88146D83}"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51B07294-2B8A-48E8-AC36-20B66B81BB33}"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52BC0609-9DF9-4743-9DBD-C441A595013E}"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92B97B9B-9DD1-494C-8893-3939185D87D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77E2580-EDC8-44DB-831A-991736BA2264}"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D637438D-30AD-46C1-ADDF-BE404A208D2A}"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1A2FFAF2-1631-426A-873E-B547248295DF}"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CDD6CE11-2A19-444B-953A-88FFB51331FA}"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73B982A2-8DE9-4738-8162-A28EE81E9599}"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326E5FC5-8B49-4832-AB67-4C3942B6C6A7}"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99F6B3F3-EDA5-4426-841B-ED0FE70B627D}"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68E72B21-F8F7-404A-987B-178D14FD7586}"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4891BA62-4789-4678-ADD9-3CAF2F5B3603}"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A9BF5B80-A4B9-4360-A87A-2516196CE7A1}"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B80B4B4F-78CC-4EAE-B6C1-EB453A2AD10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3EA339F-F418-45D7-9195-FFD56DE782E4}"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A4FAD8F8-F4BA-4881-A5CB-6515512A4F16}"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466EF89A-C8BF-4E46-944D-92F86FA7A522}"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859D5395-958D-4DF8-92CE-D83A65D1E083}"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E35B6D06-FB0C-4043-9A70-C74061D788A7}"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EFBF22B0-AFF6-4D94-8489-D868FF1D2785}"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4F12337E-CCC6-4F6E-8173-3706A85D3717}"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F9CB07EB-3435-4A59-8093-55CD26B20C0E}"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5C0DE412-FFEE-4B94-825B-60CBA3B5D32B}"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063E951F-8F15-40C6-9C60-415905D6A1E7}"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E6E64B66-5E87-4351-A0C8-403BE5E25C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0DD8BF1-3AE0-48ED-895B-2CD77EB92428}"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9124BB77-7BAB-485C-B8F3-C23D16FF2BE2}"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C67D90D6-6D42-4649-BDD5-BEA37A646B10}"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A41B56F9-9507-4A3B-9FE7-AA052F95D27A}"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E35E5B71-1BB3-48AF-97AB-762A2703C846}"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0A011DC0-60E8-47D9-BD17-AFE275C723F4}"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0999E2B9-EEA6-4A70-BD0D-1936138EA01C}"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86BA063F-B290-462F-89E9-CEDDF1A33A73}"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9A704837-A165-4920-B4D0-601FEFE31B24}"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A6C3CEF2-84B9-4324-AE40-CDA1F1AB0485}"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5345D2DE-F8CC-45E5-95E6-90F27D1649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AFFADB-B892-4E9B-B4BB-592E1DA9C50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9F2ACDB-AA04-46D9-8FBD-679C75D419FC}"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087FBF5F-446E-4372-849D-132B374CA55A}"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828E8230-68E6-4B51-B295-B7233BB9EE5E}"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B7B0AF55-4DE9-4DC1-AA72-F128941A1738}"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4334DAB6-44DA-4C5F-BA90-38022CE270B5}"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5DBA0A28-BA20-4518-8B13-D04B7EF67068}"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0EC80FE9-4B1F-4779-9C75-03DC4C058C72}"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B30BF89D-B521-4950-97B2-1E8E25541601}"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4EEBF44F-3CC7-4995-B26D-8C6B4CF232F8}"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267432C6-9EB9-4319-AD75-B75D702ED268}"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6D0A05B0-7266-466C-8B04-6FF596298AC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02BFF1E0-203B-4902-AF8B-BA4E5E472C03}"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4949A588-1A89-49C9-AB52-B8CE5BD1F362}"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E5ED2C3C-6813-417A-9B2F-C8DCA3CD9A3A}"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0CD0CCC8-7453-45B7-ACC1-D21DB05EE9EE}"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BA39BD13-3AF2-4AB6-A3E5-C1362C39D39D}"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C97B3A7E-475A-4364-8204-8320CC194086}"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F320E431-9C3D-4F7A-A841-23B60F23DF06}"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40F832F0-EC4B-425D-B852-4FE3902950B7}"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30AF404F-B845-4A03-89DD-7100EA5E0DCC}"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7586A306-F5B6-44DC-BD08-9FF9AFF0CB25}"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F816CCC0-EBAE-4D0C-A452-204E214D2F1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3CF736B-768D-4D4F-B48E-C67D447B63C1}"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9A0F0701-97B0-4CDD-8DB4-3003C01547BA}"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DD943B58-4596-4BF6-A83E-83438A5909AA}"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033626CA-6242-47A3-8485-A2A89E7C1315}"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544953D7-8650-442E-B93A-09CEE12BA117}"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EC2C5879-7329-424D-96A3-6A04A8A9393C}"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2E694CCC-F7FB-4008-8D70-46457037EB41}"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F8C4FCEE-8F91-47E4-8793-FF214821EB99}"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DF11A364-F04D-4DC7-9D58-BE8CAB6F9F29}"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A1593CD5-9111-48F3-BF4B-3009EC8FA1DF}"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60090BA5-955B-4DC5-91F5-6F2E6992004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7AE0957-3DC8-4F7F-922B-69B5F631D41D}"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BB34108B-C9CF-433A-98C1-FFC31D3E83FF}"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465FD74C-DC3C-4925-ABCA-F3D6A13053DA}"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7B7E8169-82A9-4AC9-8F72-183C1BDFF839}"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1D0FEAB6-FF02-413A-BA81-66BA369885A8}"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046767F8-9463-4D01-BDF9-17735374275C}"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79A8B0B3-9724-40BA-8CD6-9FAABFF46A88}"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4204EAC3-1930-4F66-A4BE-9DCD10FE1807}"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0AA12033-B706-43DC-98AB-1F635F1E7C00}"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F14E858A-E6FB-4697-A5F7-C12DF7B3FC8F}"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3631A133-59C8-4547-81B4-2563D1CAC20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C8F0E1E-8FFA-43F3-A743-CAAB2A33DE68}"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300B35F0-E97B-4604-9937-D4043712D8C9}"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604A3C19-AC10-4425-9654-2311C27C4C70}"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B94868A7-04F0-45C7-A967-CAE7E312A3C8}"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D31F6F3A-FC79-422E-8591-E05D8460645E}"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5152FA00-9CF7-46F7-BCDE-3693BFC55342}"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11C80850-6355-43C5-82FF-15509E4EE890}"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427EF8F7-710F-4F59-BFB8-F92A79D807FC}"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95494CDD-1DCE-44B0-9944-0294D47F54D4}"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5E38EB0E-BE7F-4AC5-9D82-239F7920B299}"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998DC39E-E515-48B9-8950-08243D69D7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C70EC3B-EDEF-47EE-A2DE-59689B07F4BF}"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E8A5D3F3-CC49-4AB7-8B9D-D91277A18A0D}"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4E2D23EF-B021-4FEA-878C-2FBAE77EC778}"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90EB3922-60CC-4027-BA8C-93BD2D9EFADA}"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F23AD25F-FA23-4209-9CA4-D15CAF5A1AA1}"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9ADE4C8F-C7C9-4E04-B581-585A0A163F79}"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0DDB01BB-0623-4E1F-9C9E-605FDC55D06B}"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2034CB3B-9171-4EEE-AD11-FF2E09EED066}"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76FF081F-E193-4BD4-957A-EFFC61C49949}"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D330F924-B50E-4159-A16F-26375819CEBD}"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086E748B-400C-4D1C-AAF8-D1807569B57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667F768-84E7-45A0-A4B7-90C6C483CF99}"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6660C83D-1F31-4DAC-89FF-2110084E07A0}"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CAA267B4-F403-4A5E-8EC8-C0EC29EEFFF1}"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CB67C79E-EA33-479F-B52F-A0DE7642C34E}"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C5BE5273-995F-4A5B-B966-186FF7015190}"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08058AC6-36D4-48FF-99B9-CD8393E57C8C}"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441CDC14-B49B-4D53-AB52-814FD6182CE6}"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F095625E-34AE-40CA-B8F2-48509B05784D}"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6A8509A3-029B-4C5C-992D-077E0418115E}"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59F104A9-3733-4AD6-803A-1B172F04D409}"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89A93C66-C276-435B-9E11-21511F136A3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621503A-EA8F-43A6-AF4E-3DD88E713607}"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1AF4674C-044C-498E-803F-8AC0381C6083}"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2BBD1546-2F44-46A6-B795-5C483C728E13}"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5F36E9DC-1416-4BF8-9696-EDDBBCF1ED88}"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FC25EC2F-68D4-4BA7-924D-E5D0F81E5DC4}"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738648FC-E732-42EB-A2DC-E13248308B3C}"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B92055EC-C290-46B6-BEB7-B8DFD4378A7F}"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963152CB-C36A-458A-9DD1-74315A542A46}"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5FDA1382-2F07-4DC6-AECC-D4D55D440314}"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5BD9F3F4-6F43-4450-8FEB-D1A598230D51}"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DB74842B-25F3-4255-9945-5B40A220064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45127002-AB14-48C0-9609-D744CAC40F11}"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5E2811B3-E9FC-41F9-AD52-DA2287757026}"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56578CAD-7B76-4837-8FFE-A132876E6DBF}"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445A18A4-727B-41A2-B710-B3540C8F7466}"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BF0412F0-FAF2-4707-A23D-8E57EA5C35A5}"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63E57F67-DA50-435D-B18E-A15ADA757C7A}"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81BB74C3-E1E6-405B-9DFE-FA8C6FC437F6}"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ACC720A2-09EB-49B8-B5D7-FF90F2DD5FE2}"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5C752F9E-1B52-417B-8272-0E929740E9E3}"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175287C9-128E-4B92-A488-1003336CF8C9}"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367E8133-37C8-4D74-9327-13614230973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1C15F39-F1EC-490E-BFC8-AABB0B8A1B13}"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C4507108-4B1F-4BF5-97DB-BBB9D1010A91}"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CB55D2B5-91AA-497E-9EEE-46A42FDB4B3E}"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8BDD1A20-76CD-4ED5-AC3B-7B56088D02A6}"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A5C25D39-764B-44F8-964C-C1670A6C89A6}"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8272971B-591E-4310-B629-DB9389240F55}"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859E19CE-A625-4A0F-898A-BAE2B0477A8D}"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EF32605D-E750-431B-AD1E-A6A68432B543}"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75563DBD-94DF-41E2-8287-32C8ADF87960}"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96EF334F-5B0E-44AE-871B-22429221EE25}"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4B186906-CE0C-4D91-8643-B8955508C0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AD296C8-0134-4140-A474-DAD73C0EC85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FF55038-395C-4268-B188-D7679CF8F456}"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22E0799E-D29F-47D8-B590-28D9F96BFB02}"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D75347F6-5977-44FA-A0D3-928CA017CB11}"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63BD0B62-DF2F-487D-BC53-CCA2DAD99E58}"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3891E95A-CF64-4193-9341-7E68FAA8A332}"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7EB52770-726C-4415-A554-977591CD28A7}"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17720E5F-49EF-4C3C-9DA9-081D961DFABE}"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5E4D104F-659E-4A96-83E4-C8F9FA71D1E3}"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3ED5B8F0-F62A-4A47-80FE-CACE8877DE81}"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69BCB14F-F098-4FC7-9A87-D8AB553AFBB8}"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7293C744-D99F-436D-AC49-5894CFCAA8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BC5ED84-1359-4FB5-B144-833270249198}"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5FD4EA39-A981-41B3-BA74-3C9F86748EFF}"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DDAAF711-F31D-4341-AC87-B2E065287306}"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E05791D0-7ECC-4517-B226-188F4DCB2DAD}"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9C361B47-35BB-45F9-A8B9-970DD867796B}"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930AE54B-DC44-4D86-8EE0-7A2D68148A4B}"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A3407575-0809-4E81-96B1-BB11AB8A5DC9}"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DC69141B-678F-4BF4-A5B7-044CE287E53F}"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C2DD6F0D-4F9D-4E01-B41F-73335EC7D124}"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56495E17-4F1A-4A56-AD7E-A725292291C4}"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6A54520A-C5B1-47D0-AB4F-9E94C03A8EA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8A02B0B-C6F0-424B-8496-A34A499E1DB5}"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73C92BD2-4C8A-4001-8DCE-9106F22FE26D}"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C0D55A94-3A33-4ED8-BCC8-A469723862F8}"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6B7EA46A-2F57-4053-9E76-1C4080DCE186}"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2AE6E8A1-377D-42E2-8A83-39DBDB6297C1}"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42E66024-C707-4599-A159-EC62A2B2072A}"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84A3DF29-D7DC-410F-9646-F73368790AE7}"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FB542B8F-40F2-4F17-9E82-5F6B50E23C81}"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42B0CAFD-8861-4A6B-8D3C-A3490ABD2296}"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A7EADB98-9637-482C-B325-2AC7DF4AC7FA}"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9DCEEE30-F04D-4152-A2EE-2F09BD0FA1C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0874C96-C741-4FAD-92E4-32CB630C69DB}"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8FA37908-9C22-4996-B3E2-72A7A442F0BF}"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6BA68136-496F-46AF-9B34-C1F66D0A1B08}"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7605B44D-1F1F-44EB-8CC1-437AD0DBD0AC}"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953BEE00-7FC3-4F77-836B-3E2F80F1B279}"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6C1659BA-64C2-4B76-BC9C-00ACDE77DC85}"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AE6D03FB-15C3-481E-A701-F5DAF0EE6E56}"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4515E424-6DE6-446C-9947-1047A34BF2C5}"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ADC42CE6-3889-41F4-B57F-B079A1AC1052}"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222771F2-A425-4F18-8DD0-14260A2792B6}"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D65D85A5-407C-4513-B892-7E84D1E0F11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7923040F-9BD4-43AC-ADA7-61B92419C49B}"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ACBAD5AF-AA64-448D-8B60-313772D6FE86}"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2D1B124E-3165-4E70-958E-E33C35D39CEF}"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41ADC7E1-6DB5-4BBC-9954-08EED91EA690}"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D3B169E9-19AE-496C-8868-ABE87E6DF5FC}"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21FDEB89-CB9D-445A-9FC4-296FF86C18AC}"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3CB84A88-9503-481D-A758-C011F9782770}"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F1B41D44-D1F3-4429-BFAC-24E192B5F8C5}"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73BB6B55-D907-4C1F-A2C5-554A89572D5E}"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ABDEADCA-4FE5-4358-8E4B-438A590ADC4F}"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3F427A3A-3B30-4381-A193-4F717D49491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BB6E91B-69FE-4106-9908-9195AAAEF6B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2347AF61-D6CD-411A-A4E6-CC278AD8D08F}"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D4B169D3-66D8-4EFF-9257-A8C1DBF07AF8}"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F889A5ED-9674-493C-B798-ED9DAF111351}"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D3C43C07-A01D-4C6E-914E-31311A0C7D45}"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6E6C2942-8AA4-44BA-8B51-9DDCA0440ED3}"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163A1C33-385A-4302-872E-A05CBD2742FC}"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FFF03009-D337-49B2-964E-6C7F08A1A6D3}"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EBB9074B-AFE8-47C4-806D-6FBE8897BE55}"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B111D49E-3C50-4BD8-AC65-9470C74F4D29}"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7B977C71-BDA9-4E7E-8DCB-A390F53491B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62ACDCC-012C-4D72-A1CB-F541EDA0B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D780548C-BF85-49F2-A296-1FF7BAC3F3C2}"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9A9E3072-C25A-479B-8E39-9533C0A1CC72}"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8CE2E926-8953-4CFB-9405-48F106257D27}"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40BE73BA-8D14-4300-8EB5-52C39D903C4F}"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FA433690-6680-4243-B973-994B3C151F18}"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E40F90DB-6179-47D1-861F-B21F1523BA54}"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F6EA5908-E18D-4D72-B547-5903C3BEFACF}"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2B108FF6-9E49-482F-92FF-FDA6F9BCE525}"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88A5107B-0CE4-4AD2-8D19-04D4A7F18C6C}"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4B61F937-4333-4410-AD59-06C20E65692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3F1F848-E26F-4E69-9740-EAF0160A9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74A1EB51-A039-4C92-92D5-6BB3F7118470}"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02559504-F228-405A-8FBC-CFBD5D846C5D}"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FE59DD42-F95E-4657-AF07-AC0F021BB4B0}"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32808416-8321-49DB-9352-6E2612075374}"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ED41C3EC-218A-4269-97B2-07D7802F7F9F}"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A4FDD0B8-2DCE-491B-8720-DC1BEED7C115}"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795CC3AC-AB00-4953-9504-FAE02811E66F}"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C25AF9C7-E215-4A43-BDDB-A19777D92FEC}"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BFF820E4-24BA-4800-BD5E-1BE489889192}"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3B30C211-C64F-4ADC-B5D2-231799AEDFD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2ED677C-31E3-4706-9E87-846AE9BBC6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7A7C4212-04EF-4C79-966D-BBB672108764}"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11A1C600-28F8-43E7-B663-1499155F00F0}"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3ABC06AB-E564-4A01-86CB-A4011F5DEBE3}"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00E237B1-D282-4BF6-B7EF-9C1D788D0E87}"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CFC0C680-AAA2-44A9-B00B-A1E199B72A76}"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C9392EF3-B4C4-4597-B63E-B8DCC333A62B}"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060DA420-F758-460B-B54E-1BC4D0E890DF}"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B66E842B-ED5E-4CA9-B2DE-0E9A50AAC60D}"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F19DD631-5616-44C4-A506-9BA3A99346B5}"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0D979475-856C-4D10-92E5-DAAA639DC10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0B2FF743-81B2-4CC0-AE3D-DDD3CEA43B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9AC0594E-5D14-4432-94CD-411AE22C1A1B}"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20040280-230D-41CB-AEEF-9A2BE05A9B87}"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1962396E-3C89-4195-B882-CC264365D0B9}"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84C89402-AA6A-4B4A-BFB5-346896542A97}"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1079813C-5756-4880-86F2-FFBC989205D9}"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6D869B71-48C2-4576-9860-7334975DD718}"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01B35114-F9B5-49F4-9E73-E2DBFC4808D0}"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6A2947F7-DDFD-4263-82DA-5619BF6CDD78}"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6CAFA0BB-15B8-4ADF-8B28-83E1BB35DD1C}"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73C924EF-AA02-4D47-BE82-5D93C82BCF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9EBD595-0D41-4261-A134-A1591DCD492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4451AA5-D836-490C-B16F-2C0FF7454F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1A1BF6EF-4FBC-4DAA-8A7B-8ADFC2755B4D}"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A106F6F1-3420-470C-AE7F-2BEBA0EDC3C9}"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97DF95CF-DD14-4ED5-B9AB-74A5BEAD96F9}"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ADA2D04A-8BC7-4ECE-A28D-96713AD5ABA1}"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6C7A2621-88A4-4A7D-ACD4-B3EB531E3D3E}"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5A174B57-A9D5-4884-9691-4F7C44864990}"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9ED5EFFA-8C54-4C65-93E0-0158EDAC2E3F}"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4B66AC9E-7D95-4949-9589-FD8DDE541C10}"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47C6494C-46AB-4509-983D-16FE73FC4822}"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3DB6D164-5F4B-4955-9088-3FD37FE30A0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71BDDBA-367F-4324-9F55-2C925CE5F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AE40D2F3-242E-4D62-9CEF-B1122DFA9FB8}"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A386E160-C371-4B9E-BF68-184C456D5399}"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1ACDA223-E420-4930-9878-A750F258E4C6}"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BDEC87A7-1A2A-4F77-BAAF-7F7709593949}"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3473BAFD-2D71-40EB-96AC-F6E98A863541}"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C29319A6-098D-471D-B841-5E1B43C4981E}"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AA2280C5-19F9-40EC-9B48-03D3E7619465}"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BAD350F9-8A5B-44D4-898B-6E9915B949E6}"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31FF46EA-4DDE-4E36-8B94-2A4F8D317645}"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61BC4595-6F47-4E90-81C9-34E6B53C8F1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1531573-919A-45CF-ABAF-76EA2730A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0CCF8C74-54D1-4B06-AB03-E34B66F31D13}"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B698FC26-AF17-4E82-8FD1-031932114EFC}"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2B2AFCE6-356F-47BB-9788-94BEF41198BC}"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46C91A71-7A5C-4F79-927E-B8811334B704}"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B195F3E6-D1E7-4CA3-AFC6-D80C518510AF}"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765F5CDE-3092-4AF2-8FC2-C92711C566DA}"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18D6CC9E-2F8B-4DCD-B48C-E3FD11FC1111}"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74914BC1-DE2E-431C-92FC-90DD9B231A92}"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1BD96C9F-81D3-4773-A844-D94A305504D2}"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DDBBD60A-648E-430D-966A-62E3D29E066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ACBB5FE-9E2B-4B7C-B7E1-E9C9C22C5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D0A7B4B2-440D-41BC-9E9F-300756E79B72}"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4C9ED1E4-0F18-4158-8536-2B9369DC3F03}"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D8F8372A-AC9F-4899-9710-D7E4ECAFC595}"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F70CD9AF-7C3D-4550-94D6-B71CDA82E489}"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2BF89DE9-3302-4702-99E1-DE9EFF5FCB6F}"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68CD4865-9EEC-4A1D-B474-EBAED59AB895}"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763443B5-C2C6-449A-9890-7F6841EE1379}"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0518A520-EB18-4956-B971-359F272B2B7D}"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E689F921-8749-4123-B20B-C0ACEDECC6BE}"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14EE0B77-A692-45AC-96B2-208EAAF691D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A405BDF-732E-4EBC-98E4-66D743B975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D5F96D8C-71A0-454C-B49C-37017EC12E3B}"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B24FB6BC-FA3B-40EC-8CD0-0F35FA3D822F}"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F1CBA151-9BEA-4E9C-BC54-6E98526F5372}"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56EEBFC4-EABC-4648-8C76-6F986850ECA3}"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3E5A8602-3D14-43EA-9420-E116C81B8396}"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D1835EE6-8FA9-4329-A55C-1F2E73A67C40}"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B90AF76B-FF2A-42EE-8115-4FFA74A06E7B}"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6C50AE67-AD27-4318-87AB-1B1BA0A60CDF}"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2CD219EC-A695-4F11-8CD9-83B4E45E8196}"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8E877A9D-831E-41D0-B6F4-BBCCB56E0A8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769BCD04-E4CF-474E-A0A7-9DBAE7FD4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3F3F3127-290E-4AB1-BF04-B78210CBBF94}"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EE98D417-2440-4BBE-BFD6-ED999BED8A93}"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20BCCF6A-2A00-4C88-80BD-36DF634857A3}"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CA658104-9FD7-45D0-917A-28C72BF36AF6}"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BBA8DB17-EF5B-4E90-A962-52F3C7F86DBB}"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1642B11A-0D04-4DE2-AF92-0E1CC8181406}"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9C4C85FB-DC55-4A16-A13B-D7C8629F193F}"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F999C9C1-2479-4CD7-AAAB-8838985C3EDB}"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43BABD7C-5AE2-4B32-BC92-96EAF5A5D195}"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463A28A3-4C52-49CA-889E-5417A437BC4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29AD7B59-D455-4931-B755-C8ECB252C6D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04CDBA38-B837-4211-AB8B-4398883C96E0}"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678CF5A3-3CBA-4AEC-9A7B-A6AD1382A40E}"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9BDFECB4-EA78-456A-A7CA-7A13E142B0DB}"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0232A21B-30F4-4F3D-AA02-9A20CCEE25DA}"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816248B1-41EF-4A72-AD23-085B2713CF8E}"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9EAD81B7-3A54-4537-8874-27D31376E83B}"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78391A20-BCDD-4BCD-B02B-F77C1465E819}"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9D3E8205-AA38-4C6E-B960-6A6341AA4C3C}"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FACB2BFF-DB38-4502-87AF-D74027E5C7C1}"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AFCBC2ED-E8D2-4AAC-8E39-071C95BA758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15760C3-AC21-4D1A-B993-12FE555CB679}"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1E33464C-5BA1-44C5-B0BC-1A00D9EFDAF0}"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79516349-2EF5-48E2-A39F-336B1F13A2B8}"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396CFED3-F008-459A-9009-4D2960766820}"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7D08E236-BD05-4678-AFF2-D6611C80B745}"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0762047D-493C-4D84-A505-F0334236BC59}"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082D9D48-52E9-47FE-AE4B-A7940AAF1770}"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A03B3F38-EE61-4D84-9C3D-C423BF5E5ED6}"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CF2C457F-7A7E-4698-8E79-47EFA8ED6476}"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6C1D9A7F-5E32-4DD1-AB82-4D316D6EE9D5}"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5CEA6689-2FAC-4216-BAFF-04494AE9EE6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3E484320-50E8-4CE7-9FB9-1DB9EBCA214E}"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BDCED0B9-ACB7-4C2A-B37E-CB4B2DA913C2}"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8BCA2884-9E89-4837-8A02-29B2416BE118}"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D4264D62-FFC5-4C5D-ACA8-3F31041C2D6E}"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0B8746CF-07C7-4253-A18F-09B30D674BDF}"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8C7B8562-FDB6-4D00-B9A8-934A668CEDB0}"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E4B05EF0-69E3-432B-A452-71AD12DF0B2D}"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E55A3049-25BB-4B8C-ACA5-68F3263EF8C5}"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171F9B43-F12D-4013-9E92-77D34C863019}"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FADEE354-F0F0-4EDE-B62D-B94B1E6D1F60}"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6C8EE43C-5718-4EE4-ACEF-7EBBC16A2F8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7BF2CCE5-D5ED-4E6C-882C-7BE73187E392}"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8A1F44BB-45F8-44FA-9549-36D160F0E912}"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FB5A8CCE-3EE4-42A1-AEAA-A8A078EFE6BA}"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F1879BEC-4F7D-437E-9B8B-293866EEED15}"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C8BE73B8-1E87-490D-A8A6-83BA6EDCD5D6}"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AD9ABACC-34E4-44AE-A1C4-B60A443F91C3}"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B268CF36-1279-4DD1-8B17-284E4FE4C89B}"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7D9B4722-7E82-4F58-89EF-95A0DFA78019}"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E00A59F8-3A95-4CA4-A0EA-A68815D2A74E}"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5D5092B8-B1EA-47AE-83E4-662E129F456B}"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B86DD1AA-E5B3-4563-B8E9-86363DBA54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5CAD612-D0E6-4359-9BA3-DFC6CF6AE52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E650B402-143F-4A6D-9004-E063A52932FA}"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CF7FED87-7335-4C63-AFEC-84FBA6C81558}"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F6C72259-EE7A-4BF3-8207-88C918AF40A7}"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28C0D6CD-84E7-4D7D-95B3-08C90F0CF168}"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FE8DF752-4897-4BF3-A92A-2E9EECF3C9F0}"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009F0F36-6763-4A42-88C5-ECBF2BD20825}"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53929C6D-9695-4982-9052-8014C62F07FD}"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DDC3F638-7E23-4712-B448-21E7F62FA758}"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DE56A7A5-6DAC-4FD5-AF69-969D8BDEDCAB}"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B6121829-F4F3-4E54-B272-D791D5CCA467}"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796D5121-EFA3-44EA-B24A-5952C5CC4BF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6E50FC66-8F86-4AD8-8D17-1DFA766C2408}"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FE42D051-A58D-4FFC-9131-188AE003212E}"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6171914F-5D85-4477-AA69-DC7BD4A021EE}"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AF664E9A-4602-4D0C-BD61-C66FE40A872D}"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6109393D-64C0-48F7-B8FD-F0FDE1A7FBCC}"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1C63065B-FD6F-4EAF-B31D-E976B164199A}"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D3FC7983-1D64-43C1-A078-55058530A98D}"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645CF72B-FADC-4EA3-9B8D-A1E07027E498}"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E40E2E98-1A90-4317-8D51-97BAC783805B}"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D21D2A83-8848-43EF-A829-9D4697264BBC}"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B3A9EF59-A48C-4185-977B-31BB89892E5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4374AA44-E7A9-4175-8724-14867D5CBDAC}"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F164B274-6196-4B70-9A19-223F0AC521B0}"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F10892EC-FEF2-43FB-AB49-A17E112E3B16}"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F2DE905E-338E-46B4-9EAC-F9E7A2BD7BE6}"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399930A1-BC46-41E7-BC2D-A35A9354E5F0}"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D64A3F4A-CCFB-4BA0-A9DB-87A53262AE4B}"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4BA77BDF-8A32-41AC-9409-F945A9233A51}"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14019F10-E99D-4B9C-B4E1-231B2FB0E7A8}"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60AB87B-892F-426C-A02D-33EB87A334AA}"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35D27FE0-73ED-4374-94CB-92E7BE89CFF7}"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36885810-434E-474C-9B7B-EBD0A5402CC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BDF44FC-BB09-49FF-864C-FC59C7ADD637}"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C53D030F-CD32-4636-ABA6-E5E7A717302F}"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1C608594-F059-4C71-8F71-31ECF110C340}"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67BD5003-DDC1-4E62-B101-6154D41C2D53}"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F629DE7C-D194-4E19-9D06-353BB5B071A9}"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7D03D8FB-327D-4E1A-91B6-16F9895DCAE0}"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FCEA4FA8-87AC-4114-98B1-F11EA29EE4A8}"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00F02BFA-D807-4D1D-992E-45775A7AFF88}"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DC0453EE-F53D-42C8-AC57-6FF902D64F2B}"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D7F21607-A0BA-48F8-B9CC-447BCF9DF3FD}"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20FFF750-50BD-4585-B954-05DD00C3638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F0C6F41-8834-4AE8-9BAC-E14EB5EFC97C}"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58088D62-A264-42E3-A57E-78824A72367A}"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0BD11E34-4F1D-4D44-9374-C42226EF4442}"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D82180E8-FE16-41CE-8453-BF4E795CFEDD}"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DF89E170-0CDA-4334-8A67-6BAD6F7121F0}"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BD9F14FA-B50A-4102-8E38-C573A62C20FB}"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E0B28BD3-5828-4EDE-844F-262777B1841B}"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D0F4950C-D972-4978-BB66-A374E22B0F7B}"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87643629-9B8E-4067-B36D-33CBF15706AE}"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C0B4F4A5-B3D5-43E1-81E9-BD7BF9F5864E}"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DA80DF6D-D483-4F6C-8C82-F3580B14CE4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391CDBB-F99F-41D1-962A-C606E82DC8F9}"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53F1A8D6-FAA6-4587-A0D1-74E8E71AE06D}"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22957F64-9A00-4202-B9A6-CB6F876B2868}"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59B01F3D-646B-4506-9A48-19ED855D6497}"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CC2DA5A7-C1D7-4FFF-9AF0-53147873BBEA}"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33BB9917-A221-4E4C-B669-517F0BAD8066}"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24CB37B6-023A-43F2-BE27-B6694BCE5608}"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47D0DB73-232F-45A4-87CC-B835CAF3B4F8}"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2BB7AB2C-E018-44F5-83BE-3CA9D936119B}"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1873ADC3-5BFE-4425-BA78-C2767B7832C3}"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142412AD-08BF-47FE-B22E-B9B15C54C2B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F52C30B0-1F3E-44B4-A4D3-B7E810DD8875}"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DD5754BD-5935-4EA9-8C4B-275612D24943}"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B3C8955D-4429-4BF3-9721-1366ACDC9CD1}"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8CE21222-F815-4F9D-B5CD-D344D1D9E695}"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86F14CCE-3DC1-48BB-94FA-9375F3D8155B}"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1DCF2244-BE70-4F63-AC83-DCD539EDACDA}"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68B5C5D0-279B-4F92-B381-AC3F2A0693DC}"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35928ABE-B26F-4F31-80D9-01065212BFCF}"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E148B5D1-CC09-46C4-9B4B-8091DBDA51EE}"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AFC7B992-0B8F-4863-ADAE-0F1B5DB7FFF6}"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DEB46A19-A84A-45E5-8412-0EA9B7422CF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6D3D1D1D-13C1-4764-B6C5-4F9AE50A1661}"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D9023596-FAB3-4C47-847E-2A34D9482DEC}"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E3F96764-3901-4414-9794-57F2EB114647}"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BD6C1CF6-B5A4-4CAC-B2B0-181C1AAFA8A2}"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4936084B-3947-4CE3-972D-C982C0A0A777}"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0C6BFB6D-00CC-4AC8-866B-E06CA5A4B62F}"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580EC5DE-7744-40DA-A9CE-0408EFD43554}"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1741F4C9-B4B5-45B6-8703-750B62C02A2C}"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F59EB9E6-0BB3-4DD2-8FF0-E65A03141496}"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CED4C76B-1AD3-4E00-AC3B-8EAF9DC10C18}"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78E9CC7A-6A48-47CF-B5E3-15329EABCCC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FB2779C5-83EA-4B27-8D5B-C9D663498920}"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037D1400-258F-4B63-AB3F-EB6361ECAF31}"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CD0B97DA-3C25-426B-AEB3-EC87178B9988}"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0DA531F0-FD68-4F48-8009-66A07204BA79}"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A747A273-9578-4531-9F21-B37BC40199D1}"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D6FA54C1-1D2B-449A-859B-77B3598E5E4A}"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4A7BCFB1-00EB-4547-AE11-91C61EA2C862}"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803EA47B-639F-4144-A414-CD67300EBEC6}"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E9898C91-4F38-406C-83C2-B5935E61E317}"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FEF036B3-F5D6-4763-BED7-61EB6D21E6D7}"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D05CB0A7-1EE6-4CC4-8731-A7359634A23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4A598D2-DD95-4F2E-9DFA-E68282FA0EF4}"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A2E161F6-695D-4E9E-B3FA-7E772F90F9C4}"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C531618B-2E83-4713-8165-4E34CA0A9AFA}"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579259B4-5815-4A45-9D02-21EB61C4765E}"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E1B11726-A5C0-4DED-A6C7-8FB6F2C46AB8}"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558BA3CA-598E-4DB6-A4DC-8EF67E9757C1}"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8E0711D4-87CB-466D-B74D-4B192B6F4D53}"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F31CE5E7-99E5-43A1-ADA1-2549C04BF291}"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36E1D065-876F-4480-AF58-3E6CE7472CD0}"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56F00C38-0DB5-43D9-BDD0-548B7FE874AC}"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82F4546A-2DF0-4AC9-9F60-A00C79FF4E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868AD67-60AF-4FC8-BC36-5C6E7C0B3BB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DE646673-1E12-425D-8EA2-9B7A6AE858DE}"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95F156D7-9368-41D9-8B13-94B3DC7D4AD4}"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DE91D9C7-9132-4381-9D61-0F8354B5319A}"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0EB63D5F-5A9B-42F2-88BB-F0952B649922}"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FE92A140-3E3C-49A6-87FB-B1C361322A33}"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E71DC20E-0389-444E-8630-ABD07CC1E310}"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A63EE294-B4FB-4B27-B0E4-7140FB40D2C9}"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A4C517DA-DF92-4AA9-AA72-BC6197200AFF}"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42C7E341-12A6-4A6C-BDF3-CD4B129D7914}"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4610DF45-55B6-4A02-A18A-720FCFC7CD50}"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911201B4-F11E-40E4-B2C8-3A7863F9208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0856A04E-BDFC-4BC6-9065-A0831292C7D3}"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E77F7A4A-7EDC-49C5-A3AE-6703B0F9821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D23D2354-D2B4-4022-BE9C-73C8CF3B38A2}"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17AF6694-0378-4729-A2C2-2EAFD0038D84}"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925BF2C0-C40F-4EA8-9DDE-47F8BD56BFBC}"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7492F3C0-9EC9-4C81-826A-5818189FE130}"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21EBA2BB-B98E-4523-8FF1-DD7E5045DD87}"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ED92FC77-76F7-4A23-B5CB-AE8262425B70}"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8E039130-8D2F-4210-9F4B-CD4405DA4C72}"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BA0CA34A-8D24-49CC-9BDF-8F11E5C0FABA}"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3ED11A5A-822D-47B5-A7EC-2560E37F1D4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A38BE4C7-7F08-45CD-A3E8-0008A4F972DF}"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0918AE5D-610B-4B8A-B7E8-48ED58D5CFD0}"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087ABD7E-A537-479C-9E02-C44476579C8D}"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15890EC3-9A84-42A4-A6DD-FAF9E1D34686}"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B4E017E9-10EB-459E-8D2A-34EAD0F8AF2F}"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4F30D9F-5307-4C2D-8343-84FBAA79E442}"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FC92FC9-A780-45E9-9789-78A1C3B7115E}"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67C87FED-71AE-4586-82D2-65C2091AA218}"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467ADD42-5A42-441E-A0BA-FD1F4D1F27F4}"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87112BBB-B90F-481A-A65E-187CD27549F0}"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B33C29AC-0786-4CC1-8B4C-C68C65331B0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519F07B6-0642-4269-8DB8-F1CCADAEDAB0}"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A9149508-BD3E-4288-9547-2484D039F9F4}"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3A761C96-C9C1-483D-94D2-FD7719C75D66}"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4CA330DB-1FFE-4CA6-A4F9-17ABA829D362}"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B53F2C7C-3F4F-47BA-B3D7-485F9B501BD2}"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53F3752B-6C9C-4AA8-97CC-6102E85C4C32}"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12CAD46-CBF4-4A88-A808-AB407120FA92}"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952B8AB6-71D3-47CB-AD87-460D804493BD}"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6700D76B-9542-4D87-895E-394D6A30604F}"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0A42E363-D256-4D47-98B9-1E0D9F7A39EB}"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55AB3AAC-1EF7-4FDA-976F-C42A781583D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14D9E2AB-0910-4266-9192-9D8A8EE372F6}"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83341B1B-7866-443E-AA5C-915F7FA95AEC}"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3E0B7628-BD65-4E13-9A70-7793DC969422}"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99001A87-B7DD-4706-AF7D-D6D62B6BE298}"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1749814E-E223-47A1-9E0D-0CA9367E4E33}"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0DB6CE50-EF66-4FAF-94BF-3246FB0ECB6A}"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E892588A-C053-48C3-BED4-465F38136CCF}"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6D35CFF1-2EA2-475B-8DA4-1EBBD73BFEA7}"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7826FCE5-7CD4-4965-994C-F911797C2A99}"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EE5F2565-98E1-4626-90A4-396286554808}"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5C745994-1667-4411-8491-8EB7EDA01EAE}"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A563124D-3802-453F-BAF8-7CD5C0D05A5E}"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F7D2FF4A-B73B-404F-B4EF-1C3803AE35D0}"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4AC63C35-0B1C-488B-9B54-B2F6E9C71E28}"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56A410A2-BE90-416B-AC03-0323301CC8F7}"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7D7AAD32-2DA7-45ED-B9A6-6C55CCA99CC2}"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B0DAC693-A459-4D61-B712-E2E488778988}"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174960B4-CF34-4754-9275-06BE70DA69D3}"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6CB4F2B7-79A8-4B2D-AEF0-C0110F4C27BE}"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FA81463E-277F-4E6A-8FD5-864833451E3B}"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F0F3DB1A-A5C6-49DD-9288-31C5EABC92D7}"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7AEF58D5-F715-4CF3-A8E0-0FBBC471A336}"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D0F437F-30FE-4FDA-8BFD-3FBDCFC6A4DF}"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4ABE5971-3113-4BEA-95CF-BAB732FEF3C1}"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B7AF44C0-0E23-4E90-A5C5-FAAF48B8294B}"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E7F560B3-3823-4010-890B-43597D313A98}"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612C85D3-9C78-4BE8-A23F-96DF242E255E}"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DDE1A382-17FF-46DE-94A8-DE588B0608E1}"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C1A6414F-2519-4B3D-9539-B22A28A346C8}"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BCAA5079-6267-4ADE-81CF-6C93718A57D1}"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8202C557-023F-4457-A9C7-4A532DB23C7C}"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D138FA87-030B-4A5B-AD09-35AC9D81FB75}"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6C881007-200D-42A0-B8B9-1F4C47312EC2}"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77B078E9-8396-4E95-9467-79208F352D0C}"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4B9D8662-1DBB-4B55-BBED-2F6DF31FEC54}"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27851050-579D-4081-806C-7CE4DA6C4A8C}"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088F52A3-E13A-4C0B-AD73-A5D9DC874FB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EC552854-812C-4884-9482-5BE2CFC0CC9B}"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A9156C25-1067-4726-9A7F-36F55A9D2458}"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B76A7D65-4F5F-42F5-AC4F-01FD848E274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FD13D08E-9BF5-4F52-8AA7-DF84C0548ACE}"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CFE9803B-48A8-40D0-BCF0-AFAB4ED1C185}"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AF5B8D47-D987-414D-B880-4BED7EA28A84}"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E52B6632-A16F-4C69-86DD-84B0EB0A69AD}"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7D3D6928-DAAE-449D-B0CC-44E968A794BF}"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93861860-92F2-4F76-8532-19237B67411C}"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3CDE8720-B0FA-441C-9E9C-AD00949849D9}"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85205D4B-0F89-402C-98B8-1C3893F7D0C5}"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1EE6BDAE-3791-429F-979E-BB4AC0AA4510}"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7C66CE72-2573-426A-A1A5-3BAA91CA316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8D0C19F2-AC02-47E5-A9ED-1E68245E959B}"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D39BDA37-172E-4A28-8C9D-1ABD34108A6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D7425DFA-AFE0-4B9F-A57A-0153C97235F4}"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B1C6EC16-660E-4ECE-A78C-434920190C27}"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9F9D19C4-AEFB-4BB7-899D-E8D59274C2B6}"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9E8FF327-5EBD-44BD-BF18-7913BB3897B5}"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6DB2505D-3B66-4DB3-884A-95E1C89CC8F7}"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78315190-A552-4804-814F-F27621B4860E}"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95EB19CD-13E5-4AD1-BEEC-B41D76AE45BE}"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81358231-A37D-44F0-8024-A3244DFA74BB}"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93D776BC-3A26-4C8C-B238-BD8D0A90EC0D}"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89C40F49-9403-472A-9635-658BDA8D9096}"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11E378B2-86D8-46A7-805B-C0B3FB821B01}"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C83A056A-0E5A-47CF-94DC-085BFC9158F2}"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23696802-D22D-49C0-9E5D-6CF7E2D8CBED}"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7327A632-DE9A-47C2-A7FC-A1D064DA2007}"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7576413-D05B-4A39-BBEA-691F9E9F955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FE964CDA-5258-44F8-A498-8D5150E23928}"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E463AC86-F6CC-49B8-94F6-F8BF20E38D89}"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3C05A23F-EB9D-43BE-8E8E-9C0D10554832}"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3F0867DE-A5B0-41CC-A52B-B0F1CA80D2DC}"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480BDA8C-FE1C-40C3-A294-77EE738ADD5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430279EB-5C70-42DB-B582-A8668181C3A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28CF6EB3-159B-47EA-8F6B-9EA31771F947}"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BECB161E-5481-4CBC-91B4-58F504E09CAE}"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A1A677F5-48AD-41C4-8564-6C3EEE9C42DA}"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C643EA13-D119-406A-8508-29F26154C27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55F0C1C6-10C4-46EC-B43D-33E4F1D265D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676EE74-A6A7-4856-B987-AE72566BCEBD}"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93765E35-D809-4F18-8A85-EA9F917FF72B}"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5ACEBB4A-8006-459A-912F-5EA90974828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2380F090-CF50-4FEB-8C65-7367A245F3E4}"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CC7FF5B2-6022-4F8E-B9C2-D8BF846F3F66}"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15115DF3-D939-4399-A01B-CF1C17388DB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F2AD7BE5-949A-43AB-837A-95441F6389A9}"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1C46CBA2-4CC3-493D-A929-F9921801098F}"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CEF62B90-A774-4F20-A255-14B56C6ADCD7}"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E7F4E681-E44E-4B44-B557-EAA5B445EB4A}"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DAED6C84-8836-4A84-B948-6C2FC3B52654}"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65CEBAF6-3502-4AEB-AA7A-820FCE405E2C}"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728E31BC-7CB7-4FAF-B85A-5F46199CEB4E}"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7D8E6FE5-7FD6-457A-8FD2-9986930CA83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29FEDDE1-FEC6-49EF-9281-01D11A1025E6}"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D7718A5A-A5B8-42D3-8F9D-66C5E68E4E2B}"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5811E6A6-3FE1-416B-8B4E-21EEE4C972AA}"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BF6829B5-EE1F-4BE7-936E-51E2A7990BB6}"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0C0C849E-9407-4EBE-B9A0-83FA81330D81}"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3C5D3B63-F8C3-4CD9-A629-866C771A2DE1}"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A803B729-D2BB-4CBC-A9C6-BA1F23EE9DC0}"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D09832C5-1AE3-44CE-B23E-A42E214F64D9}"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69F11A88-ABBD-4E04-9EC4-A0B534DEFE31}"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A9BE9D74-6E70-4307-A591-C98C73597641}"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263339CA-2A72-4C52-B14F-FF13E271D6A3}"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2EE9E7E9-C021-4545-B602-B762CFA60456}"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85DCFC0E-E3F3-469F-A04D-20EA2F56C8F7}"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6E8B9441-A271-48F3-B7A5-B14E077CD08E}"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5DD64F99-39C4-4EBC-9D47-1D161577454E}"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52F768F1-FC87-499D-B5E5-5692AC690482}"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85C9EA97-BEE9-433B-B09B-C878E44CB74E}"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80751065-DFE8-41FB-8095-1399A54D8ED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493E4E4D-EF96-4607-8CB8-00383AB8A645}"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C12A1116-F955-4380-9B47-4F39010817DF}"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03B630D9-E8B8-4823-97A1-7499FC968DCE}"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45E19C30-1754-42A7-8382-340B3577BC91}"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1F31AD15-4FBD-45B3-95B7-16F293351D00}"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5657C397-E0FB-4EEF-8E4C-329F437093C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A586F844-5690-4339-89C4-A0F68612A9BC}"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381C2FFD-1811-40F4-AF1F-26F9ED963D1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028CF102-D920-46EB-9496-B3DE79E6244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968F9B4C-6498-4910-89D4-C93A29EAB9F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607A2D58-E4C0-4513-B2B5-950A2A3A6597}"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88003772-8047-4461-9323-E0C1EC804662}"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2BCB0177-3952-4D0F-A248-FBACAEF0128D}"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1161557A-110D-42B4-9ED5-58D915D85FA1}"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D84B3AA2-845D-480F-948C-A54C44E280CD}"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0148DA2E-BC17-493B-8149-379DEC52C9E6}"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FBADD7D4-A4A6-4542-9A3E-DD6D4E9C6776}"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26607D66-2407-450A-B870-EB96B3A4E2F9}"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5F5AC456-6E80-46C8-963C-16DBFDCBFDD4}"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9BA6EC56-8823-4C49-83DA-325B17D909FA}"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D9F8D1F6-8FD2-4671-8519-82077ECED35E}"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8065B2B2-1522-476D-84CF-5BC6FFCBD868}"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F4D0D66D-AEE9-46F3-9F43-E93B410F2F78}"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3DBA5BF9-CC1F-4AB4-8DF4-6235E53802E9}"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0227C152-2CF0-4191-A3FD-3CD1E8EB1B0A}"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5C342227-5601-42B7-B292-A72C57AF0C7C}"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F1A066EA-9F15-46E7-9D8E-B764BC0F6958}"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950B9E20-DA65-4C9B-8786-50DFAC191410}"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19942549-E9C2-43D2-8181-E9739714FB06}"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0364831A-21A8-4632-8487-5763DAE63D3F}"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2492A7E8-8A14-4B7C-B72F-9A5ADD0077AA}"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C2FF8B80-ACA9-4008-98F9-042524582D56}"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FF32BECB-D611-4882-BE7F-AE5FC16D7C4E}"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DED71E39-A470-49D6-AB5F-E054D2C45508}"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9B627144-DEE5-40C3-AFAB-E1173F8BDD8B}"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0F79AE36-A860-4EB5-8B6B-FCA39AA7005B}"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A9C3D687-AC0F-461E-AD33-BF5BA347334A}"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C7BC43DA-52D1-4EF1-B7DD-2B4D9228F5A1}"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4913BC34-3BB0-406E-ACB2-0F84341730A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FD351BD-3BF5-46EF-ABB2-AF090A75B8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AAFF84C-B446-419E-A702-A1DECBA96BB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70A9717A-61F4-4709-81A8-BE185046660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13209152-D153-4603-A24E-C44B026201F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C4B19693-E087-49DC-B2D3-59AB06F3B5E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BB5DEC6-3DAC-496E-B0FC-DA496C63482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B1E26D14-5F19-448D-8022-197CBB06B8B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2BF2ECE5-5DA8-4E54-A73F-98E129A230E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479D8807-771B-4031-8CB5-0EED8B1501D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48951DF4-6FE9-4146-862D-7B070B5E192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F9C4E8FC-7C43-416B-8E6F-B61B78AED15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3E14E2C5-CCE3-4DD7-94C6-D92256529D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0527F70-3482-462A-8132-AE0856BDF4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6B3E2AB-705E-4DBD-9AA9-99A0C30DB65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3250480-5454-4853-840F-73E06435A37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ACA2C3C5-B7B3-4F1F-8435-B689D87AE18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10BA8981-89D3-4FD5-BA95-2765492ED19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CA603D2C-0BEB-4CC3-8675-58F0D2A1C69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BE25100E-CDEA-418D-AD62-FA797E170FC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A00AC9A-0543-4915-AB84-D2AA536DBE2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5ABD2ECC-DE61-4A2D-8C29-7D95B516D60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85539418-D44F-4501-A0DE-064737C4EA1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52665FEC-D3FC-419C-9653-7958242DF7C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13322C50-F0C4-451F-A02C-0C0E111F71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DB60D17-B628-41DB-9162-ED6DCF6CCC9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250952AF-DFC3-4467-BB1D-E491F6744AA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2C34F144-A0DC-4B38-AA9E-F45B4EA5C47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B98EA004-737F-4309-872D-4A69A028B09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7988931-3441-4B00-851C-9639308C82F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9F8B0A21-9F68-4E0D-8E7C-48197AAC3C8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55C4F725-DAC5-4C05-BFFB-82B970ABA89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C3D1C2F1-90EA-45CC-B769-802381E1834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943F676-EC51-4164-A96F-194E82BDE65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574C97F8-046D-4C38-B568-A3280764609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F163EA92-7BB9-4ABA-BEEE-81BECE7D54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F098B3F-ED48-474C-BFDC-A4A87D20A8A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1F077A73-64EC-47BD-A60A-CCEA4E39125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89FA6079-0DA6-4AC3-A216-E77E131385B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0E9B0C31-1FE6-4F8F-9BC8-32AD2318493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0A98DC6F-71D1-4752-9061-D5E657F4DCD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23344298-DBA9-4605-967A-9174CA945FE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44D147C-9583-402F-ABAD-B484DE3CA0E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F972B09A-5D33-4B81-9BDB-82976B99E1F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4FE14616-2B0F-4694-91E6-89F2FA2694C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220F6F74-8AF9-4B22-A565-3EC1B905F64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185A399-7D4A-4A29-9355-ECBAD08B34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3059BEC-0314-4D32-9433-B466D6F4514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7E73258B-062E-4402-940B-D1E1D2C72F9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63CFBAFD-68E4-43AF-93BE-2FF0D7F1BCE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61B1E932-E16B-4D8A-9AE6-4575BBEE03A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5043B8EE-F078-42C5-8335-337D8DB0F29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5E403F50-A66F-4FFD-8E41-ABE8D2FF87B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72815EF-C971-40DD-8CEA-4AC2E31E616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5E6A17F-DAE3-43EC-B5A1-EDA0DB27D0A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8E619B20-DFCB-4577-B190-30E426166CD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E650C1E7-D017-47B8-A6E8-17717169962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CC71805E-C91A-409B-8D51-D58B679364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194BB36-EB51-4A77-B61D-B1CFE9629C0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A372E8E6-8611-4E3E-94E0-7417644F201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D759706-E864-4C77-A17C-AC59372AE8F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915AC1A0-5263-4B7C-9DBD-53121BD4DD1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18BA42A3-E9DB-4A0B-80B9-44ED40F7A36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552DA257-75D1-48F8-8A49-38A23A3FA85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B4EB8563-0B9A-4E84-9C91-441AEB44B42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02E2A438-164E-4121-8E4A-29D43146D78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08D4E203-AA27-4C66-9D46-2C1C69385DB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9E23D5A1-8C24-4160-914A-DF85B6A8CE6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F85711EA-B886-48E8-BEC0-34A8CF2A30E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8A4A43-BBC7-453A-A7C6-B43AB2AC6DA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9BBA7D7B-0579-4A82-BB5F-5CFE97E54EE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533ECD42-3361-4B60-81C0-142158865BA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2E033CF0-6BB5-4509-9225-FE1E5069BF4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2134B6E-5335-485F-ADD9-2D9B048A59C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E28DD375-AC78-43B0-A500-71380E6E962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8BACAB63-B390-415C-902B-E3A68CE62E4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54A227E2-4A83-4435-A868-C5E8956B689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FDDFEA94-AD8F-403D-86DE-95E0A343170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8B831790-9B77-4FA9-9BB3-FB3CC9EBEAC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117957B-33A8-4F1C-81B1-8FED4BFF93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9C902C-7716-4F90-8A07-DB610BC41BD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7492BAB3-0F0C-42C4-B703-29BFB3BF58A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3E9AAFA5-37A7-4859-9E8F-E8CD61C4016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9B8ECA09-F0A6-41CF-BEFB-F1AE29E815D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12B5D92C-54C9-4B47-B1EC-0E6B299D1B6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D8B61812-68CD-440A-B2D2-5DE5A0A53D4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AE19DDC-C7FE-4A71-BE52-F82B992D9E1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C1627561-93E6-47A7-9A3E-6BFEDA3B6D1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0E512060-9522-4FF2-944E-78B206BF8A4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392C5011-181E-4696-9385-6F944FFA072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BC684F7C-717A-4F31-97F3-BBDBBB0BD4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9E28D3-73C2-4382-8284-C422DC2F458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465395B8-3F54-4B9A-A38A-E05EE52F6A9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54B8292F-7F71-4120-9CC5-71799048C65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ABF1EF1E-E018-404E-95F9-32B751481D7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50BF76F-D105-4324-8921-28FBC379220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6F82E777-5B3C-4E2F-94E4-2901B139044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8456BE21-2DEC-4F04-9DCE-232126A8A72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9296819C-30DB-436E-B728-98BA1F94B83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DD65703-ABE1-4141-9BC3-47E09843191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4C524E4F-DEA0-4396-880F-BFAFDCE2715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F2D08204-B481-4C92-8286-28D5DB9D7C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5197770-0EAB-480B-81C4-2D2475FBB34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68BAE73C-F214-4CF3-B1E4-F9BFDC67473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FC048207-89FB-4DB7-81B5-77E4B19A3195}"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5D403D7F-8115-499A-8189-06DFB2BC21AB}"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373E05E2-2880-42BC-BF9E-66607382D66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C711AD5-37A1-4875-B1F7-97B432245DC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897A2F1D-5AC8-48ED-84BE-806B372D656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CB9264AC-16FA-4F6E-8C66-6FFE67D9B68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EA4F08FB-79B4-40E6-8478-6B616F123BA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12F90A6D-5CF5-42B6-AA27-7636FC628F6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C47B325-BAD7-46E4-8489-743896C81E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307EBE-72A7-4F8C-B153-C69A9AFBFEA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4A1B4007-5D06-4B15-9B13-755CECF7E0A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BED9E1EF-2182-4A1B-9B91-AA12055CFEF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61A56EEF-79B0-492E-A4A4-4C53FA4CF46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A6B6A1A5-BFFD-4D85-B53D-468BC26820F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E4B57DA9-2605-4C12-90B4-FFB73A3F86A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5519D2FA-A517-4413-9DE5-BBEB3F99C65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8F947482-0E40-46C5-911F-1D0101940FC7}"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094FA460-B70F-49EE-A023-A681FCEF47A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5AAAF46C-70A8-4D20-ACB4-E2FD7DD2916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354F8E7A-CAE8-4176-AB23-245022FF80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92BA334-C87B-4B3F-B4B2-86F11A337A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E428CF0-4799-446F-AC86-AC2A6CD1436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B373FAFC-0464-495A-AFF5-4A43D2EE7BA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A99274F-CA7D-4326-B059-653F181F6D7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6384A982-B003-4E10-A6D3-2E7CFBA3E9E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9B91D513-62F7-4AC9-B3FF-9CDB0B117B8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731A0D57-D584-4EAE-BF85-C42FFA2294C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5480DCD3-2991-47FE-B350-6401B7AB7AC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1F8CE84B-86AF-4020-9A75-D71E5364AB3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34C9BDF9-9D4A-41F8-B402-512B2D02594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0F7FC7AF-6CA2-420C-8C56-1A0AB978D6C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32A7D823-247F-4B2E-B8CF-B448BC2F28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DDA0B4A-7442-411E-BFBC-EBFBFBCF9FB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87A93F88-78FE-43B1-8CC9-3AF0B8847387}"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9889AD02-346F-4A50-9383-04BC917DC4EC}"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99AEFD97-53DB-4FF3-98C4-E0CD491E4F9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990F4FB-45E7-4D29-ACEC-7D55D7C6CE4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C5CE9AAA-A764-4F3F-8E7B-4FAFBF33231B}"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D59403D4-C1B3-4439-8451-A930AFCAD0AE}"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953F75AF-7362-4224-97D3-A6EA8A42A685}"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C9C15112-D759-416B-83FF-B9E0DD6BD238}"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4544B796-7587-41DC-9564-4260C77061C8}"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E1FF5DE7-0E29-4CFB-87FA-EA2B5BD381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8035795-7B06-417B-9FC8-AD92FB8C067B}"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8DFDDF1F-B2E2-4DB0-BF81-B70717AAE0B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1E870F43-F5A6-4B10-8706-CEE00DB40F4B}"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7AE9BC3D-7B03-4A3D-A45C-524E3E6E7640}"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467AB6FB-D39E-46C3-8C8F-11E35E1E1521}"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3FA3F527-7022-4F2F-842A-ECC1202136DE}"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71C94A6B-B32E-45EC-9D97-D959C2F8D84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C6543112-30B4-4117-8B90-CA9DD7F1D9D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BD81B8CB-5B6F-4C44-8E77-37CBED0C02F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12632C5F-C898-4013-8B10-11819F74FC8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F88799EE-187B-4FDF-8A58-60A836B1BC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C1CFFA0-8444-4705-A12D-51B0E236AFA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3EDF7839-1F2B-4012-A2F0-09AFEBCF78B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B5E10D2B-74E7-42AE-A034-781F8439DC8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D6C419BD-2EBB-45CA-8F75-3DE95B6DC120}"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ABC4A860-B82E-4D02-9E6E-34870BBB1A3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F74D8B7C-33E6-40AC-A4FC-0CF3285CA692}"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E96E855B-B393-4646-A819-E302A4121C0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5E2DAF07-A0FC-482A-858A-BE34240C084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5B91092-7A8A-4A11-9E3F-1369EA49D7CA}"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9FF58850-22DE-4B3D-A9C2-2E768D023335}"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86E113AA-6706-48DC-B1EB-A0DA515996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E7A9CE1-C69E-44E9-B007-457054111E4E}"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A4D07A8C-D4EB-44E0-8176-CD4F8F975B97}"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8F7D7292-720C-4C8C-85E4-F559A0A89402}"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C29D028C-861C-491A-BC1E-86F60638B28B}"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432EFD1-E747-4AF3-BF68-E7CE7D20969C}"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3DB6A59B-DC80-4BA4-9BC4-A6FE40B28B98}"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CA1B942A-03C4-48AD-B4BC-C2042F04083F}"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64E57867-97B3-4DDE-8984-DC39203896B4}"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68CFF06D-AB6F-4B4B-86A0-D85D5BDBE5BA}"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450B806B-DFA1-4778-B70B-ED6116502B4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85739B7-A530-46A5-8948-44B37085DA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2E2B073-DAE3-47B2-B2D7-0B6ECA7705F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8423E97B-163B-40AC-9EC1-697C60155C2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A3188F4B-FC58-4012-B702-24CCD38D68F1}"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1E94ACBE-D397-46FF-9046-131395628F3C}"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55F41349-BC81-4E7C-810A-EA8DD86961D8}"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AB8AFC81-4CA8-4E63-AA8A-B2AC1D010C1F}"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8F12D2CC-C151-46E4-9408-DD2D865940C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7947C601-31C0-4C12-90C3-EF30E5CB8B9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EA2CFE2C-4045-4870-BC56-5981973DEDE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B4F61AF7-2810-4846-92DC-1862E8FC2475}"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C3605698-6FC6-4F19-B598-77EF172D78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85F670B1-F79C-4EC5-83CF-FE61F256666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0AA8479C-E596-4D6A-8D32-BF6626E910C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16B0D32A-E659-4A45-8E73-682503896DF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9360F6F5-2EB1-4E70-A527-D7BF74F94E0C}"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1E322829-24DD-490D-AF83-548159AF67E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AAC5B4CA-054D-4199-8736-8AA9D42D89AF}"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92D83CCE-7DDA-4093-96B0-267B7D6CC66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DFE468E8-2739-48E9-A3E9-3379961175E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BCAC6C4-D9F5-46B8-AAA7-98D35C61E309}"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B4B4EB2F-149B-4F3E-BA65-30B78B36F707}"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E1AC030A-369E-4825-91A1-BEF940CFD6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4540A6-04DD-43CC-9331-083C8E22C76F}"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F45E4290-3B64-4759-B268-FBC9AA10BF01}"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3DC29696-8270-4A7B-BEC7-53B02FAA51B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15BF4AF2-F957-4605-8035-72D73A59740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98A2240C-E150-445D-9BA5-EFEE3AA2920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77620382-92CB-4EF5-AC37-B3F169E8EFC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7E6212CC-874B-453D-9946-BDA26F43F6F0}"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C57D2338-6C55-4AF5-BDC3-9E8FFE22019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D84B8EAB-06AD-46F5-998D-26F48E3E1FA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3FE535BF-9C27-40CC-9AB5-182AFD0F6FC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D9F1336-4F76-4AB6-85B2-A52C9A89337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D8210D5-5346-4498-83B8-567219BE55A9}"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3A7F8684-DC16-4D9B-B512-1C9A8C1F7E9B}"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C55EE912-D247-4B8D-B2AF-1CB51B214D2A}"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3627309D-6714-498B-8E2F-2FD09CE6612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43BE82EA-0B89-42A1-85CA-94AFD73F2417}"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F9EABE99-2DD1-433A-8FC2-B7D96BA08F3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A0899605-0A21-4227-A068-80A0BB98D35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D115EF66-B18F-46E6-A414-6EC59D52714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6E369E37-7BC8-4049-864D-F4C6E777E49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3DE3A4A4-85AA-42A1-8D56-32EC5F36654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EAE84A44-4608-441D-96B4-6D83D691F87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7108F85-8F2F-4D20-B709-7F3C2DAFA7A5}"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2B924B35-AEF1-4E0D-83BB-28A9680CBF6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00973957-1BC7-4560-B148-2B93AD84538A}"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3377D66B-FF79-4020-96C0-21E12CFD23A6}"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3CC3BFFE-9459-4AD5-BF3C-8E013128363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CFB420B7-C32D-42AE-A4DD-57CBA79F089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778E6776-271F-4E6C-840A-01F0E2AFFA9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0E7BD730-4D5B-4FB2-9650-8C1C59BD391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242FA2A3-67EB-46E1-B0F9-F622D605ED2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D18EE230-497B-4A72-BFD0-DBAB2800310B}"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A0ACC207-A660-4B31-8BC9-BBEF34E941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E2AED9F-B583-4698-AB8B-9DD7701589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27F7257-8F61-45EC-80D8-DB16D99A4666}"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2FB5FFFC-C77A-49DB-BC0E-75434FC4B208}"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6FC69664-E8F7-412F-B8C7-7845C160C6D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AAE6529B-20BF-4069-971F-FFFAE619B2B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F5EC8000-68D3-4530-84FD-40483CB10719}"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5FD73D56-D204-45A3-8AF9-256A0FEC3D27}"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45C2FBB6-3212-450C-BE98-92A6E3F2356B}"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CAFC211E-E0FA-4BE3-851A-ED203B31A08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7933A09E-FB6C-412C-80F3-2CEF128D4660}"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6F32CE54-E450-4241-BCAE-0F990D216F54}"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CF211219-2A9F-4257-9642-847B752ACD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B808E27-A8C1-4ED8-82F9-5B1830460114}"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69C7BA6D-5150-4A8E-AA80-4915417B6541}"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6A647291-C2DF-4E2D-B976-A3049AFD84A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14B4326B-7FBA-4874-859B-21D5BC5C80FC}"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5C25EB5F-7A44-4BE9-BCC3-914F545E428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47215CAE-CF4C-410C-90AA-E8C00676FA0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8B412C0F-CB3A-43A3-9249-B61D38CB7D9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57286BD0-44E7-41AF-B59D-EE692E66981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6CBA6360-85CA-4AFB-836A-33DE2AF60CE3}"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8CEAE0ED-8CB1-4290-A55B-F0F9F59EA07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744C6E7F-90B7-49D1-BB3D-61EB4A849AF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A1281FCE-452E-411E-BB23-82D29BAD4913}"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ECB7F9D0-FC2F-47B7-8191-A47A81AFDC2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0FE28B42-1633-438C-994F-64347F2D038C}"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DF56B718-2C01-4485-9F0B-156DCAD5FCD7}"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0BCFA521-948E-4885-9348-2CAB530EF31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C12CB2CE-D55A-471E-8599-3FCF7D5B0161}"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DDF7CE1C-2036-45D3-96EC-350F6719AE2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16DC7984-1530-434C-9648-EA4080B3A35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AC4B18B-84B4-497F-87BC-9C9075470B22}"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A20044F-1916-4B34-81F2-C0008E425478}"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DEAB9AB1-901B-408B-8CFD-22A3FE9A7C7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89EB361-0F60-44CF-AE34-B91169B0170C}"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DD8A42E0-FE35-4CF0-A0A9-8A1508B008B5}"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0F9B152E-4A93-4C5A-8996-70763AE61493}"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8E0A76CE-87E7-451F-B0F3-F24B894BC187}"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0305E9A-E597-4CBE-AF03-C38D3FD22D75}"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13FD6E3-53F2-41A3-AED9-A529D872AD42}"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ED9C231-A4DA-4BC2-94A3-934A6110F79D}"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61A3390-F40B-49CF-81B1-47227317187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091CFFE8-3FE2-4891-981D-2E1B30EA4943}"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5EC4BFB-FA93-4F8E-BCF9-20D82304BA0E}"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7961436-B894-446F-970C-EFF47EAAA6D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D9FEFCE-3368-4AC0-AA4A-67234A8BF72B}"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9979C18-9E29-4812-AB41-B2C58B61A85D}"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6ED1CCD-AAFE-42CE-BB4A-E65F8D9D530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9984D9B-CB7F-432D-8823-F64D50A73254}"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F479D9F3-CC13-4BF3-B963-2CE29D26364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51A93E9-3813-4A47-907B-7EB4932243D4}"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DA2CB46B-D3FA-4D5C-A7E9-BA365F45A4DF}"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EC3846BB-B6D7-44B3-A53E-39E50A4739D8}"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231AA126-978A-4908-9F18-D22B5E3EEC8F}"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79D84F46-DAE8-4581-8601-4473FAFF7CA1}"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3495255C-1A7A-4AD6-A483-500C87AE4E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DF2940A-1ABD-4CBE-8591-E981ED3899B5}"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78E40B72-8F75-4FF4-90C9-5F0317F59399}"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85BFC405-6A9F-4605-99C4-F44B89959C2B}"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36BFA043-7D0E-494C-AA10-E8AEDF1C0BDB}"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A03E6E9C-5072-416C-AEDE-7FC22F88D5C9}"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B65D0B19-9543-4E0E-8785-B008926026D3}"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DDE626A3-30D8-4845-B4D3-5F50C594B786}"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24DD6E17-A1B3-47F9-ABE3-D8A8F7DADC21}"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435AF08D-2CB9-4C57-A6C3-7064895D1628}"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1D795816-D898-4A88-8A2F-AE42AC47AEA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93712216-52CF-45FA-922F-5D69669C52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2CA4832-30D9-4C76-9F26-382E51C715ED}"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3313DB7C-C45B-40C9-AC17-B5C09B46119C}"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533D69AA-0B19-4A5B-B338-26DF206107B0}"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8D9778B3-00F6-4458-B836-A87068F79687}"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4D3AE923-8A6B-436E-9350-686C8499EBDE}"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094AD65D-A243-4B2F-9CDB-02B7B6ABE33F}"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C147BB0A-FABB-4F66-A98E-45B4B96FD055}"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30130939-A4B0-422F-B937-3AE0FCC3EA91}"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1062B052-3F68-4336-B4E8-8E2548745170}"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A7C768C1-425A-4C79-9A96-079AA2BFEEDC}"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96D0259C-8F57-411C-9B81-83A5C754210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13571A74-024F-4D11-AA90-5475453FDF39}"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D7017EDC-DC54-4D89-B34E-DCD85723D0C4}"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C9C9FA5B-9121-4532-AA4F-A44AE4DF1211}"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F37A244B-83A8-4E68-938F-3EF025C339D1}"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56915CB3-9261-44BD-8DC7-5F9F16A86C46}"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DF31AD59-EE31-4F3E-8D86-F91065966214}"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3E7029B2-8F70-4325-9451-D8196B9C4D48}"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771643FC-55B2-49EA-A7F1-746734FF8511}"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20D9E05-984D-44BE-B876-36CE136936C5}"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B1265ABB-FE42-4DAA-BF2C-7BBDC9182360}"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6FFB3F29-5A33-47AC-861D-7D3AC7B303B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E8E9919-6AC6-4247-95C4-5F914CAE80A6}"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A43E07FC-8760-43AB-9E4D-F349C0F1DEC0}"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9A10783-4614-4253-8E50-2BC068A4D4FE}"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421D5010-6FB9-44CA-B566-3CEB66BC5790}"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8816AC52-0375-4717-A457-50A83A1375DE}"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90DBDB9C-0966-40A0-86DD-8D388F43438C}"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A18D798B-0E67-47CF-8424-C91D6AC3469D}"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4BBF18E3-0F36-400E-922D-A9EC66A71EC9}"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6E3DF5B9-036C-4048-9BF2-CF308B3B53C8}"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AF299DC5-4852-42EA-B94B-8B562891A2E3}"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01CAC6C7-9F5C-48BF-8C1C-090ABB8CCB9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C374B03-857F-451A-8A7A-CEE346A7C229}"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42780BCF-4BAF-47F2-9B0F-57B0F5D661DB}"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A821B09B-3A0E-4251-9E49-7525654DDFA6}"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B10AAD72-697C-4FDA-BA8A-DA8E08ADB3C8}"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748B5F17-96C9-4ADD-9DAC-1BF672CD7665}"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ECB501F8-B2EE-4D5E-B962-1E6368118BF2}"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AB1A4535-1C71-40C4-9BFD-C901A584BEDD}"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A85A2A19-7199-4B32-9D17-6AC031D2D6DE}"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3C990DE9-7C92-4671-BB83-C0D472F70CE0}"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D3A15E79-06F3-4268-9BC6-6E60138AC252}"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06ED901F-676E-4A08-B092-5A7C0B0DBC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19D98EE-E708-4D89-A15B-BFFFAEED51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362F014-B025-4B70-97F3-C3EEB3CBB0EE}"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5FBBC059-2CAD-4830-B139-3CB0AC4AA0FA}"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70BE37C3-80B0-4E8A-B264-621AE0B33CA6}"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E1E4F659-8180-41DB-AACE-680C2BDDBD91}"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3BC7F42A-57D4-4650-83AE-514515031BC5}"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5283EF57-26B7-4807-A0E2-56BD1327A562}"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894537B6-0D30-4059-B768-CA22BAF7810D}"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1329A4FF-527F-4973-8353-C334A4455BF3}"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F8BEC45C-71D7-4951-B70F-49ACE8307854}"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C16652AA-BA3C-4E0C-8AD3-05E05A1B7D16}"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2E6645BF-95C8-4567-ABE9-4CD9EAA19C2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304A4E3-85A9-46A2-A2C4-830349746DEE}"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3B851F20-9B6C-47A8-8423-A42AB8CCEBAA}"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05F6D345-3959-4555-ABDF-55525022812D}"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B84BC83E-409D-4CB6-A321-F05FDDE457C7}"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582EB30F-F059-4768-9E5D-AB5D9772D4FC}"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5B08DCF9-DF64-4BAE-A55A-F4395474F18A}"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A5B288C2-702E-489C-A686-FC968BBAB2BF}"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45643739-70E5-44AB-BD41-E07F900330CD}"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28379430-0F0A-4440-BF65-25C1E81E7804}"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C6F0019A-C357-482E-AD2D-973E60809EB8}"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192CD931-343C-451B-B50B-C3A06262CB6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2B2323F-C387-46CD-80DE-C772A753D333}"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BF32F769-C22C-4F3A-B7EC-F5E84EEBB815}"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285D5FCC-E75C-478D-86D7-EA9EC2583AE7}"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A1DA2CE8-8FEA-4613-BBB9-04908755AEA2}"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070AB344-2388-47A4-9D64-EA2FB458D9B0}"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78E72CDB-BC72-4719-87F9-A4636306807B}"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A1483D06-199C-43CD-9FFC-7F2E121E5A78}"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5B4F5C51-3123-4897-A4CC-8D3AB713C21D}"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46FCB62E-4C22-459C-AE74-7C60C9A6A14A}"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004727B7-B81F-461C-8A8F-6440E4E1D549}"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8AB92564-FB8F-40FC-A05B-8BA8E618E3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81C81250-59C1-40BE-A43A-10A345711F58}"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24B69E89-FE18-4258-AF46-0C52880AC430}"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E5B6BC5B-8F56-440E-BA10-3FA10D709B43}"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0D47A355-578C-4F2C-9812-011BB92A55DC}"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25DC28C9-0006-49D4-9279-581280618A75}"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E34EC297-1CD4-4897-8714-141931C78274}"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BAFB6595-EF63-433B-9F49-10EB9FD74504}"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C103777E-0B8D-430B-8B72-E50DD6FA6469}"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4BD6C3A-073E-4910-9DCD-1C8DC7E572AE}"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A21DF461-740A-4B8A-9972-C4A627C5B95E}"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0549CDD2-1990-47F3-9413-163E7EA5CA0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445A98C6-EF01-4422-BDF4-830F9C14953B}"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CFC8D1A5-A171-4390-9676-C63070B9DE6C}"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3A79B490-A473-4FE7-A30B-A4346BD40BE1}"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3A8CF642-D618-4757-9399-94B3A12882D2}"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417261DE-CE52-458C-9063-2061452A741C}"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2F924147-6994-4900-AC8B-A8F571798E1C}"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FFFE85F3-3313-4D80-96BA-6656B4D386C2}"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EDA353B6-133C-4C81-BBE1-441DB3F34ABD}"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1A80C22-E5F5-4ED0-B87A-9A02D780AEC5}"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4892C166-179C-4842-92B9-A01CAE2EF661}"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FE03D37-9980-40B2-84F6-D1B437F6341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409901F-7865-48FF-9A68-979352111F0A}"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D627206B-64DE-40B0-9741-1EC3BC2E94BE}"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1C8F85BD-2C00-4820-8216-73830689D00D}"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0140068A-776F-45AA-89D8-31927E783115}"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C5B92D26-5608-4520-9DA5-CFFC800217AA}"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51F0388F-05F2-4F85-82CE-3FD3C9273606}"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BCAE76DD-6188-47A2-9952-188ECB874821}"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F8557FC4-8444-4542-9E20-BBD9CCD6552B}"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01ABF816-2647-47F4-BF2F-5F2C6437FAC6}"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69E4C30A-B653-4396-8343-4388FE8FFF19}"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BC94235-BF9A-4043-8977-824F31DF368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6EB8C25-0F5E-442A-B95C-F030771058D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A1133E0A-6CFC-44B3-B7F2-E272F671239B}"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36F3B929-FD51-45D1-867B-7C7370FDE099}"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E2465D19-2529-46CC-AE3D-C00364C32A7D}"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49874EA4-A956-4999-8350-271B7309C11B}"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4AEE6042-9DB3-4404-BF91-6DE82FC7C27E}"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7FF93044-BEEC-457C-B8E9-E512B0D3A1EA}"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103E8357-5B75-49D5-B9E2-B97875CF65CB}"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DABB7584-1A1C-4683-B108-438B1F44B98F}"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7DA47DB0-3AA5-41E9-ADFB-C08EA0B4191E}"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4ACF318D-0DB5-41BF-9284-158BBCB759B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3ECF246-4873-48CE-A915-EB3583743187}"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016B1AA8-8431-45F7-9E54-58BF2006B522}"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37060331-0165-4227-B178-499871B5F2A8}"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F6E5B6E9-C175-4DA9-9EF3-1FA465156257}"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34D87224-7A16-4DD1-B1C3-AE43A698DFA4}"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0282D55D-E697-4997-BDA8-B0D6DB2AA5BF}"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37ABD17A-6103-4C02-8121-42E630846B0E}"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241EFEA6-6057-46FE-854B-8D82AAAA87EC}"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3E237BC3-3C2C-4AB1-ABF8-D71A0C58E768}"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E9926DAA-C6FF-4F33-B326-3A58A634D592}"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5A7A0E7B-0B6C-4EA1-93AA-889A8514F1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32DBACA-BA7C-421D-B035-1ED78993B8F8}"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990C31C7-1DFB-46A6-962D-D9D5AF9627D2}"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37211C30-BF7E-4AAA-8D3C-5E8E63174A31}"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1A5F0C0D-5833-49DE-9D21-77F0019B6820}"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C6221216-0792-4C94-A5E9-05CA906BD446}"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97F0B46C-DABF-4535-A6CB-33471A4D43A6}"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D5DED3F7-6807-4CA1-BB85-9D46F3F7FB97}"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A792A7B9-4D12-4839-AB4B-BB814AF8C3D7}"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4CD9F2B1-B98C-4A11-B758-1B9D50937D5B}"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FD4EF35F-EC65-4A4D-97DE-6FC3E1D7FF1C}"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E01F4CF8-7D0D-46C3-AC4C-D5C7061EA56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9DEF99C8-014D-44C3-9CB3-FC608E16FBFD}"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2CEA4371-F842-4852-A437-E3CFDB89D6A2}"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264FF81D-CB83-40CE-A8EE-763F0378DFBB}"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D57B9E11-454E-4AD7-BA15-3CAA628395FE}"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C65653BD-F36C-456C-B193-EFC4AB189E9F}"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04F0BA93-2DE7-40FC-B8A5-490AFE3AAAEF}"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01A6E05C-F3F7-4963-A2F2-033ABFDD582E}"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DA631C5A-086D-4192-9D0E-D96A071B83A8}"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A2251E8B-3299-468F-86F9-7CF67FF51A57}"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F3EB890F-35FD-42F6-AB47-2F9A924BECAD}"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C98AD0B5-F49E-473D-9B8D-03E6C41839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7D5F13E-8D8D-4F3A-88D2-AA7F2F66EF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A6A4B45-DB97-4E62-BA56-CD35CCB7011A}"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74C1135D-C5C7-417F-A9BD-5AC163FC9540}"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2BA08F80-A470-47AC-BCCC-3CE18A8760FF}"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DBD7A1CA-B704-4321-8A97-923F7602DF5A}"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1C7C295D-96D0-48E0-8B08-BBF2E364C9A0}"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86A1B4E7-8ED7-41FE-A18A-99A00C27C7D8}"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A6446D83-45B0-480B-B638-F742BB3FE695}"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0F7E1B40-C51F-4A10-B441-B7C686A35CD2}"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D05AEFF5-AB0E-4730-968D-770B6909F7A5}"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3866CA2F-BB6D-43F3-8519-33C9C9A71737}"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E75B5889-5B54-4D80-8848-DC05198B46D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3EA3C32-74B1-4E2F-A054-F345175A7242}"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CF029433-AA47-4F57-8C68-115392167F39}"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73E13318-C221-4571-B217-A0941EB2B473}"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A8C300CE-6B23-404D-803D-C7DEB03F5434}"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2A64AF8C-6DC4-43B4-A251-3DE178CDB82E}"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A0F9C5C5-2243-467B-895E-D4CAF0FC2246}"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045DF4BC-26DA-4885-A82F-8C2C7286AC8D}"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20282390-E36B-49F3-A50D-39CA527B5443}"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D742E3DC-B771-4BA3-8616-5EB28A762842}"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43B12887-1F69-4559-BF41-ECBBBF031320}"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1F929FF-7F32-4E22-9B2B-62DAEAB06A4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8D869F0-AAA9-40E7-BBFC-CE9AD755570E}"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9B0D1CEC-5F03-43A7-9BD0-545F680990AD}"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E7B72E61-A0E4-4E58-9582-23B5B51671F2}"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442F607E-8785-4D87-A517-E5E9794B113B}"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D2F52F8F-D161-4F35-A640-95186B2C804F}"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26A02074-CB8A-4097-A451-DC508EDB3066}"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F42594EE-3806-4434-8B81-650134CC54F7}"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F48FE5E3-0DC1-4B2C-8E50-F8FD7EFBB634}"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12152400-9282-4D7A-995B-0F917C45EE56}"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C38F6EB-7E70-4BE6-B977-39627C950F90}"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69BA52DE-C6A7-43F1-A713-CC28FD9121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2E8B1AA-4C88-46A6-9F0D-741046B2D300}"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10161BB0-8C3E-4D35-8969-6AEC2582D9BE}"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DF3231E-0EF7-47C1-BC29-8388C640B90F}"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B611D4A9-3FF4-4A7B-949C-A9AD7DFF723A}"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A638519A-24B1-40A0-ADE3-F69132CEC09D}"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15904741-1F48-4664-89FF-4D2BF1D4FE47}"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56EBBDEC-AFEF-4900-82AD-15A5B4A7CA2E}"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64DE8275-CF3D-431B-BA7E-7A9901C9DEBD}"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C5C4A1DC-178D-49F1-9C87-BEB433AA5B39}"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DD80350C-663B-44A5-80D4-F24303C03436}"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05505DEB-DA78-4478-8465-99E374D826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1DBEF1A-9BE1-424D-8BA8-CAF336DC55FD}"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647300F9-765B-4421-96DD-D408EA23B0F2}"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2AC0E941-E911-491D-B454-94ABE1376AD2}"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678F73F2-5FA8-463B-ADF2-246288E41933}"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9671C63B-6842-4645-AD67-2F8271882CE6}"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D366504A-B872-4588-AB6F-0AD0EB68E65D}"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9056627E-27FD-4B58-9C61-B51224D8E0B8}"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E31254D8-DD20-49E5-A699-3B8670B75EEE}"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397C873E-CC14-4D1C-AB8B-77C11C6245DE}"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7B500FD2-3950-4103-86B3-7C5912BD26C2}"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3E98204F-029E-46A8-83E5-45AA65AC4C2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5F02112E-67DE-4FB8-8F25-1405E94EBA98}"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A261F23A-0B2C-430E-822C-6FDF53D5553A}"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7F96C7F4-D03B-4A2C-AE16-05AE32239642}"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45F2F1B9-D7E2-4BCD-8FBC-956E2B3CEE7F}"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F5B31442-F3A2-497C-B13D-8C118D26C546}"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CA1676D0-06BE-4D71-AA1B-8CD17B266670}"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430E277-BB53-437B-BDDD-2A6A0F51A1C8}"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82FACFD9-3FAE-4D63-8788-B79AE522EC62}"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7BC8B12-6A93-4CF5-880C-8A6523BD11B1}"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A68E1E68-DFCC-48D1-8A66-AFD183AEA958}"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476628A9-6842-4A5B-91C5-A94CBC21A2E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8F296F3-1995-402E-8D3A-72074FDC2DF1}"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1A9FA265-C5AF-47DF-82D3-A5E31DBC8FD8}"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31DF5A3A-1485-496A-B895-C3CEEA0E5700}"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E5B73533-0FCD-418D-B958-4D1A31BF5B64}"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5E3C6EF7-6372-4033-9F0C-1C5F52BF6055}"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C50FA0C5-3A5F-4DCC-8EC3-EF15290A7AAA}"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D887A178-240A-4FA7-AA83-6AC33EE6BFF7}"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2570FC93-28B3-4FFD-94DF-ACC9BEDD3035}"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A72E7C16-1CF2-4683-8527-EC0EC981851C}"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D520A165-E5CA-4BA9-A1B0-0B0944F49DCF}"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AA8C7AD-01D1-40B9-9D84-749534B6726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342A7BF-3798-4F74-B032-C82FD8B155A0}"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200056E1-FB8A-46AC-9FC9-B882AC8EA73C}"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3B481F55-D769-4ADB-947B-F9B111C788BC}"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DAA1D2DF-8297-4D09-BDBA-156D0D25DF92}"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F310FC03-C4B4-4F10-89BD-42453E21C676}"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E90CFBD9-6583-491F-8E99-C5877BAD53CA}"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CD47BC4A-62F0-4D5F-82C7-43E13F5D9477}"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D40BA42C-B2F8-490C-A301-928E80E895F3}"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CD4E868A-D57F-4551-93C1-6EFB2CBE5891}"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54D51F3C-766C-4B46-BA3F-C04092475B23}"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A8E8B065-E9D6-4846-8533-EB179E0641F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6EFF77A-2794-4619-B6E9-618566F7D97A}"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375D1569-7B16-4FB2-84D5-3F7E92DAD1B1}"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9C91C688-E7A9-4E5A-8A8B-48CAD4685E3D}"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3DD3E444-57BD-475E-BD92-FA0E54DC4832}"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70870AAD-15F8-43A0-A0DD-5FE49D3CF35C}"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91190A1C-B052-4AA0-A9E5-4EBB2522CCD2}"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EF791CA2-2EA8-4F06-808E-E607ADD65BA1}"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DDC9C75F-F45D-4DD1-B4B4-7DD29D9D9799}"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790E9D14-F0A7-41A7-9657-6B748A52F870}"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A0D96FEB-330B-4497-AA57-DCD311A56228}"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5A926062-E814-4005-80E5-5C566DFED5E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99B97AF-26C9-4B7A-8E90-4E80ED4606F3}"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C13189A6-1550-4957-958F-5A5133674F2A}"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26DEBA18-A12E-4343-BC88-FF4AC39C788D}"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8AFBED40-8302-4FE4-8AB6-18DCBB642381}"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FD86AE0F-DCA1-43F3-BD36-7AFA946D2ACA}"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8FCEDE6E-71B7-475C-9A05-331B6F4C76E6}"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8ABB77DF-78CB-4A9B-83BD-0CA443BDA07C}"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519B512C-172A-4BD7-9A63-4DD2CCB67600}"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4E922669-58D9-404F-993E-EF2C4268D7AA}"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243EF59A-2BD2-426E-9A92-E49B27C77ECC}"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707428AC-72C7-43E7-A2AC-FB877B73A1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C7483A9-5531-476E-BE78-50597B131F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EB85883-1D32-4C32-87AB-D51C312A96D4}"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8C611E9C-3F1A-48A1-B21F-A7728907EEFC}"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8A7AF56E-24AC-49F2-BEFD-46C8A181D7A2}"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30570E1F-E3A8-47F2-8470-3D4F2AE20E0E}"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27EDB984-BC26-4BD5-8D29-760EE1926E11}"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3038A603-44A0-4FE6-8C4D-11026F21E624}"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E367E16D-88D5-4C3C-BE4A-C6E9EEA36D87}"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1D442883-13FA-4FCC-AC7C-F94EEBE743EA}"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1AD4F239-13D7-4280-B853-4E251FBD208E}"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AD20A754-8A9A-4B04-ACC4-8295BB19F6F8}"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B3023401-D657-4BD2-AAC1-00640A7D5DA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F031272-E18C-425F-A53D-D343973E5ED1}"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6EF6A8CB-8B09-46B4-91E0-7211E41B900F}"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1381C89F-69EF-43E8-9133-FC95E45D200C}"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45D1D5D3-303E-4DE6-A15D-D13344E87A7F}"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ECBE09B8-4CCB-42E2-AB26-C59F5E9FA1D6}"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7593DEE8-9593-44EF-AFFE-4803F905D823}"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1101A677-2C3A-4291-8946-D858C6558B57}"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24400A6E-9808-4607-9FBC-02003FADBE1F}"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4358C367-AE63-4681-894D-70CE8CBBDC98}"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7A6B1587-FC1F-43A9-8AC9-4C0D556701CC}"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4B2B4458-54E8-460A-B94E-68F8D8C5DC5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8731EA26-3BBB-4483-A727-65936579174F}"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283703D9-CBE6-4FD2-B2C2-829FDB1DDD23}"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68E49629-7A3B-4C0F-88C0-166F362C2390}"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4B49B39A-166A-4890-93BE-8701E0CCCE0E}"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5E9642EA-B74C-4CBB-B701-68D6CE319D1C}"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2EA5463B-4BC1-4CA2-A2CE-8FE8BD0C49ED}"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1317BFEB-3386-48B1-8C42-909F52F233C5}"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8DAE0EFA-B110-4825-8F62-94484A6A0D7D}"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FCF47CD2-D9B4-4806-AF0E-5A24D575D3B4}"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CE6235E9-C35E-4C42-B90C-5D8719F2DFA2}"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D8E23C92-3430-4E47-80CF-1E7B4214FBA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63281A8-329C-4BE8-A24B-F9DFBFA54EDA}"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CFD4832E-DE16-4FF5-8FBF-CFE7190A4FC4}"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A15BF900-5A18-43DA-8AB4-2CC413FDB5B3}"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D6739E7F-10F7-4140-91AD-2C60E138DC98}"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227104D3-F7D4-4251-AE18-9EE0E6D4D000}"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D8A58A0A-7569-4EF5-843B-B7C8415620A6}"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CDC40936-BCBE-4033-8B39-5A2B6668FE34}"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FC47B5D0-8839-4DB9-B2CA-1580D45A3BD9}"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B01D6B91-B978-4FA3-982D-84A9B016DD4C}"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9649A9F3-6D1D-4BD0-BF36-51F2D5FF1FC7}"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5674FC2D-ADCF-4767-98DB-02CF45BF665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5F556CC4-7BA7-4267-AAC2-35AA7C5032AF}"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1F91E00F-6CEA-4001-98BB-B4F029A55D7B}"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5BBA556A-E03B-4D62-8162-321844F45AD4}"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9FA87CB4-DA62-4F56-AA7C-A59F45BE1EF5}"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F7F0771B-B57C-46B4-AAF2-32FA406D6092}"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CE232532-E424-4D1F-911A-3BA741488A49}"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F3627381-2E62-4583-8909-445E1311617D}"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E1E44CAF-C3B5-4F16-9861-949DC3349240}"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F6B5F456-4CD8-4E30-A5C0-39DB2ACAC33A}"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6C4844D1-200A-4A52-9A87-86F336EBE3E4}"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3E83EA71-2D9A-4D8A-ACB7-AF6575E9B1B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2C5AD66-EFAA-416B-A19A-0F17C3731A20}"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0EF43B6F-4C72-4215-9D40-8168D81A3403}"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1B8CA176-18C5-44D9-970C-D4A0E61E4A53}"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2223B17C-24E3-4011-8954-96709A40D044}"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AC3F2485-C0A4-42FE-AD7D-9C27B1866E0E}"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329DCB07-278D-45AE-9CF4-348CE9E0B310}"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B2F21E2E-E8FA-47F3-962B-2170A9DFD770}"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6241A3A4-C98C-46BC-AB90-7F0389022C89}"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CE2BFE8D-3024-4008-84C0-A5262ADB2291}"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7BD03EA0-6DBC-4DCF-B67D-7B7E4A46E128}"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82D82A77-F0C9-407D-B0FD-4BB72E644B5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6A7E0C3-7AA7-4290-AEB1-5E7752544E4E}"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283501A1-541C-4230-8D4D-79BB61B924A9}"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B1D3EDFD-D13B-4474-A396-523B6B432C48}"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9DB268D9-B695-4FE7-A98A-95272687A519}"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C4A5F7F3-50EA-49D0-8D23-18A71C676DEB}"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7EC4B7B2-6568-48CE-A99D-9CF3FACA25F1}"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49832CA2-F0AE-4D43-B2D5-A760C6FEEDA7}"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9B521AAF-BCEF-4B1D-9361-AAC0F9BD0AA7}"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BD1A06C2-BC17-4204-A442-CA9F801EE77D}"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D1ED5A1F-E6D6-4ED7-BAAB-6333B3F1C1CD}"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981D4A98-44A7-49B8-AB27-38B2DFA7600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3C8AFE4C-BEE2-4B8F-80A8-7B46B235D605}"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62CB369E-7BFC-4E03-80E4-DBE89D5AB033}"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227405D0-8227-459B-A300-5B8D47FA84CC}"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97791597-24BD-46C7-B13C-0E2C2B4C314E}"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38DFF137-7BFE-41B5-8D8E-0814273C0637}"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410B8F8A-71D8-4D5F-8AD9-340A39D24B1A}"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CFDD8952-3F5F-4D41-BC40-FA563FF5BBBB}"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CA6CFA76-467C-47BF-BE08-D1F0DE8309B6}"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8FFC38C4-3A76-4079-B41E-E3576DFE7298}"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CA207C6E-8824-44AF-9386-F51F9650CD47}"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B924F2B7-DB04-4AC6-93B4-C38E32F568E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4E3C90C-9BE9-4B5D-A5E3-F069A39A837E}"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8ABAFE9C-5EB2-444B-97C2-6C704B3EA7FA}"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D8A752B5-6079-49D6-AFF2-F0E38B0C97A0}"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D5E790B9-C373-493A-AFE5-EA39A2A09B7C}"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22AF8342-79A8-49BD-9898-107496F7DFFE}"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25F63C6D-FA2B-418A-A566-289B81270C88}"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531D1095-6DDD-4BC3-8803-12A5117189B1}"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6D3AE242-8347-4949-BE39-2100C372AF71}"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F5EFD6E8-9060-4A68-871F-E5B6AB6DD9F3}"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7466510-C735-48F3-B093-72DB76FAF14E}"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E3EE5BEF-8586-43A4-BE22-EF1D5446ECD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8664ECC-1329-4083-A271-5BC22DDB8996}"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2E1E347D-E52B-4385-868E-05D5830D2EA5}"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C8291335-3372-43DC-A202-492A7F6E12EB}"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53BF3BE8-A480-46C7-A515-C78FF02FD4B6}"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67B348A2-996F-4467-9C07-A45A570ADC2B}"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14F60CF1-15DB-4FB6-8B14-0BC79648517B}"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57AD179B-6B5F-4077-B061-8DD3BB3D20D8}"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1A59676A-44F2-4246-AA80-DB282502A7E4}"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AFF5283E-B7E1-4DBE-BF38-C4EC2C64E504}"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9043700B-3D4E-491F-A917-90C47FF39500}"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BDE801E0-8B7E-47BC-BF95-152F0F5D9B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8489A31-BBC1-443E-B807-CDA9BA8C38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BB2C1C9-AD6F-4FBE-94FC-14B16D9C42CC}"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303CCFB5-EA8D-4B87-9525-045D8AAAE4A8}"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7D50AF3B-3BC9-4C8D-935D-741E6308B68A}"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9B1D28E8-982F-4C4D-AE12-4F0349EC8608}"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27E64949-C568-480E-850C-743AB1D2D10D}"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D05956EB-151C-43A9-9D26-C0EE366ABF30}"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ED111D47-D8F8-44A9-A86A-FB4D2446D169}"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9E4D6261-8A98-4227-B556-76FB86F6A17A}"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1AD55BE5-025C-4B95-925C-1890BAC0D38A}"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510DDC6F-8E99-4699-922B-DBA62294A562}"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C6102763-4DD9-447F-A4DE-947DBA6AABC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05BBD74-6EE8-4A6F-8BC5-20DB4F492D40}"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E98F7CDB-4A0A-4C37-9536-28B22B28D3F5}"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783E30A-E7B0-4637-800C-426188F732B0}"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BE0E9F64-0C0C-41BD-9CBF-ECF78D5020CE}"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57E5A17F-C775-465A-BE2A-169764DD4E7E}"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12C9F0BA-1B52-40FA-83F5-7C775DF6F278}"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EFE28821-FFD3-48CA-85EE-46B64AB3F1BD}"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1D0D2BE5-5341-4EAC-A9C4-B0407B0493D7}"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1D935BA0-55F8-42DF-A96F-CDD7D0C8A7FA}"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2342C21C-38AD-4E23-9D18-56D6BA869D68}"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22C64873-9E3E-4473-BF06-DB1FF985434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41703A0-4F52-4E9A-80AA-F16C034C9CB9}"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C2643883-6F5F-4E89-851C-4F4448D70587}"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E6E91776-9E5F-474A-B8BE-7071E2839297}"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7FB50997-5422-43C7-B219-91C5DB71C66E}"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32F54689-A36B-44AD-9BD3-677A6BB3A3EA}"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6DB2B8B0-3E27-4F7C-B455-9DFEC118CD59}"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237BF025-541F-47A4-A79E-5D58C00D933C}"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B4E62CF2-175C-4675-8CE5-917B95FF2DCD}"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91702D7B-83ED-4A2C-9F7F-3CC88A482670}"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D2D795D2-6CD2-44B8-BF31-CA9763CD466C}"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3D97798B-53DB-43AF-B3F9-9DD325E5950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DB6A9C5-3DC0-4E11-A679-D50D793D78E8}"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B837DEB9-0430-4562-B16C-E235622449C1}"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98F1205F-0A55-4E72-9DB6-19D2996F0DFA}"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6136602B-730C-43F3-BD81-75E674594F34}"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186DCECA-8A73-4038-8287-0E57B7373EE3}"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1E0A1D01-75FA-48EE-B82C-DA4B915F3C98}"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FD7C3074-69D0-4421-81D8-77AC5F0045A6}"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991A4BED-DEB2-4A21-9D86-752F52CE937F}"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19D2D3C6-8520-4936-A950-C0711511265E}"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D4AA7155-F453-4B8D-914E-F615E57D24CB}"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CC588B61-4E08-4F3F-B6E1-90168418C6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D815BE3-42C3-4425-8E3B-7AAC125DFF9A}"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7CC30077-7C31-4D01-A22C-8FF04B244151}"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B203E24F-D040-420D-9347-F4057389F0D8}"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FF561E0C-9A48-436C-B580-CD51F4A4CB27}"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0DAEB1E9-C0AF-42E8-9C06-0248C10A0CDB}"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11E63DD8-6402-4CB9-8EE8-98EF39C8FAC2}"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F655B992-6AB9-4429-91F9-61DFC338EE61}"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9404015B-C8D4-43F0-980F-BD5B31D3624A}"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58A92AEA-7356-4ADF-B656-136C5CAD3427}"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FC67A62F-DE46-418E-8E29-99FEC1828D2A}"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7D328EDF-AAD4-464B-A3FA-3D9D02DC634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70EC688-403A-486F-9831-E26C9BB5AE64}"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1031CD11-4350-4A64-AD17-CC607C9D5FCA}"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21B74ACB-64B2-4A83-A680-08892F6BEB92}"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735104F1-9F2A-4CB2-B7F9-8C92EE6283F3}"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40F8DE42-613C-4650-AA3F-4CF3A1CCC443}"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00186CF3-19E5-4E02-99F5-65F3715A04C3}"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F4247192-A737-4F2B-9EA0-B7DA23512139}"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03934137-68B0-415B-981F-193AD467B451}"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97000ADE-BE2E-4640-83DC-283BE0B1F0E1}"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EB3C2329-0317-42D1-8EC6-2D869192D0F7}"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38A2D8BC-CA7B-40BD-8063-EBE46B1CCAC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C4A2A48-7729-43E4-9714-B482E68065E8}"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84B43F97-0B2E-478E-B70F-8038737DD63E}"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3DD6501A-0D96-4C20-8723-085A1EA9691D}"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954AA80A-75CA-4A91-87F6-C4786834D612}"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E0D6056F-1CF6-47A0-8F86-ABC3432314EE}"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DAE495D9-0FDD-46B3-A9AC-398E36849CB4}"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9D23F0CA-B834-4CA9-8E53-CC358FAA2D7E}"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061DCECE-5EA9-42B1-BA13-3B812006263A}"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F3FD7864-4B1D-41E1-AAD3-A987DF7D3A4D}"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F80645BF-DD89-4665-A3C9-F051E8F6B7BD}"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A0AFE56B-8E62-469C-B843-84B372BCB6A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E830133-6F04-4078-8591-EC47CC2581E6}"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04059BE1-902A-4C46-BC2E-559233EBCF86}"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E7B3FF66-D763-40B1-A216-95FE4E644A43}"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208392A9-2B92-4FBB-AF45-841085725B46}"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388FFE49-4603-4783-BD5A-807E60F3BA75}"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6E4CFF12-089C-4A43-B02A-043F6E98FB1E}"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AED294C3-C8C8-4AF4-8561-1FC226C8E033}"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3071ABA1-83DA-4999-BC66-C29F7C794CE6}"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0A95CDB6-56E1-409E-A253-188BB3BD539E}"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656DA493-5AF2-4999-AC7B-DAA95B933E28}"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ED10C9F3-0D8F-4DD5-9978-96C4B3A85DD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1A79288-068F-4C1D-969F-5E4BD4745A1A}"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71D782BA-DECD-4DB5-9C66-DD98416A9CD1}"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479A956D-6F9B-46E6-AA9E-B5B239E785FE}"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996F9D70-7FB0-48D1-BC0F-C272B8B9CD4F}"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A7C5C2C3-4D28-4071-9EAF-8788B4B1F0DC}"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AA4B9E12-1FA8-4395-BC9E-B9FB15F6DEA4}"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BE2AAA42-D4F7-4813-A4D7-B92562D8F6A6}"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81A198F6-F785-4059-A984-08FE75E80E70}"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C0BD7E09-4E74-4E67-B489-ED82A6389EF8}"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CBD96711-70D7-44F1-8272-C89F057D2177}"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06EA940C-37D9-49A8-A9CE-39BAB1B214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C0EB1B67-DFA5-43DB-BD14-A022D287F0B0}"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7CBB68BB-15EE-42D8-A1C9-357E5A4194EE}"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9B41836D-02BB-4CFE-B023-CE9EF6BE2575}"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5E9D2CBD-2A23-4AB2-AC17-3927C17618DE}"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F2AB3866-6D38-41CD-B207-7443D0BFB000}"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7A96786E-D047-4994-A936-670FDC468844}"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5009BDDF-026F-4885-9CA1-9FC0F806B682}"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2AE38A1C-8753-48F7-9533-A3D192DB36FB}"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B431E9E3-C4B8-4073-83E3-E366DE37A574}"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CC852ED3-9909-4458-BD69-A0ACD34BD735}"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4778F055-5910-4671-AB26-900F589405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1C654E6-3108-4134-B14A-F070C321B2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812E5E5-52C6-4BD3-811D-B08ADABB172E}"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BCE278AA-D7F0-4511-86E5-BAF6D8D63B28}"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55E15DC1-8C91-4596-A942-080238F502C5}"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B3C3213C-F915-4A9E-946F-6E3A13DC7FF8}"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BEB6A590-F785-44B9-8668-6A76623FE0E2}"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FF275F82-1611-484D-9AAF-51B6AF1FA98E}"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4F6D0E8B-DFF9-463B-B305-92D6F1CAD4F1}"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BC174716-1F81-4404-A759-FF8B4ADBC7CC}"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B72A3495-B36D-4AF2-960C-C758346FE93F}"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F6930444-D651-43D5-B96C-6B7650574AB0}"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44327F07-14E8-49B0-B65A-18D602F462E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0ACC942-5E75-4D35-AC01-A9782155D02E}"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2A1D4C05-7D6E-45F9-A4E7-C53122D6F4DC}"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6DBB743F-F69A-4EB2-BE42-B674E17DA21E}"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5AA703B8-25E2-4BEB-BD26-70B9C4A8F902}"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7FC5BF8A-5405-4170-8F27-DEA42ADAA4CE}"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05EFFAB8-D7AA-4FA7-A81E-5C81BE562ED6}"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F866B126-021E-45BC-9526-18A880727885}"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89C5D2ED-C654-46D1-BC3C-5A43A8FCA96D}"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C80911A7-19FC-4671-9B93-0CCEFFF761E4}"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9CB9DAD2-DA5F-4931-9129-90CC071C4F72}"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687B41BE-E6DD-4B31-86E3-2FD28B22B34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D9A811A-977F-4A7D-A0AC-D5C56A81A12F}"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03608292-0AEB-430D-87A8-13DE01F236D5}"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10E470A-8338-4A94-A442-D830EACB922A}"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AA5EF795-94EB-4E6F-9152-581F05BB4E6E}"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1C9F9868-D0F2-4E9D-BB10-B26D69187A40}"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AC96A456-5B36-43CD-8061-A4E97CCAE9A0}"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3DD16640-936C-4EB4-849A-D9D141C0F1C1}"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F687AB9D-9A18-4941-8D60-CD8E98BBF89B}"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D25E6D1F-7AD1-4060-B093-FD0C07698ACC}"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00E9C63B-B0D7-44A2-846A-9173A267FE20}"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1A9C0D94-317F-4FF4-9A92-FE071F46697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6E37799-0067-4339-9CA7-94A208373155}"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2249DD4B-D538-487F-987E-0BEF1448A954}"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C2BE1E3A-400F-48C3-B956-4129C17BEEE5}"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E7E3C9AF-7563-4F99-85CD-8C51B9C77AE3}"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6F716900-C78F-4E96-B08E-6C8C26D3EA23}"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8D584A76-56D2-4B03-8B3B-187589B0CB82}"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A98F7890-A8A7-4ABD-AC74-336475929821}"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22953D65-ADBB-41D6-A632-21264DBE397A}"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69476B80-090D-4990-A828-DBAFB0CA20C4}"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92902838-ABFB-459E-AC97-838CCB20A03A}"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BF03B959-BACB-4DB0-84A9-12B82C9DF8F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6182DB8-167B-41D0-8D21-0944B88E8380}"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D261B779-1712-4322-84A7-15EF1EF634FA}"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7A9ED3CE-7392-4E3E-B74A-A3CC7DCE970B}"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5F0F1861-2BE5-45F5-A008-7ED039F4D260}"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C8F723F7-FD80-43F5-B860-BA0A8422BD07}"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AA9D3E99-8126-4559-8A59-E3CB1E534C24}"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A7F21712-E6CE-4B8D-928F-7C3C8D28A756}"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64406A7A-617C-4E62-9238-5B3C51C590C7}"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420722E2-D8FF-455C-ABD4-061EDB43183D}"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25951B7F-8CA7-4C45-BA70-9312D44ED637}"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F73946E5-BBBE-4D32-83D8-A020EB78BAF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3BA2371-A4DA-4068-A50C-860E8746665A}"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B34B509D-0031-4402-85E7-141E99B2480E}"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D3D30302-6CBB-471F-B652-542D16FBE9F9}"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1CF76228-4E30-44E3-9732-CC9DBDFA21C8}"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19D523D4-D2AB-41D9-879E-2CD20B655DB3}"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A519FDEF-C84A-46E9-8110-A4FD1BB1F96D}"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BA9542E3-FCA3-4B4D-BF6D-80C5A323750A}"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94167C32-1F84-477F-A38E-EB06D52EA9FA}"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13C6D0E1-C1E6-46DF-94EF-2DE4A55BF28D}"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15A100DD-5B50-4EA0-ACB1-B214392121FD}"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DE9EBBA6-886F-4825-88CB-F8CBB09BCEF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B300BC8-9D07-4D08-8BC0-4B1BF0E1FD31}"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5DAB700D-7C70-47DD-B821-0387EB8053A5}"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AC2F3CCB-AE9A-4BB7-9026-E88148D48B1C}"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C092D58D-CEF7-43DF-AC72-008567B499D8}"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A30AA728-8859-4619-9EDA-A1D19B6871FF}"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A55508B4-C862-4D25-93FC-94062F08026F}"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FB3D9BC7-9124-4973-B583-D49781FB38FD}"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7F5AD05F-7844-4F4F-A452-E625CCFA6231}"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CCE70902-E91E-4618-BE9B-A2D049E8B3AD}"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6917920A-88F5-4115-8914-33C95A4A8B5B}"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BE4D3201-6A2C-430C-A604-DD3C812E80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D53D5AB-93BB-474C-884B-8283B30E65C7}"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F4FA5CD0-5542-489F-BA6D-7D90FDDDBD9A}"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BA4D919B-24AC-4FE3-8C88-1698AA9DF53A}"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509D3DF1-011D-4E8E-9896-185BCAEBEE07}"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F516C873-A25A-4C35-A703-7B4A1CB57154}"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96A88C20-686B-4A64-9CE7-974FC1CB08DE}"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E13BF278-EFD4-4A5C-8679-4FC357F208F3}"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58542D99-9573-48DE-B381-24CED17533C7}"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CE23A51B-9B4B-4A4A-8907-52C8D2B311A7}"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35437BFE-A4B4-45BE-8AA8-FBF3CAAFDDA0}"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E190285B-B190-42A2-9CF2-E5877C7C41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5D15EEB-B595-41BB-BAB2-F99904E6ADE3}"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C51EDE36-E9E2-47BB-B262-BF7B8AF9BA85}"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F4B5B7B7-5375-4134-A6E5-0B2FDD3928AB}"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BF18B145-C527-4A16-BF2F-8FA445F2F511}"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4D7BF1CC-CCC0-4EB3-A17B-9C1C728D10DD}"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9219843F-4738-408A-A3C8-5E04510EFD28}"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41E344E7-A51B-4CF8-81BE-E28BC824F34D}"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EFCF2651-9473-4952-8CF7-96E9B298F5D1}"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0D05D08F-F0C3-49A9-9F1B-B3B33EED2CF4}"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CCFFC721-A697-4F9E-8E74-859F577E942A}"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58EBB36F-9071-4D53-83B3-70BC2730ABC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EAE894C-2064-447E-BBDA-DC9D4241313D}"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3CB2E73F-BF75-490B-82D4-D6241481E9F8}"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85CB1647-BD28-458D-8906-21196FDAFFF2}"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A2953C9C-2911-45CB-9171-9A128FE83099}"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55A43A7A-B840-4B96-9F48-AD142EB1755D}"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5644F951-D2DE-404A-8C7C-D10F7A2BBC60}"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3DDAF2F2-F7DF-42A8-93A8-029B2BA45B07}"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E8DA6945-C733-4583-94A8-657F490499C7}"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B6F92D54-FE03-49DA-86FC-3E6E3040EE61}"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8261C9AB-2D93-4DF3-A9F6-B2CFC4E5BD8F}"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F11440D1-BF67-4765-877F-91CC9C717E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01B2B-8D44-4747-806E-E884172678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C9B4B-F1D4-4E80-BB43-20FAA205E5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A3A74-B58C-4898-B701-8013959617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987F3-304E-42E3-807D-EF1691F20D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978E2-85C6-465F-9072-BC3D9DB432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4A92F-13AD-48C6-A7A7-DD54580762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605E7-8FA1-4CE0-9BA3-9BAC487843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26CA3-F8D7-44AD-90A9-4B3444452F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2B9FE-2453-46BF-BE2B-99C225B00D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3F2B2-7918-4DCA-ABD6-C0B5165BFF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B799F-F3A7-4ADD-92E2-42DDF5B0E4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F822A-4E97-4B4E-85A9-7A046588CE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0E63C-6E74-4A01-99C0-A2746D1355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71131-AF6A-426E-9EE8-FB7F0FBA48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760A30-6AAC-4498-AF46-78C8A57062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EAFB2-2389-4888-A1BC-95CE29113E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B4E00-5259-4DB8-9347-D28C136D2D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57292-DE86-4488-811E-53E43E28E5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8C7F7-8CA0-4580-8CC2-067CE29164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A231B-D2AE-4F78-B6CE-0446F581EA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85E2E-99AB-4D1F-921A-BD77B013A4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1D2A2-8A5F-4866-BF98-A8A5B6BB6E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EC091-D5A0-408F-BC9B-4B1C5A7CB9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3D4D7-2548-4542-8534-228B12B50F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77EFB-C584-46E5-BADD-231E5FC837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A4C86-9163-47C9-B241-3A97FF45A6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5C26E-EE64-427B-904A-FEFB6EA510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8C571-49EE-4807-BCDD-B748FADCC2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F925F-70EA-45B4-8246-8871219D09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8D0B8-8416-456B-9FCA-B6628A08A8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EB6FA-DD1B-4D55-BB82-A68528453D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F5E9D-BCC8-4EB6-A18C-C618C440F6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F160D-6D93-4859-BEF1-CBFE730708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91E18-4320-4B69-94C7-3E6E2D85DF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C57C1-C63E-45FC-AF74-7FE0AE855A8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C775F-5FAE-405C-A1D0-B2DE9CFB89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52211-18D9-433C-A6F6-D88C7B6EA6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EBAF4-5310-425D-B19B-FF89D722DD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DD876-BE3F-47DE-B43E-4CE80D00CE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ACC48-7054-471D-9E33-C868AAE57F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B96FF-3146-4C42-A1D2-ECB2025003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C3EC7-723E-4700-A800-5D0FEE0020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CC635-B515-443B-8838-56F9990F86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653F7-3E77-4236-923A-15D5909FF5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2488C-451A-4B07-BB27-A9C2E841C6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B4A7D-2700-4532-A8FC-1A86D73F3F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21FAC-3D54-4178-9538-8E5746E448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07B3A-AF16-4B66-B0C7-149C41ADB0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438D2-DE94-4D4C-9172-B8BD066205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624E4-1AD1-4D58-864F-811C770929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52E80-356C-4DA4-8A09-5E7A3DAE42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8E0ED-20F2-441E-AE1C-47854295C7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9B7B8-985D-4851-BDAC-DFF431C15A9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C5A4F-92B5-4F32-B94C-5E35AB730DA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2F0D7-AEEF-40E6-B5F5-E83D55A5786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BE61B-62E3-41EF-9E49-92C29FAFB0B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D5019-C204-412F-9EDD-60EC53435E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04342-DA70-4500-9297-C87F6284361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81638-AF7E-4702-9F9B-4B17C821C21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1DF89-8556-4319-835C-D916FBA25A6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42EE8-EFE2-4E90-B949-C5BF852C7D8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75E95-4EF0-4E9A-8BEC-3BF551B58E4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5DA8F-7ABE-46FA-9318-E1FD02D627E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E5789-3186-4B2F-885B-2F1F6811738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5F96F-FB79-4858-81CD-8CC726BB13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9CD49F-C4C7-4683-BA2A-4D1B19E886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0712F-926A-4492-9918-445E54410F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5345E-04C0-4E1D-9330-727618C553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4E0FE-5F3C-42F0-A69F-CB134D863E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CE96E-F555-4D9D-B9E2-3E2EB213AD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A666B-2F2A-43FA-BE72-BBE467A68D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29383-3D92-4C08-8FB4-36B3B3F814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7483A-D1D2-45EE-9F6A-A459428666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33EEC-A934-43D3-8871-ACF0765AF2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538564-0FC9-41F0-B4BB-C757BC664B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9F9B1E-985B-41E4-A299-3F7DF40CE5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4B8DC-4FE5-4529-B480-30526E85B9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ACF3F-5C07-4694-A814-61D45F1FB1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0F2D2B-062A-4332-8F8D-F5099206D3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016D7-55F7-4CCA-90E7-CC3DFE3F44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586B6-61BD-467A-BD3B-135CE5229B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89033-5933-43A2-84FF-F836DBF739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A02F1-ABE4-425A-A103-3543E925BF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D2E98-1C48-4E9C-97D8-C9B43D9BB4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D45933-984F-4F03-AB5E-D0F4AA5C45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A64CA-4A8B-4F3E-94D5-CF892A2F1B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FF2FE-7C2F-495D-B772-E03A91825F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9178C3-468E-47FC-9C3F-A71020AD67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BD375-8C7E-4235-8962-0B95B9C450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066AD-83E7-4E5A-B9E9-A7BA776075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04E15-AF04-40A9-8B11-B60A0D80E7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1F02B-CE37-4E65-A768-D2AAB10E90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B1689-FCB8-4617-BD06-7C10724572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FC8612-7A06-4B6A-A436-8B8B281E76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E4813-CABE-4E9C-BB96-23E823832A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4D71F-A9CD-45CD-9362-2F6B78EFBE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032FA-713D-4286-9262-9A88806A0C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D8A68-C309-4712-ADBA-8ECEE2C568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4A4C77-DE50-4BC8-B003-7BE8CA2C38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F6929-074C-4A1C-B063-440A31DC91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2A6EC-9129-4540-B3C1-9C558496A1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B766B7-0E7A-445E-8125-B0DFD99B39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E88FB-FEC3-4D84-98C7-416F80DAAB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B8771-753F-421A-B1B7-2F07AA8877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208DA-644D-4086-99E9-EBBDA83E4E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D5621-0A7A-45C3-A9FB-910F2A4826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349F1-090F-4C4F-A4C0-ECA7F318F9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3D47F-8B9B-4158-A8CE-59A5624DDD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696BE-0000-4F46-9CD5-4026D74109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E5471-0CCB-42CA-B872-8F31FF580A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14CCE-7556-47F9-815C-84BAC9566D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067B7-BBC7-418B-BCE7-73E29F0A0D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C6D74-1E26-4172-BAFB-4947DE1A00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532A2-9704-4C4D-9C7F-C6B9B533AD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2F7DD-700E-40D6-A7CD-87DCA86855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8F9A1-2183-4FBB-B03D-28EDBF0043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46C23-BFBB-4512-BB53-A1DDCD3B38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0611E-F688-47E1-8630-50D9826C16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83AB9-E1E3-46C7-B88B-AE175A027D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F1FC70-0D69-49B7-9DFA-81CA7706B7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51987-3E3B-4EC9-A6F1-6D6C1C200F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97494-E110-4F48-95E9-00D12E6674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1756F-A7C5-4EBF-9CB8-40CE8EFAFD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FD444-CF7B-4BAF-9432-28A340DBFE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888A3-961A-4640-8EC2-29E566A66F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E9B07-02DB-42C1-B73E-6785804129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B9550-B99D-48B7-9F72-850B9F6901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E7DA7-CE00-45D1-85AD-14D48A7630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ACADC-386C-4E38-A281-5BCE76E875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1C025-A29E-463E-B614-47628BB798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53BEE4-365C-483D-ABA6-A2968D97DE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D1B32-E2AE-41F9-AC51-58D3B50549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2C444-2DA4-4C09-92BA-CC553FAD56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9B440-CCEA-4F16-89FA-7C09B48A9E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B3E34-FB6E-41EC-8E5F-7E5C70FCC4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7B883-FCCC-4799-BFD2-341B53997F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D1313-D2DF-4578-AA8C-3DDEC3C13E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F72EF-81E3-44A5-BD45-0381B920E8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92FB7-3D43-43C3-B7FC-71FF030D61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A5EF4-1E95-4C59-85C6-9B1377FBB8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C5AB1-4D7F-4E4C-BBDA-C6D8A1B11E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A640F2-3624-4A87-A8F6-05403DE044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081DB-D6B7-401C-A62B-AFFFE186CD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054E9-920D-4890-8E03-AB3D1D398A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8D32C-AE9B-4A7C-BC8D-01F217CCAA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BD970-46E8-48A3-A8B1-98D3F64012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290D2-AA64-4D47-89B9-72DA315CC3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A3F62-7CD7-4583-8FEE-48501952CC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3B4C8-EBB7-4D42-A6EB-5788EACCFF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AC308-C44C-42EC-BBC6-DB0B6E1A65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C9F75-7345-4657-BD90-73609A2566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F1B43-F929-4A83-A6FC-289CB30FE4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6DC6DF-7DC9-416F-B477-E1E6A64184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56954-E9DE-4EE8-8845-6FB140E8FE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B3D55-0604-4E48-B6AB-50FE2BCAAA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55F5B2-A975-4AAE-A426-6A61E7A726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2"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3" name="Rectangle 2"/>
          <p:cNvSpPr/>
          <p:nvPr/>
        </p:nvSpPr>
        <p:spPr>
          <a:xfrm>
            <a:off x="1332000" y="4437000"/>
            <a:ext cx="6875280" cy="13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4"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5" name="Picture 4" descr=""/>
          <p:cNvPicPr/>
          <p:nvPr/>
        </p:nvPicPr>
        <p:blipFill>
          <a:blip r:embed="rId1"/>
          <a:stretch/>
        </p:blipFill>
        <p:spPr>
          <a:xfrm>
            <a:off x="0" y="1268280"/>
            <a:ext cx="9144000" cy="1368720"/>
          </a:xfrm>
          <a:prstGeom prst="rect">
            <a:avLst/>
          </a:prstGeom>
          <a:ln w="0">
            <a:noFill/>
          </a:ln>
        </p:spPr>
      </p:pic>
      <p:pic>
        <p:nvPicPr>
          <p:cNvPr id="6396" name="Picture 5" descr=""/>
          <p:cNvPicPr/>
          <p:nvPr/>
        </p:nvPicPr>
        <p:blipFill>
          <a:blip r:embed="rId2"/>
          <a:stretch/>
        </p:blipFill>
        <p:spPr>
          <a:xfrm>
            <a:off x="179280" y="0"/>
            <a:ext cx="1009800" cy="1190520"/>
          </a:xfrm>
          <a:prstGeom prst="rect">
            <a:avLst/>
          </a:prstGeom>
          <a:ln w="0">
            <a:noFill/>
          </a:ln>
        </p:spPr>
      </p:pic>
      <p:pic>
        <p:nvPicPr>
          <p:cNvPr id="6397" name="Picture 6" descr=""/>
          <p:cNvPicPr/>
          <p:nvPr/>
        </p:nvPicPr>
        <p:blipFill>
          <a:blip r:embed="rId3"/>
          <a:stretch/>
        </p:blipFill>
        <p:spPr>
          <a:xfrm>
            <a:off x="1116000" y="189000"/>
            <a:ext cx="3571920" cy="942840"/>
          </a:xfrm>
          <a:prstGeom prst="rect">
            <a:avLst/>
          </a:prstGeom>
          <a:ln w="0">
            <a:noFill/>
          </a:ln>
        </p:spPr>
      </p:pic>
      <p:pic>
        <p:nvPicPr>
          <p:cNvPr id="6398" name="Picture 7" descr=""/>
          <p:cNvPicPr/>
          <p:nvPr/>
        </p:nvPicPr>
        <p:blipFill>
          <a:blip r:embed="rId4"/>
          <a:stretch/>
        </p:blipFill>
        <p:spPr>
          <a:xfrm>
            <a:off x="5003640" y="0"/>
            <a:ext cx="1121040" cy="1219320"/>
          </a:xfrm>
          <a:prstGeom prst="rect">
            <a:avLst/>
          </a:prstGeom>
          <a:ln w="0">
            <a:noFill/>
          </a:ln>
        </p:spPr>
      </p:pic>
      <p:pic>
        <p:nvPicPr>
          <p:cNvPr id="6399"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2" name="Text Box 1"/>
          <p:cNvSpPr/>
          <p:nvPr/>
        </p:nvSpPr>
        <p:spPr>
          <a:xfrm>
            <a:off x="539640" y="1413000"/>
            <a:ext cx="7920000" cy="4392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που ασχολούνται με την Παιδαγωγική της Ένταξης </a:t>
            </a:r>
            <a:r>
              <a:rPr b="1" lang="el-GR" sz="2800" spc="-1" strike="noStrike">
                <a:solidFill>
                  <a:srgbClr val="000000"/>
                </a:solidFill>
                <a:latin typeface="Times New Roman"/>
              </a:rPr>
              <a:t>υποστηρίζουν 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ffffff"/>
              </a:solidFill>
              <a:latin typeface="Times New Roman"/>
            </a:endParaRPr>
          </a:p>
        </p:txBody>
      </p:sp>
      <p:grpSp>
        <p:nvGrpSpPr>
          <p:cNvPr id="6473" name="Group 2"/>
          <p:cNvGrpSpPr/>
          <p:nvPr/>
        </p:nvGrpSpPr>
        <p:grpSpPr>
          <a:xfrm>
            <a:off x="0" y="115920"/>
            <a:ext cx="9142560" cy="6549840"/>
            <a:chOff x="0" y="115920"/>
            <a:chExt cx="9142560" cy="6549840"/>
          </a:xfrm>
        </p:grpSpPr>
        <p:grpSp>
          <p:nvGrpSpPr>
            <p:cNvPr id="6474" name="Group 3"/>
            <p:cNvGrpSpPr/>
            <p:nvPr/>
          </p:nvGrpSpPr>
          <p:grpSpPr>
            <a:xfrm>
              <a:off x="0" y="115920"/>
              <a:ext cx="9142560" cy="6549840"/>
              <a:chOff x="0" y="115920"/>
              <a:chExt cx="9142560" cy="6549840"/>
            </a:xfrm>
          </p:grpSpPr>
          <p:sp>
            <p:nvSpPr>
              <p:cNvPr id="647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7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0" name="Picture 9"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2"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τη συνδιδασκαλία μπορούν να κάνουν πράξη τη διαφοροποιημένη διδασκαλία, η οποία θα σχεδιάζεται και θα εφαρμόζεται από κοινού βοηθώντας και εξυπηρετώντας όλα τα μαθησιακά στυλ και τις ποικίλες ανάγκες των μαθητών. </a:t>
            </a:r>
            <a:endParaRPr b="0" lang="en-US" sz="2800" spc="-1" strike="noStrike">
              <a:solidFill>
                <a:srgbClr val="ffffff"/>
              </a:solidFill>
              <a:latin typeface="Times New Roman"/>
            </a:endParaRPr>
          </a:p>
        </p:txBody>
      </p:sp>
      <p:grpSp>
        <p:nvGrpSpPr>
          <p:cNvPr id="7283" name="Group 2"/>
          <p:cNvGrpSpPr/>
          <p:nvPr/>
        </p:nvGrpSpPr>
        <p:grpSpPr>
          <a:xfrm>
            <a:off x="0" y="115920"/>
            <a:ext cx="9142560" cy="6549840"/>
            <a:chOff x="0" y="115920"/>
            <a:chExt cx="9142560" cy="6549840"/>
          </a:xfrm>
        </p:grpSpPr>
        <p:grpSp>
          <p:nvGrpSpPr>
            <p:cNvPr id="7284" name="Group 3"/>
            <p:cNvGrpSpPr/>
            <p:nvPr/>
          </p:nvGrpSpPr>
          <p:grpSpPr>
            <a:xfrm>
              <a:off x="0" y="115920"/>
              <a:ext cx="9142560" cy="6549840"/>
              <a:chOff x="0" y="115920"/>
              <a:chExt cx="9142560" cy="6549840"/>
            </a:xfrm>
          </p:grpSpPr>
          <p:sp>
            <p:nvSpPr>
              <p:cNvPr id="728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8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0" name="Picture 9"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1"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μεταξύ των συνδιδασκάλων είναι παράγοντας επιτυχημένης συνεκπαίδευσης. Σε έρευνα των Αναστασίου &amp; Μαυροπαλιά (2013) με δείγμα 236 εκπαιδευτικούς, τα αποτελέσματα έδειξαν ότι η συνεργασία στην Παράλληλη Στήριξη ανάμεσα στους δασκάλους γενικής και ειδικής αγωγής προάγει την επίτευξη των στόχων σε σχέση με τις ανάγκες των μαθητών. </a:t>
            </a:r>
            <a:endParaRPr b="0" lang="en-US" sz="2800" spc="-1" strike="noStrike">
              <a:solidFill>
                <a:srgbClr val="ffffff"/>
              </a:solidFill>
              <a:latin typeface="Times New Roman"/>
            </a:endParaRPr>
          </a:p>
        </p:txBody>
      </p:sp>
      <p:grpSp>
        <p:nvGrpSpPr>
          <p:cNvPr id="7292" name="Group 2"/>
          <p:cNvGrpSpPr/>
          <p:nvPr/>
        </p:nvGrpSpPr>
        <p:grpSpPr>
          <a:xfrm>
            <a:off x="0" y="115920"/>
            <a:ext cx="9142560" cy="6549840"/>
            <a:chOff x="0" y="115920"/>
            <a:chExt cx="9142560" cy="6549840"/>
          </a:xfrm>
        </p:grpSpPr>
        <p:grpSp>
          <p:nvGrpSpPr>
            <p:cNvPr id="7293" name="Group 3"/>
            <p:cNvGrpSpPr/>
            <p:nvPr/>
          </p:nvGrpSpPr>
          <p:grpSpPr>
            <a:xfrm>
              <a:off x="0" y="115920"/>
              <a:ext cx="9142560" cy="6549840"/>
              <a:chOff x="0" y="115920"/>
              <a:chExt cx="9142560" cy="6549840"/>
            </a:xfrm>
          </p:grpSpPr>
          <p:sp>
            <p:nvSpPr>
              <p:cNvPr id="729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9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9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9" name="Picture 9"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0"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ης παράλληλης στήριξης στην Ελλάδα σήμερα επικοινωνούν μεν αποτελεσματικά με τους συναδέλφους τους, όμως δεν λαμβάνουν από κοινού αποφάσεις με ισότιμο τρόπο για το πώς θα λειτουργήσει η τάξη σε διάφορα ζητήματα (Αναστασίου &amp; Μαυροπαλιάς, 2013). </a:t>
            </a:r>
            <a:endParaRPr b="0" lang="en-US" sz="2800" spc="-1" strike="noStrike">
              <a:solidFill>
                <a:srgbClr val="ffffff"/>
              </a:solidFill>
              <a:latin typeface="Times New Roman"/>
            </a:endParaRPr>
          </a:p>
        </p:txBody>
      </p:sp>
      <p:grpSp>
        <p:nvGrpSpPr>
          <p:cNvPr id="7301" name="Group 2"/>
          <p:cNvGrpSpPr/>
          <p:nvPr/>
        </p:nvGrpSpPr>
        <p:grpSpPr>
          <a:xfrm>
            <a:off x="0" y="115920"/>
            <a:ext cx="9142560" cy="6549840"/>
            <a:chOff x="0" y="115920"/>
            <a:chExt cx="9142560" cy="6549840"/>
          </a:xfrm>
        </p:grpSpPr>
        <p:grpSp>
          <p:nvGrpSpPr>
            <p:cNvPr id="7302" name="Group 3"/>
            <p:cNvGrpSpPr/>
            <p:nvPr/>
          </p:nvGrpSpPr>
          <p:grpSpPr>
            <a:xfrm>
              <a:off x="0" y="115920"/>
              <a:ext cx="9142560" cy="6549840"/>
              <a:chOff x="0" y="115920"/>
              <a:chExt cx="9142560" cy="6549840"/>
            </a:xfrm>
          </p:grpSpPr>
          <p:sp>
            <p:nvSpPr>
              <p:cNvPr id="730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30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0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08" name="Picture 9"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ΘΕΣΜΙΚΟ ΠΛΑΙΣΙΟ ΣΥΝΔΙΔΑΣΚΑΛΙΑΣ-</a:t>
            </a:r>
            <a:br>
              <a:rPr sz="2800"/>
            </a:br>
            <a:br>
              <a:rPr sz="2800"/>
            </a:br>
            <a:r>
              <a:rPr b="1" lang="el-GR" sz="2800" spc="-1" strike="noStrike">
                <a:solidFill>
                  <a:srgbClr val="000000"/>
                </a:solidFill>
                <a:latin typeface="Arial"/>
                <a:ea typeface="Arial"/>
              </a:rPr>
              <a:t>ΘΕΩΡΗΤΙΚΕΣ ΠΡΟΣΕΓΓΙΣΕΙΣ</a:t>
            </a:r>
            <a:br>
              <a:rPr sz="2800"/>
            </a:b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7310" name="Group 2"/>
          <p:cNvGrpSpPr/>
          <p:nvPr/>
        </p:nvGrpSpPr>
        <p:grpSpPr>
          <a:xfrm>
            <a:off x="0" y="115920"/>
            <a:ext cx="9142560" cy="6549840"/>
            <a:chOff x="0" y="115920"/>
            <a:chExt cx="9142560" cy="6549840"/>
          </a:xfrm>
        </p:grpSpPr>
        <p:grpSp>
          <p:nvGrpSpPr>
            <p:cNvPr id="7311" name="Group 3"/>
            <p:cNvGrpSpPr/>
            <p:nvPr/>
          </p:nvGrpSpPr>
          <p:grpSpPr>
            <a:xfrm>
              <a:off x="0" y="115920"/>
              <a:ext cx="9142560" cy="6549840"/>
              <a:chOff x="0" y="115920"/>
              <a:chExt cx="9142560" cy="6549840"/>
            </a:xfrm>
          </p:grpSpPr>
          <p:sp>
            <p:nvSpPr>
              <p:cNvPr id="731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31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1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17" name="Picture 9"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8" name="Rectangle 1"/>
          <p:cNvSpPr/>
          <p:nvPr/>
        </p:nvSpPr>
        <p:spPr>
          <a:xfrm>
            <a:off x="395280" y="3573360"/>
            <a:ext cx="8137440" cy="249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319" name="Picture 2" descr=""/>
          <p:cNvPicPr/>
          <p:nvPr/>
        </p:nvPicPr>
        <p:blipFill>
          <a:blip r:embed="rId1"/>
          <a:stretch/>
        </p:blipFill>
        <p:spPr>
          <a:xfrm>
            <a:off x="0" y="0"/>
            <a:ext cx="9144000" cy="1368360"/>
          </a:xfrm>
          <a:prstGeom prst="rect">
            <a:avLst/>
          </a:prstGeom>
          <a:ln w="0">
            <a:noFill/>
          </a:ln>
        </p:spPr>
      </p:pic>
      <p:pic>
        <p:nvPicPr>
          <p:cNvPr id="7320" name="Picture 3" descr=""/>
          <p:cNvPicPr/>
          <p:nvPr/>
        </p:nvPicPr>
        <p:blipFill>
          <a:blip r:embed="rId2"/>
          <a:stretch/>
        </p:blipFill>
        <p:spPr>
          <a:xfrm>
            <a:off x="1258920" y="2060640"/>
            <a:ext cx="1297080" cy="1528560"/>
          </a:xfrm>
          <a:prstGeom prst="rect">
            <a:avLst/>
          </a:prstGeom>
          <a:ln w="0">
            <a:noFill/>
          </a:ln>
        </p:spPr>
      </p:pic>
      <p:pic>
        <p:nvPicPr>
          <p:cNvPr id="7321" name="Picture 4" descr=""/>
          <p:cNvPicPr/>
          <p:nvPr/>
        </p:nvPicPr>
        <p:blipFill>
          <a:blip r:embed="rId3"/>
          <a:stretch/>
        </p:blipFill>
        <p:spPr>
          <a:xfrm>
            <a:off x="6948360" y="1989000"/>
            <a:ext cx="1444680" cy="1573200"/>
          </a:xfrm>
          <a:prstGeom prst="rect">
            <a:avLst/>
          </a:prstGeom>
          <a:ln w="0">
            <a:noFill/>
          </a:ln>
        </p:spPr>
      </p:pic>
      <p:sp>
        <p:nvSpPr>
          <p:cNvPr id="7322"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7323"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1"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λοιπόν,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r>
              <a:rPr b="0" lang="el-GR" sz="2800" spc="-1" strike="noStrike">
                <a:solidFill>
                  <a:srgbClr val="000000"/>
                </a:solidFill>
                <a:latin typeface="Times New Roman"/>
              </a:rPr>
              <a:t>Αυτό είναι και το παιδαγωγικό ζητούμενο της ένταξης, που αποτελεί και ένα ηθικό ζήτημα. </a:t>
            </a:r>
            <a:br>
              <a:rPr sz="2800"/>
            </a:br>
            <a:endParaRPr b="0" lang="en-US" sz="2800" spc="-1" strike="noStrike">
              <a:solidFill>
                <a:srgbClr val="ffffff"/>
              </a:solidFill>
              <a:latin typeface="Times New Roman"/>
            </a:endParaRPr>
          </a:p>
        </p:txBody>
      </p:sp>
      <p:grpSp>
        <p:nvGrpSpPr>
          <p:cNvPr id="6482" name="Group 2"/>
          <p:cNvGrpSpPr/>
          <p:nvPr/>
        </p:nvGrpSpPr>
        <p:grpSpPr>
          <a:xfrm>
            <a:off x="0" y="115920"/>
            <a:ext cx="9142560" cy="6549840"/>
            <a:chOff x="0" y="115920"/>
            <a:chExt cx="9142560" cy="6549840"/>
          </a:xfrm>
        </p:grpSpPr>
        <p:grpSp>
          <p:nvGrpSpPr>
            <p:cNvPr id="6483" name="Group 3"/>
            <p:cNvGrpSpPr/>
            <p:nvPr/>
          </p:nvGrpSpPr>
          <p:grpSpPr>
            <a:xfrm>
              <a:off x="0" y="115920"/>
              <a:ext cx="9142560" cy="6549840"/>
              <a:chOff x="0" y="115920"/>
              <a:chExt cx="9142560" cy="6549840"/>
            </a:xfrm>
          </p:grpSpPr>
          <p:sp>
            <p:nvSpPr>
              <p:cNvPr id="648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8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9"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0"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ενταξιακή εκπαίδευση θέτει υπό διαπραγμάτευση την σχολική οργάνωση σε επίπεδο συστήματος  καθώς και  σε τοπικό επίπεδο ως προς το περιεχόμενο των προγραμμάτων , της παιδαγωγικής προσέγγισης και αξιολόγησης.</a:t>
            </a:r>
            <a:endParaRPr b="0" lang="en-US" sz="2800" spc="-1" strike="noStrike">
              <a:solidFill>
                <a:srgbClr val="ffffff"/>
              </a:solidFill>
              <a:latin typeface="Times New Roman"/>
            </a:endParaRPr>
          </a:p>
        </p:txBody>
      </p:sp>
      <p:grpSp>
        <p:nvGrpSpPr>
          <p:cNvPr id="6491" name="Group 2"/>
          <p:cNvGrpSpPr/>
          <p:nvPr/>
        </p:nvGrpSpPr>
        <p:grpSpPr>
          <a:xfrm>
            <a:off x="0" y="115920"/>
            <a:ext cx="9142560" cy="6549840"/>
            <a:chOff x="0" y="115920"/>
            <a:chExt cx="9142560" cy="6549840"/>
          </a:xfrm>
        </p:grpSpPr>
        <p:grpSp>
          <p:nvGrpSpPr>
            <p:cNvPr id="6492" name="Group 3"/>
            <p:cNvGrpSpPr/>
            <p:nvPr/>
          </p:nvGrpSpPr>
          <p:grpSpPr>
            <a:xfrm>
              <a:off x="0" y="115920"/>
              <a:ext cx="9142560" cy="6549840"/>
              <a:chOff x="0" y="115920"/>
              <a:chExt cx="9142560" cy="6549840"/>
            </a:xfrm>
          </p:grpSpPr>
          <p:sp>
            <p:nvSpPr>
              <p:cNvPr id="649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9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8"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9" name="Text Box 1"/>
          <p:cNvSpPr/>
          <p:nvPr/>
        </p:nvSpPr>
        <p:spPr>
          <a:xfrm>
            <a:off x="324000" y="1125360"/>
            <a:ext cx="8569080" cy="46594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αναφέρονται εφτά(7) παράγοντες που συνιστούν μία επιτυχημένη ένταξη: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ffffff"/>
              </a:solidFill>
              <a:latin typeface="Times New Roman"/>
            </a:endParaRPr>
          </a:p>
        </p:txBody>
      </p:sp>
      <p:grpSp>
        <p:nvGrpSpPr>
          <p:cNvPr id="6500" name="Group 2"/>
          <p:cNvGrpSpPr/>
          <p:nvPr/>
        </p:nvGrpSpPr>
        <p:grpSpPr>
          <a:xfrm>
            <a:off x="0" y="115920"/>
            <a:ext cx="9142560" cy="6549840"/>
            <a:chOff x="0" y="115920"/>
            <a:chExt cx="9142560" cy="6549840"/>
          </a:xfrm>
        </p:grpSpPr>
        <p:grpSp>
          <p:nvGrpSpPr>
            <p:cNvPr id="6501" name="Group 3"/>
            <p:cNvGrpSpPr/>
            <p:nvPr/>
          </p:nvGrpSpPr>
          <p:grpSpPr>
            <a:xfrm>
              <a:off x="0" y="115920"/>
              <a:ext cx="9142560" cy="6549840"/>
              <a:chOff x="0" y="115920"/>
              <a:chExt cx="9142560" cy="6549840"/>
            </a:xfrm>
          </p:grpSpPr>
          <p:sp>
            <p:nvSpPr>
              <p:cNvPr id="650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0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7"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8"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με ειδικές ανάγκες </a:t>
            </a:r>
            <a:br>
              <a:rPr sz="2800"/>
            </a:br>
            <a:r>
              <a:rPr b="0" lang="el-GR" sz="2800" spc="-1" strike="noStrike">
                <a:solidFill>
                  <a:srgbClr val="000000"/>
                </a:solidFill>
                <a:latin typeface="Times New Roman"/>
              </a:rPr>
              <a:t>και αναπηρίες σε ξεχωριστό πλαίσιο οδηγεί σε στιγματισμό και αποκλεισμό. </a:t>
            </a:r>
            <a:br>
              <a:rPr sz="2800"/>
            </a:br>
            <a:br>
              <a:rPr sz="2800"/>
            </a:br>
            <a:endParaRPr b="0" lang="en-US" sz="2800" spc="-1" strike="noStrike">
              <a:solidFill>
                <a:srgbClr val="ffffff"/>
              </a:solidFill>
              <a:latin typeface="Times New Roman"/>
            </a:endParaRPr>
          </a:p>
        </p:txBody>
      </p:sp>
      <p:grpSp>
        <p:nvGrpSpPr>
          <p:cNvPr id="6509" name="Group 2"/>
          <p:cNvGrpSpPr/>
          <p:nvPr/>
        </p:nvGrpSpPr>
        <p:grpSpPr>
          <a:xfrm>
            <a:off x="0" y="115920"/>
            <a:ext cx="9142560" cy="6549840"/>
            <a:chOff x="0" y="115920"/>
            <a:chExt cx="9142560" cy="6549840"/>
          </a:xfrm>
        </p:grpSpPr>
        <p:grpSp>
          <p:nvGrpSpPr>
            <p:cNvPr id="6510" name="Group 3"/>
            <p:cNvGrpSpPr/>
            <p:nvPr/>
          </p:nvGrpSpPr>
          <p:grpSpPr>
            <a:xfrm>
              <a:off x="0" y="115920"/>
              <a:ext cx="9142560" cy="6549840"/>
              <a:chOff x="0" y="115920"/>
              <a:chExt cx="9142560" cy="6549840"/>
            </a:xfrm>
          </p:grpSpPr>
          <p:sp>
            <p:nvSpPr>
              <p:cNvPr id="651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1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5" name="Rectangle 8"/>
          <p:cNvSpPr/>
          <p:nvPr/>
        </p:nvSpPr>
        <p:spPr>
          <a:xfrm>
            <a:off x="468360" y="2276640"/>
            <a:ext cx="867564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6"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7"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Ζητούμενο 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ffffff"/>
              </a:solidFill>
              <a:latin typeface="Times New Roman"/>
            </a:endParaRPr>
          </a:p>
        </p:txBody>
      </p:sp>
      <p:grpSp>
        <p:nvGrpSpPr>
          <p:cNvPr id="6518" name="Group 2"/>
          <p:cNvGrpSpPr/>
          <p:nvPr/>
        </p:nvGrpSpPr>
        <p:grpSpPr>
          <a:xfrm>
            <a:off x="0" y="115920"/>
            <a:ext cx="9142560" cy="6549840"/>
            <a:chOff x="0" y="115920"/>
            <a:chExt cx="9142560" cy="6549840"/>
          </a:xfrm>
        </p:grpSpPr>
        <p:grpSp>
          <p:nvGrpSpPr>
            <p:cNvPr id="6519" name="Group 3"/>
            <p:cNvGrpSpPr/>
            <p:nvPr/>
          </p:nvGrpSpPr>
          <p:grpSpPr>
            <a:xfrm>
              <a:off x="0" y="115920"/>
              <a:ext cx="9142560" cy="6549840"/>
              <a:chOff x="0" y="115920"/>
              <a:chExt cx="9142560" cy="6549840"/>
            </a:xfrm>
          </p:grpSpPr>
          <p:sp>
            <p:nvSpPr>
              <p:cNvPr id="652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2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5"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6"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ία μορφή ένταξης και </a:t>
            </a:r>
            <a:r>
              <a:rPr b="1" lang="el-GR" sz="2800" spc="-1" strike="noStrike">
                <a:solidFill>
                  <a:srgbClr val="000000"/>
                </a:solidFill>
                <a:latin typeface="Times New Roman"/>
              </a:rPr>
              <a:t>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είναι η συνεκπαίδευση και η συνδιδασκαλία. </a:t>
            </a:r>
            <a:br>
              <a:rPr sz="2800"/>
            </a:br>
            <a:br>
              <a:rPr sz="2800"/>
            </a:br>
            <a:r>
              <a:rPr b="0" lang="el-GR" sz="2800" spc="-1" strike="noStrike">
                <a:solidFill>
                  <a:srgbClr val="000000"/>
                </a:solidFill>
                <a:latin typeface="Times New Roman"/>
              </a:rPr>
              <a:t>Αυτό σημαίνει ότι οι μαθητές  παρακολουθούν </a:t>
            </a:r>
            <a:br>
              <a:rPr sz="2800"/>
            </a:br>
            <a:r>
              <a:rPr b="0" lang="el-GR" sz="2800" spc="-1" strike="noStrike">
                <a:solidFill>
                  <a:srgbClr val="000000"/>
                </a:solidFill>
                <a:latin typeface="Times New Roman"/>
              </a:rPr>
              <a:t>το ίδιο πρόγραμμα, την ίδια στιγμή, </a:t>
            </a:r>
            <a:br>
              <a:rPr sz="2800"/>
            </a:br>
            <a:r>
              <a:rPr b="0" lang="el-GR" sz="2800" spc="-1" strike="noStrike">
                <a:solidFill>
                  <a:srgbClr val="000000"/>
                </a:solidFill>
                <a:latin typeface="Times New Roman"/>
              </a:rPr>
              <a:t>στην ίδια αίθουσα με τη συμμετοχή όλων (</a:t>
            </a:r>
            <a:r>
              <a:rPr b="0" lang="en-US" sz="2800" spc="-1" strike="noStrike">
                <a:solidFill>
                  <a:srgbClr val="000000"/>
                </a:solidFill>
                <a:latin typeface="Times New Roman"/>
              </a:rPr>
              <a:t>Bailey</a:t>
            </a:r>
            <a:r>
              <a:rPr b="0" lang="el-GR" sz="2800" spc="-1" strike="noStrike">
                <a:solidFill>
                  <a:srgbClr val="000000"/>
                </a:solidFill>
                <a:latin typeface="Times New Roman"/>
              </a:rPr>
              <a:t>, 1998). </a:t>
            </a:r>
            <a:endParaRPr b="0" lang="en-US" sz="2800" spc="-1" strike="noStrike">
              <a:solidFill>
                <a:srgbClr val="ffffff"/>
              </a:solidFill>
              <a:latin typeface="Times New Roman"/>
            </a:endParaRPr>
          </a:p>
        </p:txBody>
      </p:sp>
      <p:grpSp>
        <p:nvGrpSpPr>
          <p:cNvPr id="6527" name="Group 2"/>
          <p:cNvGrpSpPr/>
          <p:nvPr/>
        </p:nvGrpSpPr>
        <p:grpSpPr>
          <a:xfrm>
            <a:off x="0" y="115920"/>
            <a:ext cx="9142560" cy="6549840"/>
            <a:chOff x="0" y="115920"/>
            <a:chExt cx="9142560" cy="6549840"/>
          </a:xfrm>
        </p:grpSpPr>
        <p:grpSp>
          <p:nvGrpSpPr>
            <p:cNvPr id="6528" name="Group 3"/>
            <p:cNvGrpSpPr/>
            <p:nvPr/>
          </p:nvGrpSpPr>
          <p:grpSpPr>
            <a:xfrm>
              <a:off x="0" y="115920"/>
              <a:ext cx="9142560" cy="6549840"/>
              <a:chOff x="0" y="115920"/>
              <a:chExt cx="9142560" cy="6549840"/>
            </a:xfrm>
          </p:grpSpPr>
          <p:sp>
            <p:nvSpPr>
              <p:cNvPr id="652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3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4"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5"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πομένως, είναι ένας τρόπος να μειωθούν τα προβλήματα αποκλεισμού και να παρέχουμε υπηρεσίες στα παιδιά με ειδικές εκπαιδευτικές ανάγκες. </a:t>
            </a:r>
            <a:br>
              <a:rPr sz="2800"/>
            </a:br>
            <a:r>
              <a:rPr b="0" lang="el-GR" sz="2800" spc="-1" strike="noStrike">
                <a:solidFill>
                  <a:srgbClr val="000000"/>
                </a:solidFill>
                <a:latin typeface="Times New Roman"/>
              </a:rPr>
              <a:t> Η συνδιδασκαλία είναι μία πρόταση με θετικά στοιχεία, καθώς απαιτείται συνεργασία των εκπαιδευτικών γενικής και ειδικής αγωγής, αλλά και η συνεργασία ειδικών διάφορων ειδικοτήτων. </a:t>
            </a:r>
            <a:endParaRPr b="0" lang="en-US" sz="2800" spc="-1" strike="noStrike">
              <a:solidFill>
                <a:srgbClr val="ffffff"/>
              </a:solidFill>
              <a:latin typeface="Times New Roman"/>
            </a:endParaRPr>
          </a:p>
        </p:txBody>
      </p:sp>
      <p:grpSp>
        <p:nvGrpSpPr>
          <p:cNvPr id="6536" name="Group 2"/>
          <p:cNvGrpSpPr/>
          <p:nvPr/>
        </p:nvGrpSpPr>
        <p:grpSpPr>
          <a:xfrm>
            <a:off x="0" y="115920"/>
            <a:ext cx="9142560" cy="6549840"/>
            <a:chOff x="0" y="115920"/>
            <a:chExt cx="9142560" cy="6549840"/>
          </a:xfrm>
        </p:grpSpPr>
        <p:grpSp>
          <p:nvGrpSpPr>
            <p:cNvPr id="6537" name="Group 3"/>
            <p:cNvGrpSpPr/>
            <p:nvPr/>
          </p:nvGrpSpPr>
          <p:grpSpPr>
            <a:xfrm>
              <a:off x="0" y="115920"/>
              <a:ext cx="9142560" cy="6549840"/>
              <a:chOff x="0" y="115920"/>
              <a:chExt cx="9142560" cy="6549840"/>
            </a:xfrm>
          </p:grpSpPr>
          <p:sp>
            <p:nvSpPr>
              <p:cNvPr id="653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4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3"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4"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Οι εκπαιδευτικοί της τάξης </a:t>
            </a:r>
            <a:br>
              <a:rPr sz="2800"/>
            </a:br>
            <a:r>
              <a:rPr b="1" lang="el-GR" sz="2800" spc="-1" strike="noStrike">
                <a:solidFill>
                  <a:srgbClr val="000000"/>
                </a:solidFill>
                <a:latin typeface="Times New Roman"/>
              </a:rPr>
              <a:t>(γενικής και ειδικός παιδαγωγός) </a:t>
            </a:r>
            <a:br>
              <a:rPr sz="2800"/>
            </a:br>
            <a:r>
              <a:rPr b="0" lang="el-GR" sz="2800" spc="-1" strike="noStrike">
                <a:solidFill>
                  <a:srgbClr val="000000"/>
                </a:solidFill>
                <a:latin typeface="Times New Roman"/>
              </a:rPr>
              <a:t>θα πρέπει να συν-διδάσκουν με σκοπό τη μείωση των προβλημάτων και των δυσκολιών των μαθητών .</a:t>
            </a:r>
            <a:endParaRPr b="0" lang="en-US" sz="2800" spc="-1" strike="noStrike">
              <a:solidFill>
                <a:srgbClr val="ffffff"/>
              </a:solidFill>
              <a:latin typeface="Times New Roman"/>
            </a:endParaRPr>
          </a:p>
        </p:txBody>
      </p:sp>
      <p:grpSp>
        <p:nvGrpSpPr>
          <p:cNvPr id="6545" name="Group 2"/>
          <p:cNvGrpSpPr/>
          <p:nvPr/>
        </p:nvGrpSpPr>
        <p:grpSpPr>
          <a:xfrm>
            <a:off x="0" y="115920"/>
            <a:ext cx="9142560" cy="6549840"/>
            <a:chOff x="0" y="115920"/>
            <a:chExt cx="9142560" cy="6549840"/>
          </a:xfrm>
        </p:grpSpPr>
        <p:grpSp>
          <p:nvGrpSpPr>
            <p:cNvPr id="6546" name="Group 3"/>
            <p:cNvGrpSpPr/>
            <p:nvPr/>
          </p:nvGrpSpPr>
          <p:grpSpPr>
            <a:xfrm>
              <a:off x="0" y="115920"/>
              <a:ext cx="9142560" cy="6549840"/>
              <a:chOff x="0" y="115920"/>
              <a:chExt cx="9142560" cy="6549840"/>
            </a:xfrm>
          </p:grpSpPr>
          <p:sp>
            <p:nvSpPr>
              <p:cNvPr id="654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4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2"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3"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θετικά στοιχεία της συνδιδασκαλίας έγκεινται στη μείωση του στιγματισμού και την αύξηση της κατανόησης και του σεβασμού  των αμεα από τους συμμαθητές τους  πράγμα που σηματοδοτεί την αποδοχή. Οι γονείς αντιλαμβάνονται τη σημαντικότητα της συνδιδασκαλίας για την ένταξη των παιδιών τους, ενώ δίνεται η ευκαιρία σε μαθητές  αμεα να συμβιώνουν και να συνυπάρχουν με τους συμμαθητές τους </a:t>
            </a:r>
            <a:endParaRPr b="0" lang="en-US" sz="2800" spc="-1" strike="noStrike">
              <a:solidFill>
                <a:srgbClr val="ffffff"/>
              </a:solidFill>
              <a:latin typeface="Times New Roman"/>
            </a:endParaRPr>
          </a:p>
        </p:txBody>
      </p:sp>
      <p:grpSp>
        <p:nvGrpSpPr>
          <p:cNvPr id="6554" name="Group 2"/>
          <p:cNvGrpSpPr/>
          <p:nvPr/>
        </p:nvGrpSpPr>
        <p:grpSpPr>
          <a:xfrm>
            <a:off x="0" y="115920"/>
            <a:ext cx="9142560" cy="6549840"/>
            <a:chOff x="0" y="115920"/>
            <a:chExt cx="9142560" cy="6549840"/>
          </a:xfrm>
        </p:grpSpPr>
        <p:grpSp>
          <p:nvGrpSpPr>
            <p:cNvPr id="6555" name="Group 3"/>
            <p:cNvGrpSpPr/>
            <p:nvPr/>
          </p:nvGrpSpPr>
          <p:grpSpPr>
            <a:xfrm>
              <a:off x="0" y="115920"/>
              <a:ext cx="9142560" cy="6549840"/>
              <a:chOff x="0" y="115920"/>
              <a:chExt cx="9142560" cy="6549840"/>
            </a:xfrm>
          </p:grpSpPr>
          <p:sp>
            <p:nvSpPr>
              <p:cNvPr id="655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5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0" name="Rectangle 8"/>
          <p:cNvSpPr/>
          <p:nvPr/>
        </p:nvSpPr>
        <p:spPr>
          <a:xfrm>
            <a:off x="611280" y="1484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1"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ΘΕΣΜΙΚΟ ΠΛΑΙΣΙΟ ΣΥΝΔΙΔΑΣΚΑΛΙΑΣ-</a:t>
            </a:r>
            <a:br>
              <a:rPr sz="3200"/>
            </a:br>
            <a:br>
              <a:rPr sz="3200"/>
            </a:br>
            <a:r>
              <a:rPr b="1" lang="el-GR" sz="3200" spc="-1" strike="noStrike">
                <a:solidFill>
                  <a:srgbClr val="000000"/>
                </a:solidFill>
                <a:latin typeface="Arial"/>
                <a:ea typeface="Arial"/>
              </a:rPr>
              <a:t>ΘΕΩΡΗΤΙΚΕΣ ΠΡΟΣΕΓΓΙΣΕΙΣ</a:t>
            </a:r>
            <a:br>
              <a:rPr sz="3200"/>
            </a:br>
            <a:br>
              <a:rPr sz="3200"/>
            </a:br>
            <a:br>
              <a:rPr sz="3200"/>
            </a:br>
            <a:br>
              <a:rPr sz="3200"/>
            </a:br>
            <a:r>
              <a:rPr b="1" lang="el-GR" sz="1800" spc="-1" strike="noStrike">
                <a:solidFill>
                  <a:srgbClr val="000099"/>
                </a:solidFill>
                <a:latin typeface="Arial"/>
                <a:ea typeface="Arial"/>
              </a:rPr>
              <a:t>ΕΙΣΗΓΗΤΗΣ: Γούπος Θεόδωρος,  δρ. Παιδαγωγικών,</a:t>
            </a:r>
            <a:br>
              <a:rPr sz="3200"/>
            </a:br>
            <a:endParaRPr b="0" lang="en-US" sz="1800" spc="-1" strike="noStrike">
              <a:solidFill>
                <a:srgbClr val="ffffff"/>
              </a:solidFill>
              <a:latin typeface="Times New Roman"/>
            </a:endParaRPr>
          </a:p>
        </p:txBody>
      </p:sp>
      <p:grpSp>
        <p:nvGrpSpPr>
          <p:cNvPr id="6401" name="Group 2"/>
          <p:cNvGrpSpPr/>
          <p:nvPr/>
        </p:nvGrpSpPr>
        <p:grpSpPr>
          <a:xfrm>
            <a:off x="0" y="115920"/>
            <a:ext cx="9142560" cy="6549840"/>
            <a:chOff x="0" y="115920"/>
            <a:chExt cx="9142560" cy="6549840"/>
          </a:xfrm>
        </p:grpSpPr>
        <p:grpSp>
          <p:nvGrpSpPr>
            <p:cNvPr id="6402" name="Group 3"/>
            <p:cNvGrpSpPr/>
            <p:nvPr/>
          </p:nvGrpSpPr>
          <p:grpSpPr>
            <a:xfrm>
              <a:off x="0" y="115920"/>
              <a:ext cx="9142560" cy="6549840"/>
              <a:chOff x="0" y="115920"/>
              <a:chExt cx="9142560" cy="6549840"/>
            </a:xfrm>
          </p:grpSpPr>
          <p:sp>
            <p:nvSpPr>
              <p:cNvPr id="640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0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8"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2"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Ως συνδιδασκαλία </a:t>
            </a:r>
            <a:r>
              <a:rPr b="0" lang="el-GR" sz="2800" spc="-1" strike="noStrike">
                <a:solidFill>
                  <a:srgbClr val="000000"/>
                </a:solidFill>
                <a:latin typeface="Times New Roman"/>
              </a:rPr>
              <a:t>μπορεί να οριστεί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την οποία διαχειρίζονται από κοινού και έχουν ως σκοπό την προσέγγιση από όλους τους μαθητές, με ειδικές εκπαιδευτικές ανάγκες και αναπηρίες αλλά και χωρίς» </a:t>
            </a:r>
            <a:r>
              <a:rPr b="0" lang="el-GR" sz="2800" spc="-1" strike="noStrike">
                <a:solidFill>
                  <a:srgbClr val="000000"/>
                </a:solidFill>
                <a:latin typeface="Times New Roman"/>
              </a:rPr>
              <a:t>(</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Bursuck</a:t>
            </a:r>
            <a:r>
              <a:rPr b="0" lang="el-GR" sz="2800" spc="-1" strike="noStrike">
                <a:solidFill>
                  <a:srgbClr val="000000"/>
                </a:solidFill>
                <a:latin typeface="Times New Roman"/>
              </a:rPr>
              <a:t>, 2009·</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2). </a:t>
            </a:r>
            <a:br>
              <a:rPr sz="2000"/>
            </a:br>
            <a:endParaRPr b="0" lang="en-US" sz="2800" spc="-1" strike="noStrike">
              <a:solidFill>
                <a:srgbClr val="ffffff"/>
              </a:solidFill>
              <a:latin typeface="Times New Roman"/>
            </a:endParaRPr>
          </a:p>
        </p:txBody>
      </p:sp>
      <p:grpSp>
        <p:nvGrpSpPr>
          <p:cNvPr id="6563" name="Group 2"/>
          <p:cNvGrpSpPr/>
          <p:nvPr/>
        </p:nvGrpSpPr>
        <p:grpSpPr>
          <a:xfrm>
            <a:off x="0" y="115920"/>
            <a:ext cx="9142560" cy="6549840"/>
            <a:chOff x="0" y="115920"/>
            <a:chExt cx="9142560" cy="6549840"/>
          </a:xfrm>
        </p:grpSpPr>
        <p:grpSp>
          <p:nvGrpSpPr>
            <p:cNvPr id="6564" name="Group 3"/>
            <p:cNvGrpSpPr/>
            <p:nvPr/>
          </p:nvGrpSpPr>
          <p:grpSpPr>
            <a:xfrm>
              <a:off x="0" y="115920"/>
              <a:ext cx="9142560" cy="6549840"/>
              <a:chOff x="0" y="115920"/>
              <a:chExt cx="9142560" cy="6549840"/>
            </a:xfrm>
          </p:grpSpPr>
          <p:sp>
            <p:nvSpPr>
              <p:cNvPr id="656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6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9" name="Rectangle 8"/>
          <p:cNvSpPr/>
          <p:nvPr/>
        </p:nvSpPr>
        <p:spPr>
          <a:xfrm>
            <a:off x="324000" y="1268280"/>
            <a:ext cx="8564400" cy="482472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0"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1"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όχοι της συνδιδασκαλίας</a:t>
            </a:r>
            <a:br>
              <a:rPr sz="2800"/>
            </a:br>
            <a:br>
              <a:rPr sz="2800"/>
            </a:br>
            <a:r>
              <a:rPr b="0" lang="el-GR" sz="2800" spc="-1" strike="noStrike">
                <a:solidFill>
                  <a:srgbClr val="000000"/>
                </a:solidFill>
                <a:latin typeface="Times New Roman"/>
              </a:rPr>
              <a:t>Αύξηση των εκπαιδευτικών επιλογών </a:t>
            </a:r>
            <a:br>
              <a:rPr sz="2800"/>
            </a:br>
            <a:r>
              <a:rPr b="0" lang="el-GR" sz="2800" spc="-1" strike="noStrike">
                <a:solidFill>
                  <a:srgbClr val="000000"/>
                </a:solidFill>
                <a:latin typeface="Times New Roman"/>
              </a:rPr>
              <a:t>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a:t>
            </a:r>
            <a:br>
              <a:rPr sz="2800"/>
            </a:br>
            <a:r>
              <a:rPr b="0" lang="el-GR" sz="2800" spc="-1" strike="noStrike">
                <a:solidFill>
                  <a:srgbClr val="000000"/>
                </a:solidFill>
                <a:latin typeface="Times New Roman"/>
              </a:rPr>
              <a:t>των μαθητών αμεα</a:t>
            </a:r>
            <a:br>
              <a:rPr sz="2800"/>
            </a:br>
            <a:br>
              <a:rPr sz="2800"/>
            </a:br>
            <a:r>
              <a:rPr b="0" lang="el-GR" sz="2800" spc="-1" strike="noStrike">
                <a:solidFill>
                  <a:srgbClr val="000000"/>
                </a:solidFill>
                <a:latin typeface="Times New Roman"/>
              </a:rPr>
              <a:t>Βελτίωση της απόδοσης στο σχολείο </a:t>
            </a:r>
            <a:br>
              <a:rPr sz="2800"/>
            </a:br>
            <a:r>
              <a:rPr b="0" lang="el-GR" sz="2800" spc="-1" strike="noStrike">
                <a:solidFill>
                  <a:srgbClr val="000000"/>
                </a:solidFill>
                <a:latin typeface="Times New Roman"/>
              </a:rPr>
              <a:t>των μαθητών αμεα ,</a:t>
            </a:r>
            <a:br>
              <a:rPr sz="2000"/>
            </a:br>
            <a:endParaRPr b="0" lang="en-US" sz="2800" spc="-1" strike="noStrike">
              <a:solidFill>
                <a:srgbClr val="ffffff"/>
              </a:solidFill>
              <a:latin typeface="Times New Roman"/>
            </a:endParaRPr>
          </a:p>
        </p:txBody>
      </p:sp>
      <p:grpSp>
        <p:nvGrpSpPr>
          <p:cNvPr id="6572" name="Group 2"/>
          <p:cNvGrpSpPr/>
          <p:nvPr/>
        </p:nvGrpSpPr>
        <p:grpSpPr>
          <a:xfrm>
            <a:off x="0" y="115920"/>
            <a:ext cx="9142560" cy="6549840"/>
            <a:chOff x="0" y="115920"/>
            <a:chExt cx="9142560" cy="6549840"/>
          </a:xfrm>
        </p:grpSpPr>
        <p:grpSp>
          <p:nvGrpSpPr>
            <p:cNvPr id="6573" name="Group 3"/>
            <p:cNvGrpSpPr/>
            <p:nvPr/>
          </p:nvGrpSpPr>
          <p:grpSpPr>
            <a:xfrm>
              <a:off x="0" y="115920"/>
              <a:ext cx="9142560" cy="6549840"/>
              <a:chOff x="0" y="115920"/>
              <a:chExt cx="9142560" cy="6549840"/>
            </a:xfrm>
          </p:grpSpPr>
          <p:sp>
            <p:nvSpPr>
              <p:cNvPr id="657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7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9"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0"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αμεα παραμένουν στα πλαίσια της γενικής τάξης, και η συνδιδασκαλία μπορεί να επιστρατεύεται είτε σε περιπτώσεις μαθητών με ελαφριές ή μετρίου επιπέδου αναπηρίες </a:t>
            </a:r>
            <a:br>
              <a:rPr sz="2800"/>
            </a:br>
            <a:r>
              <a:rPr b="0" lang="el-GR" sz="2800" spc="-1" strike="noStrike">
                <a:solidFill>
                  <a:srgbClr val="000000"/>
                </a:solidFill>
                <a:latin typeface="Times New Roman"/>
              </a:rPr>
              <a:t>ή να αποτελεί υποστηρικτική δομή για μαθητές με σοβαρές αναπηρίες. </a:t>
            </a:r>
            <a:endParaRPr b="0" lang="en-US" sz="2800" spc="-1" strike="noStrike">
              <a:solidFill>
                <a:srgbClr val="ffffff"/>
              </a:solidFill>
              <a:latin typeface="Times New Roman"/>
            </a:endParaRPr>
          </a:p>
        </p:txBody>
      </p:sp>
      <p:grpSp>
        <p:nvGrpSpPr>
          <p:cNvPr id="6581" name="Group 2"/>
          <p:cNvGrpSpPr/>
          <p:nvPr/>
        </p:nvGrpSpPr>
        <p:grpSpPr>
          <a:xfrm>
            <a:off x="0" y="115920"/>
            <a:ext cx="9142560" cy="6549840"/>
            <a:chOff x="0" y="115920"/>
            <a:chExt cx="9142560" cy="6549840"/>
          </a:xfrm>
        </p:grpSpPr>
        <p:grpSp>
          <p:nvGrpSpPr>
            <p:cNvPr id="6582" name="Group 3"/>
            <p:cNvGrpSpPr/>
            <p:nvPr/>
          </p:nvGrpSpPr>
          <p:grpSpPr>
            <a:xfrm>
              <a:off x="0" y="115920"/>
              <a:ext cx="9142560" cy="6549840"/>
              <a:chOff x="0" y="115920"/>
              <a:chExt cx="9142560" cy="6549840"/>
            </a:xfrm>
          </p:grpSpPr>
          <p:sp>
            <p:nvSpPr>
              <p:cNvPr id="658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8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8"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9"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πλαίσια της συμπεριληπτικής εκπαίδευσης </a:t>
            </a:r>
            <a:br>
              <a:rPr sz="2800"/>
            </a:br>
            <a:r>
              <a:rPr b="0" lang="el-GR" sz="2800" spc="-1" strike="noStrike">
                <a:solidFill>
                  <a:srgbClr val="000000"/>
                </a:solidFill>
                <a:latin typeface="Times New Roman"/>
              </a:rPr>
              <a:t>και της διαφοροποιημένης διδασκαλίας, </a:t>
            </a:r>
            <a:br>
              <a:rPr sz="2800"/>
            </a:br>
            <a:r>
              <a:rPr b="0" lang="el-GR" sz="2800" spc="-1" strike="noStrike">
                <a:solidFill>
                  <a:srgbClr val="000000"/>
                </a:solidFill>
                <a:latin typeface="Times New Roman"/>
              </a:rPr>
              <a:t>η συνδιδασκαλία έρχεται και παρέχει δυνατότητες και υποστηρικτική βοήθεια στους μαθητές </a:t>
            </a:r>
            <a:br>
              <a:rPr sz="2800"/>
            </a:br>
            <a:r>
              <a:rPr b="0" lang="el-GR" sz="2800" spc="-1" strike="noStrike">
                <a:solidFill>
                  <a:srgbClr val="000000"/>
                </a:solidFill>
                <a:latin typeface="Times New Roman"/>
              </a:rPr>
              <a:t>με ειδικές εκπαιδευτικές ανάγκες και </a:t>
            </a:r>
            <a:br>
              <a:rPr sz="2800"/>
            </a:br>
            <a:r>
              <a:rPr b="0" lang="el-GR" sz="2800" spc="-1" strike="noStrike">
                <a:solidFill>
                  <a:srgbClr val="000000"/>
                </a:solidFill>
                <a:latin typeface="Times New Roman"/>
              </a:rPr>
              <a:t>αναπηρία μέσα στη γενική τάξη . </a:t>
            </a:r>
            <a:endParaRPr b="0" lang="en-US" sz="2800" spc="-1" strike="noStrike">
              <a:solidFill>
                <a:srgbClr val="ffffff"/>
              </a:solidFill>
              <a:latin typeface="Times New Roman"/>
            </a:endParaRPr>
          </a:p>
        </p:txBody>
      </p:sp>
      <p:grpSp>
        <p:nvGrpSpPr>
          <p:cNvPr id="6590" name="Group 2"/>
          <p:cNvGrpSpPr/>
          <p:nvPr/>
        </p:nvGrpSpPr>
        <p:grpSpPr>
          <a:xfrm>
            <a:off x="0" y="115920"/>
            <a:ext cx="9142560" cy="6549840"/>
            <a:chOff x="0" y="115920"/>
            <a:chExt cx="9142560" cy="6549840"/>
          </a:xfrm>
        </p:grpSpPr>
        <p:grpSp>
          <p:nvGrpSpPr>
            <p:cNvPr id="6591" name="Group 3"/>
            <p:cNvGrpSpPr/>
            <p:nvPr/>
          </p:nvGrpSpPr>
          <p:grpSpPr>
            <a:xfrm>
              <a:off x="0" y="115920"/>
              <a:ext cx="9142560" cy="6549840"/>
              <a:chOff x="0" y="115920"/>
              <a:chExt cx="9142560" cy="6549840"/>
            </a:xfrm>
          </p:grpSpPr>
          <p:sp>
            <p:nvSpPr>
              <p:cNvPr id="659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9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7"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8"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1" lang="el-GR" sz="2800" spc="-1" strike="noStrike">
                <a:solidFill>
                  <a:srgbClr val="000000"/>
                </a:solidFill>
                <a:latin typeface="Times New Roman"/>
              </a:rPr>
              <a:t>συνεργασία ειδικού και γενικού παιδαγωγού </a:t>
            </a:r>
            <a:r>
              <a:rPr b="0" lang="el-GR" sz="2800" spc="-1" strike="noStrike">
                <a:solidFill>
                  <a:srgbClr val="000000"/>
                </a:solidFill>
                <a:latin typeface="Times New Roman"/>
              </a:rPr>
              <a:t>αποτελεί πρόκληση για την εκπαιδευτική κοινότητα, </a:t>
            </a:r>
            <a:br>
              <a:rPr sz="2800"/>
            </a:br>
            <a:r>
              <a:rPr b="0" lang="el-GR" sz="2800" spc="-1" strike="noStrike">
                <a:solidFill>
                  <a:srgbClr val="000000"/>
                </a:solidFill>
                <a:latin typeface="Times New Roman"/>
              </a:rPr>
              <a:t>καθώς απαιτεί το σεβασμό των εκπαιδευτικών στις σύγχρονες αντιλήψεις, με σκοπό να δημιουργεί ένα περιβάλλον μάθησης που θα ευνοεί την ανάπτυξη δεξιοτήτων, γνώσεων και στάσεων </a:t>
            </a:r>
            <a:br>
              <a:rPr sz="2800"/>
            </a:br>
            <a:r>
              <a:rPr b="0" lang="el-GR" sz="2800" spc="-1" strike="noStrike">
                <a:solidFill>
                  <a:srgbClr val="000000"/>
                </a:solidFill>
                <a:latin typeface="Times New Roman"/>
              </a:rPr>
              <a:t>από την πλευρά των μαθητών.</a:t>
            </a:r>
            <a:endParaRPr b="0" lang="en-US" sz="2800" spc="-1" strike="noStrike">
              <a:solidFill>
                <a:srgbClr val="ffffff"/>
              </a:solidFill>
              <a:latin typeface="Times New Roman"/>
            </a:endParaRPr>
          </a:p>
        </p:txBody>
      </p:sp>
      <p:grpSp>
        <p:nvGrpSpPr>
          <p:cNvPr id="6599" name="Group 2"/>
          <p:cNvGrpSpPr/>
          <p:nvPr/>
        </p:nvGrpSpPr>
        <p:grpSpPr>
          <a:xfrm>
            <a:off x="0" y="115920"/>
            <a:ext cx="9142560" cy="6549840"/>
            <a:chOff x="0" y="115920"/>
            <a:chExt cx="9142560" cy="6549840"/>
          </a:xfrm>
        </p:grpSpPr>
        <p:grpSp>
          <p:nvGrpSpPr>
            <p:cNvPr id="6600" name="Group 3"/>
            <p:cNvGrpSpPr/>
            <p:nvPr/>
          </p:nvGrpSpPr>
          <p:grpSpPr>
            <a:xfrm>
              <a:off x="0" y="115920"/>
              <a:ext cx="9142560" cy="6549840"/>
              <a:chOff x="0" y="115920"/>
              <a:chExt cx="9142560" cy="6549840"/>
            </a:xfrm>
          </p:grpSpPr>
          <p:sp>
            <p:nvSpPr>
              <p:cNvPr id="660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0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6"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7"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απαιτείται  να χτίσουν σχέσεις εμπιστοσύνης μεταξύ τους , να είναι ανοιχτοί </a:t>
            </a:r>
            <a:br>
              <a:rPr sz="2800"/>
            </a:br>
            <a:r>
              <a:rPr b="0" lang="el-GR" sz="2800" spc="-1" strike="noStrike">
                <a:solidFill>
                  <a:srgbClr val="000000"/>
                </a:solidFill>
                <a:latin typeface="Times New Roman"/>
              </a:rPr>
              <a:t>στο να υιοθετήσουν διαφορετικά στυλ διδασκαλίας </a:t>
            </a:r>
            <a:br>
              <a:rPr sz="2800"/>
            </a:br>
            <a:r>
              <a:rPr b="0" lang="el-GR" sz="2800" spc="-1" strike="noStrike">
                <a:solidFill>
                  <a:srgbClr val="000000"/>
                </a:solidFill>
                <a:latin typeface="Times New Roman"/>
              </a:rPr>
              <a:t>από κάποιο συνάδελφό τους .</a:t>
            </a:r>
            <a:endParaRPr b="0" lang="en-US" sz="2800" spc="-1" strike="noStrike">
              <a:solidFill>
                <a:srgbClr val="ffffff"/>
              </a:solidFill>
              <a:latin typeface="Times New Roman"/>
            </a:endParaRPr>
          </a:p>
        </p:txBody>
      </p:sp>
      <p:grpSp>
        <p:nvGrpSpPr>
          <p:cNvPr id="6608" name="Group 2"/>
          <p:cNvGrpSpPr/>
          <p:nvPr/>
        </p:nvGrpSpPr>
        <p:grpSpPr>
          <a:xfrm>
            <a:off x="0" y="115920"/>
            <a:ext cx="9142560" cy="6549840"/>
            <a:chOff x="0" y="115920"/>
            <a:chExt cx="9142560" cy="6549840"/>
          </a:xfrm>
        </p:grpSpPr>
        <p:grpSp>
          <p:nvGrpSpPr>
            <p:cNvPr id="6609" name="Group 3"/>
            <p:cNvGrpSpPr/>
            <p:nvPr/>
          </p:nvGrpSpPr>
          <p:grpSpPr>
            <a:xfrm>
              <a:off x="0" y="115920"/>
              <a:ext cx="9142560" cy="6549840"/>
              <a:chOff x="0" y="115920"/>
              <a:chExt cx="9142560" cy="6549840"/>
            </a:xfrm>
          </p:grpSpPr>
          <p:sp>
            <p:nvSpPr>
              <p:cNvPr id="661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1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5"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6"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διδάσκαλοι είναι σημαντικό να εργάζονται σε πλαίσια διαφοροποιημένης διδασκαλίας και να επιστρατεύουν εποικοδομητικές προσεγγίσεις, ώστε να ενισχύουν τους μαθητές αμεα στη γενική τάξη να χειρίζονται με κατάλληλο τρόπο εποπτικά μέσα διδασκαλίας και τα εκπαιδευτικά υλικά.  Ακόμη, είναι αποτελεσματικό οι εκπαιδευτικοί να χρησιμοποιούν ΤΠΕ και νοητικά σχήματα και εργαλεία στη γενική τάξη με στόχο την ενίσχυση της συμμετοχής και την ανταπόκριση στις μαθησιακές ανάγκες των μαθητών αμεα. </a:t>
            </a:r>
            <a:endParaRPr b="0" lang="en-US" sz="2800" spc="-1" strike="noStrike">
              <a:solidFill>
                <a:srgbClr val="ffffff"/>
              </a:solidFill>
              <a:latin typeface="Times New Roman"/>
            </a:endParaRPr>
          </a:p>
        </p:txBody>
      </p:sp>
      <p:grpSp>
        <p:nvGrpSpPr>
          <p:cNvPr id="6617" name="Group 2"/>
          <p:cNvGrpSpPr/>
          <p:nvPr/>
        </p:nvGrpSpPr>
        <p:grpSpPr>
          <a:xfrm>
            <a:off x="0" y="115920"/>
            <a:ext cx="9142560" cy="6549840"/>
            <a:chOff x="0" y="115920"/>
            <a:chExt cx="9142560" cy="6549840"/>
          </a:xfrm>
        </p:grpSpPr>
        <p:grpSp>
          <p:nvGrpSpPr>
            <p:cNvPr id="6618" name="Group 3"/>
            <p:cNvGrpSpPr/>
            <p:nvPr/>
          </p:nvGrpSpPr>
          <p:grpSpPr>
            <a:xfrm>
              <a:off x="0" y="115920"/>
              <a:ext cx="9142560" cy="6549840"/>
              <a:chOff x="0" y="115920"/>
              <a:chExt cx="9142560" cy="6549840"/>
            </a:xfrm>
          </p:grpSpPr>
          <p:sp>
            <p:nvSpPr>
              <p:cNvPr id="661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2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4"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5"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ίναι ο ιδανικός τρόπος ως τρόπος ένταξης των μαθητών αμεα. </a:t>
            </a:r>
            <a:br>
              <a:rPr sz="2800"/>
            </a:br>
            <a:r>
              <a:rPr b="0" lang="el-GR" sz="2800" spc="-1" strike="noStrike">
                <a:solidFill>
                  <a:srgbClr val="000000"/>
                </a:solidFill>
                <a:latin typeface="Times New Roman"/>
              </a:rPr>
              <a:t> Οι εκπαιδευτικοί έχουν τη δυνατότητα να παρέχουν ευκαιρίες ,ώστε όλοι οι μαθητές να αλληλεπιδρούν κοινωνικά μεταξύ τους και να καλλιεργείται αμοιβαίος σεβασμός και αλληλο-αποδοχή  στις μεταξύ τους σχέσεις. </a:t>
            </a:r>
            <a:endParaRPr b="0" lang="en-US" sz="2800" spc="-1" strike="noStrike">
              <a:solidFill>
                <a:srgbClr val="ffffff"/>
              </a:solidFill>
              <a:latin typeface="Times New Roman"/>
            </a:endParaRPr>
          </a:p>
        </p:txBody>
      </p:sp>
      <p:grpSp>
        <p:nvGrpSpPr>
          <p:cNvPr id="6626" name="Group 2"/>
          <p:cNvGrpSpPr/>
          <p:nvPr/>
        </p:nvGrpSpPr>
        <p:grpSpPr>
          <a:xfrm>
            <a:off x="0" y="115920"/>
            <a:ext cx="9142560" cy="6549840"/>
            <a:chOff x="0" y="115920"/>
            <a:chExt cx="9142560" cy="6549840"/>
          </a:xfrm>
        </p:grpSpPr>
        <p:grpSp>
          <p:nvGrpSpPr>
            <p:cNvPr id="6627" name="Group 3"/>
            <p:cNvGrpSpPr/>
            <p:nvPr/>
          </p:nvGrpSpPr>
          <p:grpSpPr>
            <a:xfrm>
              <a:off x="0" y="115920"/>
              <a:ext cx="9142560" cy="6549840"/>
              <a:chOff x="0" y="115920"/>
              <a:chExt cx="9142560" cy="6549840"/>
            </a:xfrm>
          </p:grpSpPr>
          <p:sp>
            <p:nvSpPr>
              <p:cNvPr id="662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3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3"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4"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Μέσα από την συνδιδασκαλία ικανοποιούνται ποικίλες μαθησιακές ανάγκες και εφαρμόζονται  μαθησιακά στυλ. </a:t>
            </a:r>
            <a:br>
              <a:rPr sz="2400"/>
            </a:br>
            <a:br>
              <a:rPr sz="2400"/>
            </a:br>
            <a:r>
              <a:rPr b="0" lang="el-GR" sz="2400" spc="-1" strike="noStrike">
                <a:solidFill>
                  <a:srgbClr val="000000"/>
                </a:solidFill>
                <a:latin typeface="Times New Roman"/>
              </a:rPr>
              <a:t> Παρέχονται κατά κανόνα  υψηλότερου  επιπέδου </a:t>
            </a:r>
            <a:br>
              <a:rPr sz="2400"/>
            </a:br>
            <a:r>
              <a:rPr b="0" lang="el-GR" sz="2400" spc="-1" strike="noStrike">
                <a:solidFill>
                  <a:srgbClr val="000000"/>
                </a:solidFill>
                <a:latin typeface="Times New Roman"/>
              </a:rPr>
              <a:t>εκπαιδευτικές υπηρεσίες με θετικά αποτελέσματα και για  όλα τα παιδιά και κυρίως και για τα χαρισματικά παιδιά </a:t>
            </a:r>
            <a:br>
              <a:rPr sz="2400"/>
            </a:br>
            <a:r>
              <a:rPr b="0" lang="el-GR" sz="2400" spc="-1" strike="noStrike">
                <a:solidFill>
                  <a:srgbClr val="000000"/>
                </a:solidFill>
                <a:latin typeface="Times New Roman"/>
              </a:rPr>
              <a:t>και για παιδιά  που βρίσκονται στον κίνδυνο να αποτύχουν. </a:t>
            </a:r>
            <a:endParaRPr b="0" lang="en-US" sz="2400" spc="-1" strike="noStrike">
              <a:solidFill>
                <a:srgbClr val="ffffff"/>
              </a:solidFill>
              <a:latin typeface="Times New Roman"/>
            </a:endParaRPr>
          </a:p>
        </p:txBody>
      </p:sp>
      <p:grpSp>
        <p:nvGrpSpPr>
          <p:cNvPr id="6635" name="Group 2"/>
          <p:cNvGrpSpPr/>
          <p:nvPr/>
        </p:nvGrpSpPr>
        <p:grpSpPr>
          <a:xfrm>
            <a:off x="0" y="115920"/>
            <a:ext cx="9142560" cy="6549840"/>
            <a:chOff x="0" y="115920"/>
            <a:chExt cx="9142560" cy="6549840"/>
          </a:xfrm>
        </p:grpSpPr>
        <p:grpSp>
          <p:nvGrpSpPr>
            <p:cNvPr id="6636" name="Group 3"/>
            <p:cNvGrpSpPr/>
            <p:nvPr/>
          </p:nvGrpSpPr>
          <p:grpSpPr>
            <a:xfrm>
              <a:off x="0" y="115920"/>
              <a:ext cx="9142560" cy="6549840"/>
              <a:chOff x="0" y="115920"/>
              <a:chExt cx="9142560" cy="6549840"/>
            </a:xfrm>
          </p:grpSpPr>
          <p:sp>
            <p:nvSpPr>
              <p:cNvPr id="663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3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2"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3"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οσθέτως, βελτιώνεται ο τρόπος πρόσβασης των μαθητών στη σχολική μάθηση,  εξειδικεύεται η παροχή διδακτικών οδηγιών, ενώ είναι δυνατό να παρέχεται εξατομικευμένη διδασκαλία  </a:t>
            </a:r>
            <a:br>
              <a:rPr sz="2800"/>
            </a:br>
            <a:r>
              <a:rPr b="0" lang="el-GR" sz="2800" spc="-1" strike="noStrike">
                <a:solidFill>
                  <a:srgbClr val="000000"/>
                </a:solidFill>
                <a:latin typeface="Times New Roman"/>
              </a:rPr>
              <a:t>και περισσότερος χρόνος για εργασίες. </a:t>
            </a:r>
            <a:br>
              <a:rPr sz="2800"/>
            </a:br>
            <a:br>
              <a:rPr sz="2800"/>
            </a:br>
            <a:br>
              <a:rPr sz="2000"/>
            </a:br>
            <a:endParaRPr b="0" lang="en-US" sz="2800" spc="-1" strike="noStrike">
              <a:solidFill>
                <a:srgbClr val="ffffff"/>
              </a:solidFill>
              <a:latin typeface="Times New Roman"/>
            </a:endParaRPr>
          </a:p>
        </p:txBody>
      </p:sp>
      <p:grpSp>
        <p:nvGrpSpPr>
          <p:cNvPr id="6644" name="Group 2"/>
          <p:cNvGrpSpPr/>
          <p:nvPr/>
        </p:nvGrpSpPr>
        <p:grpSpPr>
          <a:xfrm>
            <a:off x="0" y="115920"/>
            <a:ext cx="9142560" cy="6549840"/>
            <a:chOff x="0" y="115920"/>
            <a:chExt cx="9142560" cy="6549840"/>
          </a:xfrm>
        </p:grpSpPr>
        <p:grpSp>
          <p:nvGrpSpPr>
            <p:cNvPr id="6645" name="Group 3"/>
            <p:cNvGrpSpPr/>
            <p:nvPr/>
          </p:nvGrpSpPr>
          <p:grpSpPr>
            <a:xfrm>
              <a:off x="0" y="115920"/>
              <a:ext cx="9142560" cy="6549840"/>
              <a:chOff x="0" y="115920"/>
              <a:chExt cx="9142560" cy="6549840"/>
            </a:xfrm>
          </p:grpSpPr>
          <p:sp>
            <p:nvSpPr>
              <p:cNvPr id="664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4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1"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κπαίδευση  των ατόμων με ειδικές εκπαιδευτικές ανάγκες</a:t>
            </a:r>
            <a:r>
              <a:rPr b="0" lang="en-US" sz="2800" spc="-1" strike="noStrike">
                <a:solidFill>
                  <a:srgbClr val="000000"/>
                </a:solidFill>
                <a:latin typeface="Times New Roman"/>
              </a:rPr>
              <a:t>(</a:t>
            </a:r>
            <a:r>
              <a:rPr b="0" lang="el-GR" sz="2800" spc="-1" strike="noStrike">
                <a:solidFill>
                  <a:srgbClr val="000000"/>
                </a:solidFill>
                <a:latin typeface="Times New Roman"/>
              </a:rPr>
              <a:t>αμεα) απασχολεί τη διεθνή κοινότητα όλο και περισσότερο τα τελευταία χρόνια. </a:t>
            </a:r>
            <a:endParaRPr b="0" lang="en-US" sz="2800" spc="-1" strike="noStrike">
              <a:solidFill>
                <a:srgbClr val="ffffff"/>
              </a:solidFill>
              <a:latin typeface="Times New Roman"/>
            </a:endParaRPr>
          </a:p>
        </p:txBody>
      </p:sp>
      <p:grpSp>
        <p:nvGrpSpPr>
          <p:cNvPr id="6410" name="Group 2"/>
          <p:cNvGrpSpPr/>
          <p:nvPr/>
        </p:nvGrpSpPr>
        <p:grpSpPr>
          <a:xfrm>
            <a:off x="0" y="115920"/>
            <a:ext cx="9142560" cy="6549840"/>
            <a:chOff x="0" y="115920"/>
            <a:chExt cx="9142560" cy="6549840"/>
          </a:xfrm>
        </p:grpSpPr>
        <p:grpSp>
          <p:nvGrpSpPr>
            <p:cNvPr id="6411" name="Group 3"/>
            <p:cNvGrpSpPr/>
            <p:nvPr/>
          </p:nvGrpSpPr>
          <p:grpSpPr>
            <a:xfrm>
              <a:off x="0" y="115920"/>
              <a:ext cx="9142560" cy="6549840"/>
              <a:chOff x="0" y="115920"/>
              <a:chExt cx="9142560" cy="6549840"/>
            </a:xfrm>
          </p:grpSpPr>
          <p:sp>
            <p:nvSpPr>
              <p:cNvPr id="641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1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7"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2"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Οι συν-διδασκάλοι μοιράζονται τις δυσκολίες τις αποτυχίες  καθώς και τις συναδελφικές ανησυχίες, πράγμα πολύ θετικό για την επαγγελματική τους εξέλιξη, καθώς έχουν τη δυνατότητα να ανταλλάσσουν απόψεις σχετικά με διδακτικές τεχνικές και φιλοσοφίες εκπαίδευσης . </a:t>
            </a:r>
            <a:br>
              <a:rPr sz="2000"/>
            </a:br>
            <a:endParaRPr b="0" lang="en-US" sz="2800" spc="-1" strike="noStrike">
              <a:solidFill>
                <a:srgbClr val="ffffff"/>
              </a:solidFill>
              <a:latin typeface="Times New Roman"/>
            </a:endParaRPr>
          </a:p>
        </p:txBody>
      </p:sp>
      <p:grpSp>
        <p:nvGrpSpPr>
          <p:cNvPr id="6653" name="Group 2"/>
          <p:cNvGrpSpPr/>
          <p:nvPr/>
        </p:nvGrpSpPr>
        <p:grpSpPr>
          <a:xfrm>
            <a:off x="0" y="115920"/>
            <a:ext cx="9142560" cy="6549840"/>
            <a:chOff x="0" y="115920"/>
            <a:chExt cx="9142560" cy="6549840"/>
          </a:xfrm>
        </p:grpSpPr>
        <p:grpSp>
          <p:nvGrpSpPr>
            <p:cNvPr id="6654" name="Group 3"/>
            <p:cNvGrpSpPr/>
            <p:nvPr/>
          </p:nvGrpSpPr>
          <p:grpSpPr>
            <a:xfrm>
              <a:off x="0" y="115920"/>
              <a:ext cx="9142560" cy="6549840"/>
              <a:chOff x="0" y="115920"/>
              <a:chExt cx="9142560" cy="6549840"/>
            </a:xfrm>
          </p:grpSpPr>
          <p:sp>
            <p:nvSpPr>
              <p:cNvPr id="665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5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0"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1"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Χαρακτηριστικά που διέπουν την συνδιδασκαλία</a:t>
            </a:r>
            <a:br>
              <a:rPr sz="2800"/>
            </a:br>
            <a:br>
              <a:rPr sz="2800"/>
            </a:br>
            <a:r>
              <a:rPr b="0" lang="el-GR" sz="2800" spc="-1" strike="noStrike">
                <a:solidFill>
                  <a:srgbClr val="000000"/>
                </a:solidFill>
                <a:latin typeface="Times New Roman"/>
              </a:rPr>
              <a:t>  Είναι απαραίτητο να οριοθετηθούν τα χαρακτηριστικά στοιχεία που διέπουν τη συνδιδασκαλία. </a:t>
            </a:r>
            <a:br>
              <a:rPr sz="2800"/>
            </a:br>
            <a:r>
              <a:rPr b="0" lang="el-GR" sz="2800" spc="-1" strike="noStrike">
                <a:solidFill>
                  <a:srgbClr val="000000"/>
                </a:solidFill>
                <a:latin typeface="Times New Roman"/>
              </a:rPr>
              <a:t>Πιο αναλυτικά, 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ffffff"/>
              </a:solidFill>
              <a:latin typeface="Times New Roman"/>
            </a:endParaRPr>
          </a:p>
        </p:txBody>
      </p:sp>
      <p:grpSp>
        <p:nvGrpSpPr>
          <p:cNvPr id="6662" name="Group 2"/>
          <p:cNvGrpSpPr/>
          <p:nvPr/>
        </p:nvGrpSpPr>
        <p:grpSpPr>
          <a:xfrm>
            <a:off x="0" y="115920"/>
            <a:ext cx="9142560" cy="6549840"/>
            <a:chOff x="0" y="115920"/>
            <a:chExt cx="9142560" cy="6549840"/>
          </a:xfrm>
        </p:grpSpPr>
        <p:grpSp>
          <p:nvGrpSpPr>
            <p:cNvPr id="6663" name="Group 3"/>
            <p:cNvGrpSpPr/>
            <p:nvPr/>
          </p:nvGrpSpPr>
          <p:grpSpPr>
            <a:xfrm>
              <a:off x="0" y="115920"/>
              <a:ext cx="9142560" cy="6549840"/>
              <a:chOff x="0" y="115920"/>
              <a:chExt cx="9142560" cy="6549840"/>
            </a:xfrm>
          </p:grpSpPr>
          <p:sp>
            <p:nvSpPr>
              <p:cNvPr id="666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6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9"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0"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συν-διδάσκαλοι πρέπει</a:t>
            </a:r>
            <a:r>
              <a:rPr b="0"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να μοιράζονται την ευθύνη της διδασκαλ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νεισφέρουν στην επίλυση προβλημάτων συμπεριφοράς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μμετέχουν από κοινού στην οργάνωση των ομάδων και </a:t>
            </a:r>
            <a:br>
              <a:rPr sz="2800"/>
            </a:br>
            <a:r>
              <a:rPr b="0" lang="el-GR" sz="2800" spc="-1" strike="noStrike">
                <a:solidFill>
                  <a:srgbClr val="000000"/>
                </a:solidFill>
                <a:latin typeface="Times New Roman"/>
              </a:rPr>
              <a:t>να  συμμετέχουν από κοινού στην κατανομή των ρόλων στην ομάδα, </a:t>
            </a:r>
            <a:br>
              <a:rPr sz="2000"/>
            </a:br>
            <a:endParaRPr b="0" lang="en-US" sz="2800" spc="-1" strike="noStrike">
              <a:solidFill>
                <a:srgbClr val="ffffff"/>
              </a:solidFill>
              <a:latin typeface="Times New Roman"/>
            </a:endParaRPr>
          </a:p>
        </p:txBody>
      </p:sp>
      <p:grpSp>
        <p:nvGrpSpPr>
          <p:cNvPr id="6671" name="Group 2"/>
          <p:cNvGrpSpPr/>
          <p:nvPr/>
        </p:nvGrpSpPr>
        <p:grpSpPr>
          <a:xfrm>
            <a:off x="0" y="115920"/>
            <a:ext cx="9142560" cy="6549840"/>
            <a:chOff x="0" y="115920"/>
            <a:chExt cx="9142560" cy="6549840"/>
          </a:xfrm>
        </p:grpSpPr>
        <p:grpSp>
          <p:nvGrpSpPr>
            <p:cNvPr id="6672" name="Group 3"/>
            <p:cNvGrpSpPr/>
            <p:nvPr/>
          </p:nvGrpSpPr>
          <p:grpSpPr>
            <a:xfrm>
              <a:off x="0" y="115920"/>
              <a:ext cx="9142560" cy="6549840"/>
              <a:chOff x="0" y="115920"/>
              <a:chExt cx="9142560" cy="6549840"/>
            </a:xfrm>
          </p:grpSpPr>
          <p:sp>
            <p:nvSpPr>
              <p:cNvPr id="667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7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8"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9"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πιβάλει </a:t>
            </a:r>
            <a:br>
              <a:rPr sz="2800"/>
            </a:br>
            <a:r>
              <a:rPr b="0" lang="el-GR" sz="2800" spc="-1" strike="noStrike">
                <a:solidFill>
                  <a:srgbClr val="000000"/>
                </a:solidFill>
                <a:latin typeface="Times New Roman"/>
              </a:rPr>
              <a:t>η διδασκαλία όλων των μαθητών, συμπεριλαμβανομένων και αυτών με ειδικές εκπαιδευτικές ανάγκες(αμεα)  να γίνεται </a:t>
            </a:r>
            <a:br>
              <a:rPr sz="2800"/>
            </a:br>
            <a:r>
              <a:rPr b="0" lang="el-GR" sz="2800" spc="-1" strike="noStrike">
                <a:solidFill>
                  <a:srgbClr val="000000"/>
                </a:solidFill>
                <a:latin typeface="Times New Roman"/>
              </a:rPr>
              <a:t>στον ίδιο φυσικό χώρο, </a:t>
            </a:r>
            <a:br>
              <a:rPr sz="2800"/>
            </a:br>
            <a:r>
              <a:rPr b="0" lang="el-GR" sz="2800" spc="-1" strike="noStrike">
                <a:solidFill>
                  <a:srgbClr val="000000"/>
                </a:solidFill>
                <a:latin typeface="Times New Roman"/>
              </a:rPr>
              <a:t>δηλαδή στην ίδια αίθουσα διδασκαλίας και </a:t>
            </a:r>
            <a:br>
              <a:rPr sz="2800"/>
            </a:br>
            <a:r>
              <a:rPr b="0" lang="el-GR" sz="2800" spc="-1" strike="noStrike">
                <a:solidFill>
                  <a:srgbClr val="000000"/>
                </a:solidFill>
                <a:latin typeface="Times New Roman"/>
              </a:rPr>
              <a:t>να μετακινείται αν χρειάζεται ο ειδικός παιδαγωγός για λίγο με τους μαθητές αμεα σε κάποια άλλη αίθουσα, </a:t>
            </a:r>
            <a:br>
              <a:rPr sz="2800"/>
            </a:br>
            <a:r>
              <a:rPr b="0" lang="el-GR" sz="2800" spc="-1" strike="noStrike">
                <a:solidFill>
                  <a:srgbClr val="000000"/>
                </a:solidFill>
                <a:latin typeface="Times New Roman"/>
              </a:rPr>
              <a:t>ειδικά διαμορφωμένη,  που παρέχει </a:t>
            </a:r>
            <a:br>
              <a:rPr sz="2800"/>
            </a:br>
            <a:r>
              <a:rPr b="0" lang="el-GR" sz="2800" spc="-1" strike="noStrike">
                <a:solidFill>
                  <a:srgbClr val="000000"/>
                </a:solidFill>
                <a:latin typeface="Times New Roman"/>
              </a:rPr>
              <a:t>τα ανάλογα εποπτικά υλικά και μέσα διδασκαλίας</a:t>
            </a:r>
            <a:br>
              <a:rPr sz="2000"/>
            </a:br>
            <a:endParaRPr b="0" lang="en-US" sz="2800" spc="-1" strike="noStrike">
              <a:solidFill>
                <a:srgbClr val="ffffff"/>
              </a:solidFill>
              <a:latin typeface="Times New Roman"/>
            </a:endParaRPr>
          </a:p>
        </p:txBody>
      </p:sp>
      <p:grpSp>
        <p:nvGrpSpPr>
          <p:cNvPr id="6680" name="Group 2"/>
          <p:cNvGrpSpPr/>
          <p:nvPr/>
        </p:nvGrpSpPr>
        <p:grpSpPr>
          <a:xfrm>
            <a:off x="0" y="115920"/>
            <a:ext cx="9142560" cy="6549840"/>
            <a:chOff x="0" y="115920"/>
            <a:chExt cx="9142560" cy="6549840"/>
          </a:xfrm>
        </p:grpSpPr>
        <p:grpSp>
          <p:nvGrpSpPr>
            <p:cNvPr id="6681" name="Group 3"/>
            <p:cNvGrpSpPr/>
            <p:nvPr/>
          </p:nvGrpSpPr>
          <p:grpSpPr>
            <a:xfrm>
              <a:off x="0" y="115920"/>
              <a:ext cx="9142560" cy="6549840"/>
              <a:chOff x="0" y="115920"/>
              <a:chExt cx="9142560" cy="6549840"/>
            </a:xfrm>
          </p:grpSpPr>
          <p:sp>
            <p:nvSpPr>
              <p:cNvPr id="668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8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7"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8"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εν είναι</a:t>
            </a:r>
            <a:r>
              <a:rPr b="0" lang="el-GR" sz="2800" spc="-1" strike="noStrike">
                <a:solidFill>
                  <a:srgbClr val="000000"/>
                </a:solidFill>
                <a:latin typeface="Times New Roman"/>
              </a:rPr>
              <a:t> </a:t>
            </a:r>
            <a:r>
              <a:rPr b="1" lang="el-GR" sz="2800" spc="-1" strike="noStrike">
                <a:solidFill>
                  <a:srgbClr val="000000"/>
                </a:solidFill>
                <a:latin typeface="Times New Roman"/>
              </a:rPr>
              <a:t>Συνδιδασκαλία, </a:t>
            </a:r>
            <a:br>
              <a:rPr sz="2800"/>
            </a:br>
            <a:r>
              <a:rPr b="0" lang="el-GR" sz="2800" spc="-1" strike="noStrike">
                <a:solidFill>
                  <a:srgbClr val="000000"/>
                </a:solidFill>
                <a:latin typeface="Times New Roman"/>
              </a:rPr>
              <a:t>ο ένας εκπαιδευτικός να κάνει την προετοιμασία του μαθήματος και ο άλλος να διδάσκει, </a:t>
            </a:r>
            <a:br>
              <a:rPr sz="2800"/>
            </a:br>
            <a:r>
              <a:rPr b="0" lang="el-GR" sz="2800" spc="-1" strike="noStrike">
                <a:solidFill>
                  <a:srgbClr val="000000"/>
                </a:solidFill>
                <a:latin typeface="Times New Roman"/>
              </a:rPr>
              <a:t>ούτε και να κυριαρχούν και να υπερισχύουν οι παιδαγωγικές και διδακτικές   αντιλήψεις του ενός  μόνο εκπαιδευτικού. </a:t>
            </a:r>
            <a:endParaRPr b="0" lang="en-US" sz="2800" spc="-1" strike="noStrike">
              <a:solidFill>
                <a:srgbClr val="ffffff"/>
              </a:solidFill>
              <a:latin typeface="Times New Roman"/>
            </a:endParaRPr>
          </a:p>
        </p:txBody>
      </p:sp>
      <p:grpSp>
        <p:nvGrpSpPr>
          <p:cNvPr id="6689" name="Group 2"/>
          <p:cNvGrpSpPr/>
          <p:nvPr/>
        </p:nvGrpSpPr>
        <p:grpSpPr>
          <a:xfrm>
            <a:off x="0" y="115920"/>
            <a:ext cx="9142560" cy="6549840"/>
            <a:chOff x="0" y="115920"/>
            <a:chExt cx="9142560" cy="6549840"/>
          </a:xfrm>
        </p:grpSpPr>
        <p:grpSp>
          <p:nvGrpSpPr>
            <p:cNvPr id="6690" name="Group 3"/>
            <p:cNvGrpSpPr/>
            <p:nvPr/>
          </p:nvGrpSpPr>
          <p:grpSpPr>
            <a:xfrm>
              <a:off x="0" y="115920"/>
              <a:ext cx="9142560" cy="6549840"/>
              <a:chOff x="0" y="115920"/>
              <a:chExt cx="9142560" cy="6549840"/>
            </a:xfrm>
          </p:grpSpPr>
          <p:sp>
            <p:nvSpPr>
              <p:cNvPr id="669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9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6"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7" name="Text Box 1"/>
          <p:cNvSpPr/>
          <p:nvPr/>
        </p:nvSpPr>
        <p:spPr>
          <a:xfrm>
            <a:off x="324000" y="1268280"/>
            <a:ext cx="8351640" cy="45165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λανθάνοντες συνδυασμοί συνδιδασκαλίας </a:t>
            </a:r>
            <a:br>
              <a:rPr sz="2800"/>
            </a:br>
            <a:r>
              <a:rPr b="0" lang="el-GR" sz="2800" spc="-1" strike="noStrike">
                <a:solidFill>
                  <a:srgbClr val="000000"/>
                </a:solidFill>
                <a:latin typeface="Times New Roman"/>
              </a:rPr>
              <a:t>ο ένας να διδάσκει και ο άλλος να παρακολουθεί, </a:t>
            </a:r>
            <a:br>
              <a:rPr sz="2800"/>
            </a:br>
            <a:r>
              <a:rPr b="0" lang="el-GR" sz="2800" spc="-1" strike="noStrike">
                <a:solidFill>
                  <a:srgbClr val="000000"/>
                </a:solidFill>
                <a:latin typeface="Times New Roman"/>
              </a:rPr>
              <a:t>να διορθώνει φύλλα εργασίας και τετράδια </a:t>
            </a:r>
            <a:br>
              <a:rPr sz="2800"/>
            </a:br>
            <a:r>
              <a:rPr b="0" lang="el-GR" sz="2800" spc="-1" strike="noStrike">
                <a:solidFill>
                  <a:srgbClr val="000000"/>
                </a:solidFill>
                <a:latin typeface="Times New Roman"/>
              </a:rPr>
              <a:t>ή να βγάζει φωτοτυπίες, </a:t>
            </a:r>
            <a:br>
              <a:rPr sz="2800"/>
            </a:br>
            <a:r>
              <a:rPr b="0" lang="el-GR" sz="2800" spc="-1" strike="noStrike">
                <a:solidFill>
                  <a:srgbClr val="000000"/>
                </a:solidFill>
                <a:latin typeface="Times New Roman"/>
              </a:rPr>
              <a:t>να επιβλέπει </a:t>
            </a:r>
            <a:br>
              <a:rPr sz="2800"/>
            </a:br>
            <a:r>
              <a:rPr b="0" lang="el-GR" sz="2800" spc="-1" strike="noStrike">
                <a:solidFill>
                  <a:srgbClr val="000000"/>
                </a:solidFill>
                <a:latin typeface="Times New Roman"/>
              </a:rPr>
              <a:t>ή να διδάσκουν εναλλάξ τις ενότητες της σχολικής ύλης, </a:t>
            </a:r>
            <a:br>
              <a:rPr sz="2800"/>
            </a:br>
            <a:r>
              <a:rPr b="0" lang="el-GR" sz="2800" spc="-1" strike="noStrike">
                <a:solidFill>
                  <a:srgbClr val="000000"/>
                </a:solidFill>
                <a:latin typeface="Times New Roman"/>
              </a:rPr>
              <a:t>κάθε άλλο παρά στο πνεύμα της συνεκπαίδευσης </a:t>
            </a:r>
            <a:br>
              <a:rPr sz="2800"/>
            </a:br>
            <a:r>
              <a:rPr b="0" lang="el-GR" sz="2800" spc="-1" strike="noStrike">
                <a:solidFill>
                  <a:srgbClr val="000000"/>
                </a:solidFill>
                <a:latin typeface="Times New Roman"/>
              </a:rPr>
              <a:t>και της συνδιδασκαλίας βρίσκονται. </a:t>
            </a:r>
            <a:br>
              <a:rPr sz="2800"/>
            </a:b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698" name="Group 2"/>
          <p:cNvGrpSpPr/>
          <p:nvPr/>
        </p:nvGrpSpPr>
        <p:grpSpPr>
          <a:xfrm>
            <a:off x="0" y="115920"/>
            <a:ext cx="9142560" cy="6549840"/>
            <a:chOff x="0" y="115920"/>
            <a:chExt cx="9142560" cy="6549840"/>
          </a:xfrm>
        </p:grpSpPr>
        <p:grpSp>
          <p:nvGrpSpPr>
            <p:cNvPr id="6699" name="Group 3"/>
            <p:cNvGrpSpPr/>
            <p:nvPr/>
          </p:nvGrpSpPr>
          <p:grpSpPr>
            <a:xfrm>
              <a:off x="0" y="115920"/>
              <a:ext cx="9142560" cy="6549840"/>
              <a:chOff x="0" y="115920"/>
              <a:chExt cx="9142560" cy="6549840"/>
            </a:xfrm>
          </p:grpSpPr>
          <p:sp>
            <p:nvSpPr>
              <p:cNvPr id="670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0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5"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6"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Μειονεκτήματα- Πλεονεκτήματα Συνδιδασκαλίας</a:t>
            </a:r>
            <a:br>
              <a:rPr sz="2400"/>
            </a:br>
            <a:br>
              <a:rPr sz="2400"/>
            </a:br>
            <a:r>
              <a:rPr b="0" lang="el-GR" sz="2400" spc="-1" strike="noStrike">
                <a:solidFill>
                  <a:srgbClr val="000000"/>
                </a:solidFill>
                <a:latin typeface="Times New Roman"/>
              </a:rPr>
              <a:t>Η εφαρμογή του μοντέλου της συνδιδασκαλίας  προσφέρει υψηλότερου  επιπέδου εκπαιδευτικές υπηρεσίες στους μαθητές με ειδικές εκπαιδευτικές ανάγκες.</a:t>
            </a:r>
            <a:br>
              <a:rPr sz="2400"/>
            </a:br>
            <a:r>
              <a:rPr b="0" lang="el-GR" sz="2400" spc="-1" strike="noStrike">
                <a:solidFill>
                  <a:srgbClr val="000000"/>
                </a:solidFill>
                <a:latin typeface="Times New Roman"/>
              </a:rPr>
              <a:t> </a:t>
            </a:r>
            <a:br>
              <a:rPr sz="2400"/>
            </a:br>
            <a:r>
              <a:rPr b="0" lang="el-GR" sz="2400" spc="-1" strike="noStrike">
                <a:solidFill>
                  <a:srgbClr val="000000"/>
                </a:solidFill>
                <a:latin typeface="Times New Roman"/>
              </a:rPr>
              <a:t> Η πλήρης φοίτηση των παιδιών με ειδικές εκπαιδευτικές ανάγκες.  στη γενική τάξη παρουσιάζει  προβλήματα και δυσκολίες. </a:t>
            </a:r>
            <a:br>
              <a:rPr sz="2000"/>
            </a:br>
            <a:endParaRPr b="0" lang="en-US" sz="2400" spc="-1" strike="noStrike">
              <a:solidFill>
                <a:srgbClr val="ffffff"/>
              </a:solidFill>
              <a:latin typeface="Times New Roman"/>
            </a:endParaRPr>
          </a:p>
        </p:txBody>
      </p:sp>
      <p:grpSp>
        <p:nvGrpSpPr>
          <p:cNvPr id="6707" name="Group 2"/>
          <p:cNvGrpSpPr/>
          <p:nvPr/>
        </p:nvGrpSpPr>
        <p:grpSpPr>
          <a:xfrm>
            <a:off x="0" y="115920"/>
            <a:ext cx="9142560" cy="6549840"/>
            <a:chOff x="0" y="115920"/>
            <a:chExt cx="9142560" cy="6549840"/>
          </a:xfrm>
        </p:grpSpPr>
        <p:grpSp>
          <p:nvGrpSpPr>
            <p:cNvPr id="6708" name="Group 3"/>
            <p:cNvGrpSpPr/>
            <p:nvPr/>
          </p:nvGrpSpPr>
          <p:grpSpPr>
            <a:xfrm>
              <a:off x="0" y="115920"/>
              <a:ext cx="9142560" cy="6549840"/>
              <a:chOff x="0" y="115920"/>
              <a:chExt cx="9142560" cy="6549840"/>
            </a:xfrm>
          </p:grpSpPr>
          <p:sp>
            <p:nvSpPr>
              <p:cNvPr id="670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1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4"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5"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χετικά με τις γνωστικές και ακαδημαϊκές δεξιότητες οι μαθητές με ειδικές εκπαιδευτικές ανάγκες (αμεα)δυσκολεύονται στην κατανόηση του περιεχομένου των σχολικών βιβλίων </a:t>
            </a:r>
            <a:br>
              <a:rPr sz="2800"/>
            </a:br>
            <a:r>
              <a:rPr b="0" lang="el-GR" sz="2800" spc="-1" strike="noStrike">
                <a:solidFill>
                  <a:srgbClr val="000000"/>
                </a:solidFill>
                <a:latin typeface="Times New Roman"/>
              </a:rPr>
              <a:t>και στην ανάγνωση, </a:t>
            </a:r>
            <a:br>
              <a:rPr sz="2800"/>
            </a:br>
            <a:r>
              <a:rPr b="0" lang="el-GR" sz="2800" spc="-1" strike="noStrike">
                <a:solidFill>
                  <a:srgbClr val="000000"/>
                </a:solidFill>
                <a:latin typeface="Times New Roman"/>
              </a:rPr>
              <a:t>ενώ είναι επίσης δύσκολο για αυτούς </a:t>
            </a:r>
            <a:br>
              <a:rPr sz="2800"/>
            </a:br>
            <a:r>
              <a:rPr b="0" lang="el-GR" sz="2800" spc="-1" strike="noStrike">
                <a:solidFill>
                  <a:srgbClr val="000000"/>
                </a:solidFill>
                <a:latin typeface="Times New Roman"/>
              </a:rPr>
              <a:t>να συμμετέχουν σε τυπικές γνωστικές δραστηριότητες (</a:t>
            </a:r>
            <a:r>
              <a:rPr b="0" lang="en-US" sz="2800" spc="-1" strike="noStrike">
                <a:solidFill>
                  <a:srgbClr val="000000"/>
                </a:solidFill>
                <a:latin typeface="Times New Roman"/>
              </a:rPr>
              <a:t>Gauley</a:t>
            </a:r>
            <a:r>
              <a:rPr b="0" lang="el-GR" sz="2800" spc="-1" strike="noStrike">
                <a:solidFill>
                  <a:srgbClr val="000000"/>
                </a:solidFill>
                <a:latin typeface="Times New Roman"/>
              </a:rPr>
              <a:t> &amp; </a:t>
            </a:r>
            <a:r>
              <a:rPr b="0" lang="en-US" sz="2800" spc="-1" strike="noStrike">
                <a:solidFill>
                  <a:srgbClr val="000000"/>
                </a:solidFill>
                <a:latin typeface="Times New Roman"/>
              </a:rPr>
              <a:t>Parmar</a:t>
            </a:r>
            <a:r>
              <a:rPr b="0" lang="el-GR" sz="2800" spc="-1" strike="noStrike">
                <a:solidFill>
                  <a:srgbClr val="000000"/>
                </a:solidFill>
                <a:latin typeface="Times New Roman"/>
              </a:rPr>
              <a:t>, 2001). </a:t>
            </a:r>
            <a:br>
              <a:rPr sz="2800"/>
            </a:br>
            <a:br>
              <a:rPr sz="2800"/>
            </a:br>
            <a:br>
              <a:rPr sz="2000"/>
            </a:br>
            <a:endParaRPr b="0" lang="en-US" sz="2800" spc="-1" strike="noStrike">
              <a:solidFill>
                <a:srgbClr val="ffffff"/>
              </a:solidFill>
              <a:latin typeface="Times New Roman"/>
            </a:endParaRPr>
          </a:p>
        </p:txBody>
      </p:sp>
      <p:grpSp>
        <p:nvGrpSpPr>
          <p:cNvPr id="6716" name="Group 2"/>
          <p:cNvGrpSpPr/>
          <p:nvPr/>
        </p:nvGrpSpPr>
        <p:grpSpPr>
          <a:xfrm>
            <a:off x="0" y="115920"/>
            <a:ext cx="9142560" cy="6549840"/>
            <a:chOff x="0" y="115920"/>
            <a:chExt cx="9142560" cy="6549840"/>
          </a:xfrm>
        </p:grpSpPr>
        <p:grpSp>
          <p:nvGrpSpPr>
            <p:cNvPr id="6717" name="Group 3"/>
            <p:cNvGrpSpPr/>
            <p:nvPr/>
          </p:nvGrpSpPr>
          <p:grpSpPr>
            <a:xfrm>
              <a:off x="0" y="115920"/>
              <a:ext cx="9142560" cy="6549840"/>
              <a:chOff x="0" y="115920"/>
              <a:chExt cx="9142560" cy="6549840"/>
            </a:xfrm>
          </p:grpSpPr>
          <p:sp>
            <p:nvSpPr>
              <p:cNvPr id="671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2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3"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4"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rPr>
              <a:t>Επιπροσθέτως, το νέο λεξιλόγιο, η ορολογία και οι χαμηλές επιδόσεις στις θετικές επιστήμες, όπως και τα προβλήματα στην ανάγνωση και τη γραφή επηρεάζουν και τις μεταγνωστικές δεξιότητες των μαθητών με αναπηρία ή ειδικές εκπαιδευτικές ανάγκες που φοιτούν στη γενική τάξη (</a:t>
            </a:r>
            <a:r>
              <a:rPr b="0" lang="en-US" sz="2800" spc="-1" strike="noStrike">
                <a:solidFill>
                  <a:srgbClr val="000000"/>
                </a:solidFill>
                <a:latin typeface="Times New Roman"/>
              </a:rPr>
              <a:t>Hallahant</a:t>
            </a:r>
            <a:r>
              <a:rPr b="0" lang="el-GR" sz="2800" spc="-1" strike="noStrike">
                <a:solidFill>
                  <a:srgbClr val="000000"/>
                </a:solidFill>
                <a:latin typeface="Times New Roman"/>
              </a:rPr>
              <a:t> &amp; </a:t>
            </a:r>
            <a:r>
              <a:rPr b="0" lang="en-US" sz="2800" spc="-1" strike="noStrike">
                <a:solidFill>
                  <a:srgbClr val="000000"/>
                </a:solidFill>
                <a:latin typeface="Times New Roman"/>
              </a:rPr>
              <a:t>Kaufman</a:t>
            </a:r>
            <a:r>
              <a:rPr b="0" lang="el-GR" sz="2800" spc="-1" strike="noStrike">
                <a:solidFill>
                  <a:srgbClr val="000000"/>
                </a:solidFill>
                <a:latin typeface="Times New Roman"/>
              </a:rPr>
              <a:t>, 2006). </a:t>
            </a:r>
            <a:br>
              <a:rPr sz="2800"/>
            </a:br>
            <a:endParaRPr b="0" lang="en-US" sz="2800" spc="-1" strike="noStrike">
              <a:solidFill>
                <a:srgbClr val="ffffff"/>
              </a:solidFill>
              <a:latin typeface="Times New Roman"/>
            </a:endParaRPr>
          </a:p>
        </p:txBody>
      </p:sp>
      <p:grpSp>
        <p:nvGrpSpPr>
          <p:cNvPr id="6725" name="Group 2"/>
          <p:cNvGrpSpPr/>
          <p:nvPr/>
        </p:nvGrpSpPr>
        <p:grpSpPr>
          <a:xfrm>
            <a:off x="0" y="115920"/>
            <a:ext cx="9142560" cy="6549840"/>
            <a:chOff x="0" y="115920"/>
            <a:chExt cx="9142560" cy="6549840"/>
          </a:xfrm>
        </p:grpSpPr>
        <p:grpSp>
          <p:nvGrpSpPr>
            <p:cNvPr id="6726" name="Group 3"/>
            <p:cNvGrpSpPr/>
            <p:nvPr/>
          </p:nvGrpSpPr>
          <p:grpSpPr>
            <a:xfrm>
              <a:off x="0" y="115920"/>
              <a:ext cx="9142560" cy="6549840"/>
              <a:chOff x="0" y="115920"/>
              <a:chExt cx="9142560" cy="6549840"/>
            </a:xfrm>
          </p:grpSpPr>
          <p:sp>
            <p:nvSpPr>
              <p:cNvPr id="672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2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2"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όμως και η ύπαρξη δύο εκπαιδευτικών στην ίδια αίθουσα διδασκαλίας  είναι πολύ θετική, καθώς σε κάθε εκπαιδευτικό αντιστοιχούν λιγότεροι μαθητές και δίνεται η ευκαιρία για ποιοτικότερη υποστήριξη. </a:t>
            </a:r>
            <a:br>
              <a:rPr sz="2800"/>
            </a:br>
            <a:br>
              <a:rPr sz="2800"/>
            </a:br>
            <a:r>
              <a:rPr b="0" lang="el-GR" sz="2800" spc="-1" strike="noStrike">
                <a:solidFill>
                  <a:srgbClr val="000000"/>
                </a:solidFill>
                <a:latin typeface="Times New Roman"/>
              </a:rPr>
              <a:t>Επιπλέον, στο πλαίσιο της συνδιδασκαλίας είναι δυνατό να γίνονται πιο καίριες τροποποιήσεις  στην προσφορά της νέας γνώσης και έτσι οι μαθητές να την κατανοούν καλύτερα . </a:t>
            </a:r>
            <a:endParaRPr b="0" lang="en-US" sz="2800" spc="-1" strike="noStrike">
              <a:solidFill>
                <a:srgbClr val="ffffff"/>
              </a:solidFill>
              <a:latin typeface="Times New Roman"/>
            </a:endParaRPr>
          </a:p>
        </p:txBody>
      </p:sp>
      <p:grpSp>
        <p:nvGrpSpPr>
          <p:cNvPr id="6734" name="Group 2"/>
          <p:cNvGrpSpPr/>
          <p:nvPr/>
        </p:nvGrpSpPr>
        <p:grpSpPr>
          <a:xfrm>
            <a:off x="0" y="115920"/>
            <a:ext cx="9142560" cy="6549840"/>
            <a:chOff x="0" y="115920"/>
            <a:chExt cx="9142560" cy="6549840"/>
          </a:xfrm>
        </p:grpSpPr>
        <p:grpSp>
          <p:nvGrpSpPr>
            <p:cNvPr id="6735" name="Group 3"/>
            <p:cNvGrpSpPr/>
            <p:nvPr/>
          </p:nvGrpSpPr>
          <p:grpSpPr>
            <a:xfrm>
              <a:off x="0" y="115920"/>
              <a:ext cx="9142560" cy="6549840"/>
              <a:chOff x="0" y="115920"/>
              <a:chExt cx="9142560" cy="6549840"/>
            </a:xfrm>
          </p:grpSpPr>
          <p:sp>
            <p:nvSpPr>
              <p:cNvPr id="673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3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1"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8"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94, στο Παγκόσμιο Συνέδριο στη Σαλαμάνκα της Ισπανίας υπό την αιγίδ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ορίζεται ότι τα άτομα με ειδικές εκπαιδευτικές ανάγκες(αμεα) </a:t>
            </a:r>
            <a:br>
              <a:rPr sz="2800"/>
            </a:br>
            <a:r>
              <a:rPr b="0" lang="el-GR" sz="2800" spc="-1" strike="noStrike">
                <a:solidFill>
                  <a:srgbClr val="000000"/>
                </a:solidFill>
                <a:latin typeface="Times New Roman"/>
              </a:rPr>
              <a:t>πρέπει να έχουν πρόσβαση στα γενικά σχολεία, </a:t>
            </a:r>
            <a:br>
              <a:rPr sz="2800"/>
            </a:br>
            <a:r>
              <a:rPr b="0" lang="el-GR" sz="2800" spc="-1" strike="noStrike">
                <a:solidFill>
                  <a:srgbClr val="000000"/>
                </a:solidFill>
                <a:latin typeface="Times New Roman"/>
              </a:rPr>
              <a:t>στα οποία θα παρέχεται εκπαίδευση </a:t>
            </a:r>
            <a:br>
              <a:rPr sz="2800"/>
            </a:br>
            <a:r>
              <a:rPr b="0" lang="el-GR" sz="2800" spc="-1" strike="noStrike">
                <a:solidFill>
                  <a:srgbClr val="000000"/>
                </a:solidFill>
                <a:latin typeface="Times New Roman"/>
              </a:rPr>
              <a:t>ανάλογα με τις ανάγκες τους. </a:t>
            </a:r>
            <a:br>
              <a:rPr sz="2800"/>
            </a:br>
            <a:br>
              <a:rPr sz="2800"/>
            </a:br>
            <a:endParaRPr b="0" lang="en-US" sz="2800" spc="-1" strike="noStrike">
              <a:solidFill>
                <a:srgbClr val="ffffff"/>
              </a:solidFill>
              <a:latin typeface="Times New Roman"/>
            </a:endParaRPr>
          </a:p>
        </p:txBody>
      </p:sp>
      <p:grpSp>
        <p:nvGrpSpPr>
          <p:cNvPr id="6419" name="Group 2"/>
          <p:cNvGrpSpPr/>
          <p:nvPr/>
        </p:nvGrpSpPr>
        <p:grpSpPr>
          <a:xfrm>
            <a:off x="0" y="115920"/>
            <a:ext cx="9142560" cy="6549840"/>
            <a:chOff x="0" y="115920"/>
            <a:chExt cx="9142560" cy="6549840"/>
          </a:xfrm>
        </p:grpSpPr>
        <p:grpSp>
          <p:nvGrpSpPr>
            <p:cNvPr id="6420" name="Group 3"/>
            <p:cNvGrpSpPr/>
            <p:nvPr/>
          </p:nvGrpSpPr>
          <p:grpSpPr>
            <a:xfrm>
              <a:off x="0" y="115920"/>
              <a:ext cx="9142560" cy="6549840"/>
              <a:chOff x="0" y="115920"/>
              <a:chExt cx="9142560" cy="6549840"/>
            </a:xfrm>
          </p:grpSpPr>
          <p:sp>
            <p:nvSpPr>
              <p:cNvPr id="642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2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6"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2"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θέμα της συμπεριφοράς  μπορούν να υλοποιούνται διάφορες παιδαγωγικές παρεμβάσεις και υπάρχει καλύτερη αντιμετώπιση, αφού:</a:t>
            </a:r>
            <a:br>
              <a:rPr sz="2800"/>
            </a:br>
            <a:r>
              <a:rPr b="0" lang="el-GR" sz="2800" spc="-1" strike="noStrike">
                <a:solidFill>
                  <a:srgbClr val="000000"/>
                </a:solidFill>
                <a:latin typeface="Times New Roman"/>
              </a:rPr>
              <a:t> ο εκπαιδευτικός της γενικής αγωγής μπορεί να επιστρατεύσει την εμπειρία που έχει και </a:t>
            </a:r>
            <a:br>
              <a:rPr sz="2800"/>
            </a:br>
            <a:r>
              <a:rPr b="0" lang="el-GR" sz="2800" spc="-1" strike="noStrike">
                <a:solidFill>
                  <a:srgbClr val="000000"/>
                </a:solidFill>
                <a:latin typeface="Times New Roman"/>
              </a:rPr>
              <a:t>ο εκπαιδευτικός της ειδικής αγωγής μπορεί να προσφέρει στην υποστήριξη  και τη συμβουλευτική του δυναμική στη διαχείριση αυτών των προβληματικών συμπεριφορών </a:t>
            </a:r>
            <a:endParaRPr b="0" lang="en-US" sz="2800" spc="-1" strike="noStrike">
              <a:solidFill>
                <a:srgbClr val="ffffff"/>
              </a:solidFill>
              <a:latin typeface="Times New Roman"/>
            </a:endParaRPr>
          </a:p>
        </p:txBody>
      </p:sp>
      <p:grpSp>
        <p:nvGrpSpPr>
          <p:cNvPr id="6743" name="Group 2"/>
          <p:cNvGrpSpPr/>
          <p:nvPr/>
        </p:nvGrpSpPr>
        <p:grpSpPr>
          <a:xfrm>
            <a:off x="0" y="115920"/>
            <a:ext cx="9142560" cy="6549840"/>
            <a:chOff x="0" y="115920"/>
            <a:chExt cx="9142560" cy="6549840"/>
          </a:xfrm>
        </p:grpSpPr>
        <p:grpSp>
          <p:nvGrpSpPr>
            <p:cNvPr id="6744" name="Group 3"/>
            <p:cNvGrpSpPr/>
            <p:nvPr/>
          </p:nvGrpSpPr>
          <p:grpSpPr>
            <a:xfrm>
              <a:off x="0" y="115920"/>
              <a:ext cx="9142560" cy="6549840"/>
              <a:chOff x="0" y="115920"/>
              <a:chExt cx="9142560" cy="6549840"/>
            </a:xfrm>
          </p:grpSpPr>
          <p:sp>
            <p:nvSpPr>
              <p:cNvPr id="674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4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0"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μπορεί να συνεισφέρει  και στη διδασκαλία μνημονικών στρατηγικών καθώς η νέα γνώση παρουσιάζεται με πολλαπλές αναπαραστάσεις, μέσα από βιωματικές δραστηριότητες και εξατομικευμένα εκπαιδευτικά προγράμματα όπου χρειάζεται.</a:t>
            </a:r>
            <a:br>
              <a:rPr sz="2800"/>
            </a:br>
            <a:r>
              <a:rPr b="0" lang="el-GR" sz="2800" spc="-1" strike="noStrike">
                <a:solidFill>
                  <a:srgbClr val="000000"/>
                </a:solidFill>
                <a:latin typeface="Times New Roman"/>
              </a:rPr>
              <a:t> Έτσι, έχουμε τη διαφοροποιημένη διδασκαλία στην πράξη και την ανταπόκριση της  στις ποικίλες ανάγκες των μαθητών. </a:t>
            </a:r>
            <a:br>
              <a:rPr sz="2000"/>
            </a:br>
            <a:endParaRPr b="0" lang="en-US" sz="2800" spc="-1" strike="noStrike">
              <a:solidFill>
                <a:srgbClr val="ffffff"/>
              </a:solidFill>
              <a:latin typeface="Times New Roman"/>
            </a:endParaRPr>
          </a:p>
        </p:txBody>
      </p:sp>
      <p:grpSp>
        <p:nvGrpSpPr>
          <p:cNvPr id="6752" name="Group 2"/>
          <p:cNvGrpSpPr/>
          <p:nvPr/>
        </p:nvGrpSpPr>
        <p:grpSpPr>
          <a:xfrm>
            <a:off x="0" y="115920"/>
            <a:ext cx="9142560" cy="6549840"/>
            <a:chOff x="0" y="115920"/>
            <a:chExt cx="9142560" cy="6549840"/>
          </a:xfrm>
        </p:grpSpPr>
        <p:grpSp>
          <p:nvGrpSpPr>
            <p:cNvPr id="6753" name="Group 3"/>
            <p:cNvGrpSpPr/>
            <p:nvPr/>
          </p:nvGrpSpPr>
          <p:grpSpPr>
            <a:xfrm>
              <a:off x="0" y="115920"/>
              <a:ext cx="9142560" cy="6549840"/>
              <a:chOff x="0" y="115920"/>
              <a:chExt cx="9142560" cy="6549840"/>
            </a:xfrm>
          </p:grpSpPr>
          <p:sp>
            <p:nvSpPr>
              <p:cNvPr id="675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5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9"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0"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δεν ευνοεί μόνο τους μαθητές με αναπηρίες ή ειδικές εκπαιδευτικές ανάγκες, αλλά επηρεάζει  και τα διάφορα μαθησιακά στυλ που παρουσιάζουν οι μαθητές μέσα σε μία σύγχρονη σχολική τάξη . </a:t>
            </a:r>
            <a:br>
              <a:rPr sz="2800"/>
            </a:br>
            <a:br>
              <a:rPr sz="2800"/>
            </a:br>
            <a:r>
              <a:rPr b="0" lang="el-GR" sz="2800" spc="-1" strike="noStrike">
                <a:solidFill>
                  <a:srgbClr val="000000"/>
                </a:solidFill>
                <a:latin typeface="Times New Roman"/>
              </a:rPr>
              <a:t>Τέλος, σύμφωνα με τους </a:t>
            </a:r>
            <a:r>
              <a:rPr b="0" lang="en-US" sz="2800" spc="-1" strike="noStrike">
                <a:solidFill>
                  <a:srgbClr val="000000"/>
                </a:solidFill>
                <a:latin typeface="Times New Roman"/>
              </a:rPr>
              <a:t>Keefe</a:t>
            </a:r>
            <a:r>
              <a:rPr b="0" lang="el-GR" sz="2800" spc="-1" strike="noStrike">
                <a:solidFill>
                  <a:srgbClr val="000000"/>
                </a:solidFill>
                <a:latin typeface="Times New Roman"/>
              </a:rPr>
              <a:t> &amp; </a:t>
            </a:r>
            <a:r>
              <a:rPr b="0" lang="en-US" sz="2800" spc="-1" strike="noStrike">
                <a:solidFill>
                  <a:srgbClr val="000000"/>
                </a:solidFill>
                <a:latin typeface="Times New Roman"/>
              </a:rPr>
              <a:t>Moore </a:t>
            </a:r>
            <a:r>
              <a:rPr b="0" lang="el-GR" sz="2800" spc="-1" strike="noStrike">
                <a:solidFill>
                  <a:srgbClr val="000000"/>
                </a:solidFill>
                <a:latin typeface="Times New Roman"/>
              </a:rPr>
              <a:t>τα θετικά αποτελέσματα της συνδιδασκαλίας γίνονται άμεσα αντιληπτά στις βελτιωμένες ακαδημαϊκές δεξιότητες των μαθητών  </a:t>
            </a:r>
            <a:br>
              <a:rPr sz="2000"/>
            </a:br>
            <a:endParaRPr b="0" lang="en-US" sz="2800" spc="-1" strike="noStrike">
              <a:solidFill>
                <a:srgbClr val="ffffff"/>
              </a:solidFill>
              <a:latin typeface="Times New Roman"/>
            </a:endParaRPr>
          </a:p>
        </p:txBody>
      </p:sp>
      <p:grpSp>
        <p:nvGrpSpPr>
          <p:cNvPr id="6761" name="Group 2"/>
          <p:cNvGrpSpPr/>
          <p:nvPr/>
        </p:nvGrpSpPr>
        <p:grpSpPr>
          <a:xfrm>
            <a:off x="0" y="115920"/>
            <a:ext cx="9142560" cy="6549840"/>
            <a:chOff x="0" y="115920"/>
            <a:chExt cx="9142560" cy="6549840"/>
          </a:xfrm>
        </p:grpSpPr>
        <p:grpSp>
          <p:nvGrpSpPr>
            <p:cNvPr id="6762" name="Group 3"/>
            <p:cNvGrpSpPr/>
            <p:nvPr/>
          </p:nvGrpSpPr>
          <p:grpSpPr>
            <a:xfrm>
              <a:off x="0" y="115920"/>
              <a:ext cx="9142560" cy="6549840"/>
              <a:chOff x="0" y="115920"/>
              <a:chExt cx="9142560" cy="6549840"/>
            </a:xfrm>
          </p:grpSpPr>
          <p:sp>
            <p:nvSpPr>
              <p:cNvPr id="676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6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8"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ΕΙΔΗ  ΣΥΝΔΙΔΑΣΚΑΛΙΑΣ</a:t>
            </a:r>
            <a:br>
              <a:rPr sz="2400"/>
            </a:br>
            <a:r>
              <a:rPr b="0" lang="el-GR" sz="2400" spc="-1" strike="noStrike">
                <a:solidFill>
                  <a:srgbClr val="000000"/>
                </a:solidFill>
                <a:latin typeface="Times New Roman"/>
              </a:rPr>
              <a:t>Η  συνδιδασκαλία ως μεθόδου ένταξης και συνεκπαίδευσης έχει δημιουργήσει την  ανάγκη συνεργασίας μεταξύ των εκπαιδευτικών γενικής και ειδικής αγωγής . </a:t>
            </a:r>
            <a:br>
              <a:rPr sz="2400"/>
            </a:br>
            <a:r>
              <a:rPr b="0" lang="el-GR" sz="2400" spc="-1" strike="noStrike">
                <a:solidFill>
                  <a:srgbClr val="000000"/>
                </a:solidFill>
                <a:latin typeface="Times New Roman"/>
              </a:rPr>
              <a:t>Η συνεργασία αυτή επιτρέπει σημαντική ευελιξία στο σχεδιασμό και την εφαρμογή της εκπαιδευτικής διαδικασίας, </a:t>
            </a:r>
            <a:br>
              <a:rPr sz="2400"/>
            </a:br>
            <a:r>
              <a:rPr b="0" lang="el-GR" sz="2400" spc="-1" strike="noStrike">
                <a:solidFill>
                  <a:srgbClr val="000000"/>
                </a:solidFill>
                <a:latin typeface="Times New Roman"/>
              </a:rPr>
              <a:t>ώστε να υπάρχει ανταπόκριση στις ανάγκες των μαθητών.</a:t>
            </a:r>
            <a:br>
              <a:rPr sz="2000"/>
            </a:br>
            <a:endParaRPr b="0" lang="en-US" sz="2400" spc="-1" strike="noStrike">
              <a:solidFill>
                <a:srgbClr val="ffffff"/>
              </a:solidFill>
              <a:latin typeface="Times New Roman"/>
            </a:endParaRPr>
          </a:p>
        </p:txBody>
      </p:sp>
      <p:grpSp>
        <p:nvGrpSpPr>
          <p:cNvPr id="6770" name="Group 2"/>
          <p:cNvGrpSpPr/>
          <p:nvPr/>
        </p:nvGrpSpPr>
        <p:grpSpPr>
          <a:xfrm>
            <a:off x="0" y="115920"/>
            <a:ext cx="9142560" cy="6549840"/>
            <a:chOff x="0" y="115920"/>
            <a:chExt cx="9142560" cy="6549840"/>
          </a:xfrm>
        </p:grpSpPr>
        <p:grpSp>
          <p:nvGrpSpPr>
            <p:cNvPr id="6771" name="Group 3"/>
            <p:cNvGrpSpPr/>
            <p:nvPr/>
          </p:nvGrpSpPr>
          <p:grpSpPr>
            <a:xfrm>
              <a:off x="0" y="115920"/>
              <a:ext cx="9142560" cy="6549840"/>
              <a:chOff x="0" y="115920"/>
              <a:chExt cx="9142560" cy="6549840"/>
            </a:xfrm>
          </p:grpSpPr>
          <p:sp>
            <p:nvSpPr>
              <p:cNvPr id="677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7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7"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8"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Υπάρχουν διάφοροι τύποι-είδη συνδιδασκαλίας  </a:t>
            </a:r>
            <a:br>
              <a:rPr sz="2400"/>
            </a:br>
            <a:r>
              <a:rPr b="0" lang="el-GR" sz="2400" spc="-1" strike="noStrike">
                <a:solidFill>
                  <a:srgbClr val="000000"/>
                </a:solidFill>
                <a:latin typeface="Times New Roman"/>
              </a:rPr>
              <a:t>που αφορούν την αλληλεπίδραση και τον τρόπο συνεργασίας και συν-υπευθυνότητας των συν-διδασκάλων </a:t>
            </a:r>
            <a:br>
              <a:rPr sz="2400"/>
            </a:br>
            <a:br>
              <a:rPr sz="2400"/>
            </a:br>
            <a:r>
              <a:rPr b="1" lang="el-GR" sz="2400" spc="-1" strike="noStrike">
                <a:solidFill>
                  <a:srgbClr val="000000"/>
                </a:solidFill>
                <a:latin typeface="Times New Roman"/>
              </a:rPr>
              <a:t> Οι τύποι συνδιδασκαλίας είναι οι εξής:</a:t>
            </a:r>
            <a:br>
              <a:rPr sz="2000"/>
            </a:br>
            <a:endParaRPr b="0" lang="en-US" sz="2400" spc="-1" strike="noStrike">
              <a:solidFill>
                <a:srgbClr val="ffffff"/>
              </a:solidFill>
              <a:latin typeface="Times New Roman"/>
            </a:endParaRPr>
          </a:p>
        </p:txBody>
      </p:sp>
      <p:grpSp>
        <p:nvGrpSpPr>
          <p:cNvPr id="6779" name="Group 2"/>
          <p:cNvGrpSpPr/>
          <p:nvPr/>
        </p:nvGrpSpPr>
        <p:grpSpPr>
          <a:xfrm>
            <a:off x="0" y="115920"/>
            <a:ext cx="9142560" cy="6549840"/>
            <a:chOff x="0" y="115920"/>
            <a:chExt cx="9142560" cy="6549840"/>
          </a:xfrm>
        </p:grpSpPr>
        <p:grpSp>
          <p:nvGrpSpPr>
            <p:cNvPr id="6780" name="Group 3"/>
            <p:cNvGrpSpPr/>
            <p:nvPr/>
          </p:nvGrpSpPr>
          <p:grpSpPr>
            <a:xfrm>
              <a:off x="0" y="115920"/>
              <a:ext cx="9142560" cy="6549840"/>
              <a:chOff x="0" y="115920"/>
              <a:chExt cx="9142560" cy="6549840"/>
            </a:xfrm>
          </p:grpSpPr>
          <p:sp>
            <p:nvSpPr>
              <p:cNvPr id="678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8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6"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7" name="Text Box 1"/>
          <p:cNvSpPr/>
          <p:nvPr/>
        </p:nvSpPr>
        <p:spPr>
          <a:xfrm>
            <a:off x="179280" y="1392120"/>
            <a:ext cx="856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1. Ένας διδάσκει, ένας βοηθάει (</a:t>
            </a:r>
            <a:r>
              <a:rPr b="1" lang="en-US" sz="2400" spc="-1" strike="noStrike">
                <a:solidFill>
                  <a:srgbClr val="000000"/>
                </a:solidFill>
                <a:latin typeface="Times New Roman"/>
              </a:rPr>
              <a:t>One teaching</a:t>
            </a:r>
            <a:r>
              <a:rPr b="1" lang="el-GR" sz="2400" spc="-1" strike="noStrike">
                <a:solidFill>
                  <a:srgbClr val="000000"/>
                </a:solidFill>
                <a:latin typeface="Times New Roman"/>
              </a:rPr>
              <a:t>, </a:t>
            </a:r>
            <a:r>
              <a:rPr b="1" lang="en-US" sz="2400" spc="-1" strike="noStrike">
                <a:solidFill>
                  <a:srgbClr val="000000"/>
                </a:solidFill>
                <a:latin typeface="Times New Roman"/>
              </a:rPr>
              <a:t>one assist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Ο τύπος αυτός αντικατοπτρίζει την πιο συνηθισμένη μορφή συνδιδασκαλίας. Σε αυτήν την περίπτωση συνδιδασκαλίας ο εκπαιδευτικός γενικής αγωγής και ο εκπαιδευτικός ειδικής αγωγής έχουν δυο διαφορετικούς ρόλους. </a:t>
            </a:r>
            <a:br>
              <a:rPr sz="2400"/>
            </a:br>
            <a:r>
              <a:rPr b="0" lang="el-GR" sz="2400" spc="-1" strike="noStrike">
                <a:solidFill>
                  <a:srgbClr val="000000"/>
                </a:solidFill>
                <a:latin typeface="Times New Roman"/>
              </a:rPr>
              <a:t>Ο εκπαιδευτικός γενικής αγωγής  είναι ο κύριος αρμόδιος για τη διδασκαλία της τάξης ενώ ο εκπαιδευτικός ειδικής αγωγής  υποστηρίζει τους μαθητές αμεα και ενισχύει τις αδύναμες ομάδες. Και οι δύο εκπαιδευτικοί  έχουν σκοπό να βοηθήσουν τους μαθητές να ξεπεράσουν τις δυσκολίες που συναντούν στο μάθημα. </a:t>
            </a:r>
            <a:endParaRPr b="0" lang="en-US" sz="2400" spc="-1" strike="noStrike">
              <a:solidFill>
                <a:srgbClr val="ffffff"/>
              </a:solidFill>
              <a:latin typeface="Times New Roman"/>
            </a:endParaRPr>
          </a:p>
        </p:txBody>
      </p:sp>
      <p:grpSp>
        <p:nvGrpSpPr>
          <p:cNvPr id="6788" name="Group 2"/>
          <p:cNvGrpSpPr/>
          <p:nvPr/>
        </p:nvGrpSpPr>
        <p:grpSpPr>
          <a:xfrm>
            <a:off x="0" y="115920"/>
            <a:ext cx="9142560" cy="6549840"/>
            <a:chOff x="0" y="115920"/>
            <a:chExt cx="9142560" cy="6549840"/>
          </a:xfrm>
        </p:grpSpPr>
        <p:grpSp>
          <p:nvGrpSpPr>
            <p:cNvPr id="6789" name="Group 3"/>
            <p:cNvGrpSpPr/>
            <p:nvPr/>
          </p:nvGrpSpPr>
          <p:grpSpPr>
            <a:xfrm>
              <a:off x="0" y="115920"/>
              <a:ext cx="9142560" cy="6549840"/>
              <a:chOff x="0" y="115920"/>
              <a:chExt cx="9142560" cy="6549840"/>
            </a:xfrm>
          </p:grpSpPr>
          <p:sp>
            <p:nvSpPr>
              <p:cNvPr id="679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9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5"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6"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ό τον τύπο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 </a:t>
            </a:r>
            <a:endParaRPr b="0" lang="en-US" sz="2800" spc="-1" strike="noStrike">
              <a:solidFill>
                <a:srgbClr val="ffffff"/>
              </a:solidFill>
              <a:latin typeface="Times New Roman"/>
            </a:endParaRPr>
          </a:p>
        </p:txBody>
      </p:sp>
      <p:grpSp>
        <p:nvGrpSpPr>
          <p:cNvPr id="6797" name="Group 2"/>
          <p:cNvGrpSpPr/>
          <p:nvPr/>
        </p:nvGrpSpPr>
        <p:grpSpPr>
          <a:xfrm>
            <a:off x="0" y="115920"/>
            <a:ext cx="9142560" cy="6549840"/>
            <a:chOff x="0" y="115920"/>
            <a:chExt cx="9142560" cy="6549840"/>
          </a:xfrm>
        </p:grpSpPr>
        <p:grpSp>
          <p:nvGrpSpPr>
            <p:cNvPr id="6798" name="Group 3"/>
            <p:cNvGrpSpPr/>
            <p:nvPr/>
          </p:nvGrpSpPr>
          <p:grpSpPr>
            <a:xfrm>
              <a:off x="0" y="115920"/>
              <a:ext cx="9142560" cy="6549840"/>
              <a:chOff x="0" y="115920"/>
              <a:chExt cx="9142560" cy="6549840"/>
            </a:xfrm>
          </p:grpSpPr>
          <p:sp>
            <p:nvSpPr>
              <p:cNvPr id="679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0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4"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5" name="Text Box 1"/>
          <p:cNvSpPr/>
          <p:nvPr/>
        </p:nvSpPr>
        <p:spPr>
          <a:xfrm>
            <a:off x="32400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Ωστόσο είναι απαραίτητο και οι δύο  εκπαιδευτικοί να συμμετέχουν από κοινού στο σχεδιασμό της διδασκαλίας. </a:t>
            </a:r>
            <a:br>
              <a:rPr sz="2400"/>
            </a:br>
            <a:r>
              <a:rPr b="0" lang="el-GR" sz="2400" spc="-1" strike="noStrike">
                <a:solidFill>
                  <a:srgbClr val="000000"/>
                </a:solidFill>
                <a:latin typeface="Times New Roman"/>
              </a:rPr>
              <a:t>Ένα μειονέκτημα αυτής της μορφής είναι ότι ο εκπαιδευτικός ειδικής αγωγής δεν έχει κεντρικό ρόλο στη διδασκαλία και περιορίζεται σε αυτή του βοηθού-υποστηρικτή. </a:t>
            </a:r>
            <a:br>
              <a:rPr sz="2400"/>
            </a:br>
            <a:endParaRPr b="0" lang="en-US" sz="2400" spc="-1" strike="noStrike">
              <a:solidFill>
                <a:srgbClr val="ffffff"/>
              </a:solidFill>
              <a:latin typeface="Times New Roman"/>
            </a:endParaRPr>
          </a:p>
        </p:txBody>
      </p:sp>
      <p:grpSp>
        <p:nvGrpSpPr>
          <p:cNvPr id="6806" name="Group 2"/>
          <p:cNvGrpSpPr/>
          <p:nvPr/>
        </p:nvGrpSpPr>
        <p:grpSpPr>
          <a:xfrm>
            <a:off x="0" y="115920"/>
            <a:ext cx="9142560" cy="6549840"/>
            <a:chOff x="0" y="115920"/>
            <a:chExt cx="9142560" cy="6549840"/>
          </a:xfrm>
        </p:grpSpPr>
        <p:grpSp>
          <p:nvGrpSpPr>
            <p:cNvPr id="6807" name="Group 3"/>
            <p:cNvGrpSpPr/>
            <p:nvPr/>
          </p:nvGrpSpPr>
          <p:grpSpPr>
            <a:xfrm>
              <a:off x="0" y="115920"/>
              <a:ext cx="9142560" cy="6549840"/>
              <a:chOff x="0" y="115920"/>
              <a:chExt cx="9142560" cy="6549840"/>
            </a:xfrm>
          </p:grpSpPr>
          <p:sp>
            <p:nvSpPr>
              <p:cNvPr id="680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1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3"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4" name="Text Box 1"/>
          <p:cNvSpPr/>
          <p:nvPr/>
        </p:nvSpPr>
        <p:spPr>
          <a:xfrm>
            <a:off x="32400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400" spc="-1" strike="noStrike">
                <a:solidFill>
                  <a:srgbClr val="000000"/>
                </a:solidFill>
                <a:latin typeface="Times New Roman"/>
              </a:rPr>
              <a:t>Οι μαθητές  μπορεί να χάνουν την προσοχή τους </a:t>
            </a:r>
            <a:br>
              <a:rPr sz="2400"/>
            </a:br>
            <a:r>
              <a:rPr b="0" lang="el-GR" sz="2400" spc="-1" strike="noStrike">
                <a:solidFill>
                  <a:srgbClr val="000000"/>
                </a:solidFill>
                <a:latin typeface="Times New Roman"/>
              </a:rPr>
              <a:t>βλέποντας τον να κινείται μέσα στην τάξη και επίσης να επαναπαύονται και να μην προσπαθούν  καθώς επαφίενται στη βοήθεια  και υποστήριξη του ειδικού παιδαγωγού. </a:t>
            </a:r>
            <a:br>
              <a:rPr sz="2400"/>
            </a:br>
            <a:br>
              <a:rPr sz="2400"/>
            </a:br>
            <a:r>
              <a:rPr b="0" lang="el-GR" sz="2400" spc="-1" strike="noStrike">
                <a:solidFill>
                  <a:srgbClr val="000000"/>
                </a:solidFill>
                <a:latin typeface="Times New Roman"/>
              </a:rPr>
              <a:t> Αυτός τύπος συνδιδασκαλίας στην Ελλάδα </a:t>
            </a:r>
            <a:br>
              <a:rPr sz="2400"/>
            </a:br>
            <a:r>
              <a:rPr b="0" lang="el-GR" sz="2400" spc="-1" strike="noStrike">
                <a:solidFill>
                  <a:srgbClr val="000000"/>
                </a:solidFill>
                <a:latin typeface="Times New Roman"/>
              </a:rPr>
              <a:t>βρίσκει εφαρμογή στην Γενική Τάξη </a:t>
            </a:r>
            <a:br>
              <a:rPr sz="2400"/>
            </a:br>
            <a:r>
              <a:rPr b="0" lang="el-GR" sz="2400" spc="-1" strike="noStrike">
                <a:solidFill>
                  <a:srgbClr val="000000"/>
                </a:solidFill>
                <a:latin typeface="Times New Roman"/>
              </a:rPr>
              <a:t>με την συμπληρωματική εφαρμογή της Παράλληλης Στήριξης </a:t>
            </a:r>
            <a:br>
              <a:rPr sz="2400"/>
            </a:br>
            <a:r>
              <a:rPr b="0" lang="el-GR" sz="2400" spc="-1" strike="noStrike">
                <a:solidFill>
                  <a:srgbClr val="000000"/>
                </a:solidFill>
                <a:latin typeface="Times New Roman"/>
              </a:rPr>
              <a:t>(ν. 3699/2008).  </a:t>
            </a:r>
            <a:br>
              <a:rPr sz="2000"/>
            </a:br>
            <a:endParaRPr b="0" lang="en-US" sz="2400" spc="-1" strike="noStrike">
              <a:solidFill>
                <a:srgbClr val="ffffff"/>
              </a:solidFill>
              <a:latin typeface="Times New Roman"/>
            </a:endParaRPr>
          </a:p>
        </p:txBody>
      </p:sp>
      <p:grpSp>
        <p:nvGrpSpPr>
          <p:cNvPr id="6815" name="Group 2"/>
          <p:cNvGrpSpPr/>
          <p:nvPr/>
        </p:nvGrpSpPr>
        <p:grpSpPr>
          <a:xfrm>
            <a:off x="0" y="115920"/>
            <a:ext cx="9142560" cy="6549840"/>
            <a:chOff x="0" y="115920"/>
            <a:chExt cx="9142560" cy="6549840"/>
          </a:xfrm>
        </p:grpSpPr>
        <p:grpSp>
          <p:nvGrpSpPr>
            <p:cNvPr id="6816" name="Group 3"/>
            <p:cNvGrpSpPr/>
            <p:nvPr/>
          </p:nvGrpSpPr>
          <p:grpSpPr>
            <a:xfrm>
              <a:off x="0" y="115920"/>
              <a:ext cx="9142560" cy="6549840"/>
              <a:chOff x="0" y="115920"/>
              <a:chExt cx="9142560" cy="6549840"/>
            </a:xfrm>
          </p:grpSpPr>
          <p:sp>
            <p:nvSpPr>
              <p:cNvPr id="681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1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2"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2. Ένας διδάσκει</a:t>
            </a:r>
            <a:r>
              <a:rPr b="1" lang="en-US" sz="2400" spc="-1" strike="noStrike">
                <a:solidFill>
                  <a:srgbClr val="000000"/>
                </a:solidFill>
                <a:latin typeface="Times New Roman"/>
              </a:rPr>
              <a:t>, </a:t>
            </a:r>
            <a:r>
              <a:rPr b="1" lang="el-GR" sz="2400" spc="-1" strike="noStrike">
                <a:solidFill>
                  <a:srgbClr val="000000"/>
                </a:solidFill>
                <a:latin typeface="Times New Roman"/>
              </a:rPr>
              <a:t>ένας παρατηρεί</a:t>
            </a:r>
            <a:r>
              <a:rPr b="1" lang="en-US" sz="2400" spc="-1" strike="noStrike">
                <a:solidFill>
                  <a:srgbClr val="000000"/>
                </a:solidFill>
                <a:latin typeface="Times New Roman"/>
              </a:rPr>
              <a:t> (One teaching, one observing)</a:t>
            </a:r>
            <a:br>
              <a:rPr sz="2400"/>
            </a:br>
            <a:br>
              <a:rPr sz="2400"/>
            </a:br>
            <a:r>
              <a:rPr b="0" lang="el-GR" sz="2400" spc="-1" strike="noStrike">
                <a:solidFill>
                  <a:srgbClr val="000000"/>
                </a:solidFill>
                <a:latin typeface="Times New Roman"/>
              </a:rPr>
              <a:t>Σε αυτόν τον τύπο συνδιδασκαλίας προσιδιάζει η έννοια και η πρακτική της παρατήρησης. </a:t>
            </a:r>
            <a:br>
              <a:rPr sz="2400"/>
            </a:br>
            <a:r>
              <a:rPr b="0" lang="el-GR" sz="2400" spc="-1" strike="noStrike">
                <a:solidFill>
                  <a:srgbClr val="000000"/>
                </a:solidFill>
                <a:latin typeface="Times New Roman"/>
              </a:rPr>
              <a:t>Ο ένας, ο εκπαιδευτικός  της γενικής αγωγής  διδάσκει και </a:t>
            </a:r>
            <a:br>
              <a:rPr sz="2400"/>
            </a:br>
            <a:r>
              <a:rPr b="0" lang="el-GR" sz="2400" spc="-1" strike="noStrike">
                <a:solidFill>
                  <a:srgbClr val="000000"/>
                </a:solidFill>
                <a:latin typeface="Times New Roman"/>
              </a:rPr>
              <a:t>ο άλλος ο εκπαιδευτικός ειδικής αγωγής, παρατηρεί και συλλέγει δεδομένα σε κλείδες παρατήρησης με συστηματικό τρόπο. </a:t>
            </a:r>
            <a:br>
              <a:rPr sz="2400"/>
            </a:br>
            <a:r>
              <a:rPr b="0" lang="el-GR" sz="2400" spc="-1" strike="noStrike">
                <a:solidFill>
                  <a:srgbClr val="000000"/>
                </a:solidFill>
                <a:latin typeface="Times New Roman"/>
              </a:rPr>
              <a:t>Η πρακτική αυτή προσφέρεται για να γνωρίσουν οι εκπαιδευτικοί τους μαθητές τους και απαιτείται ουσιαστική συνεργασία  μεταξύ τους σχετικά  με το ποιους μαθητές θα παρατηρήσουν. </a:t>
            </a:r>
            <a:endParaRPr b="0" lang="en-US" sz="2400" spc="-1" strike="noStrike">
              <a:solidFill>
                <a:srgbClr val="ffffff"/>
              </a:solidFill>
              <a:latin typeface="Times New Roman"/>
            </a:endParaRPr>
          </a:p>
        </p:txBody>
      </p:sp>
      <p:grpSp>
        <p:nvGrpSpPr>
          <p:cNvPr id="6824" name="Group 2"/>
          <p:cNvGrpSpPr/>
          <p:nvPr/>
        </p:nvGrpSpPr>
        <p:grpSpPr>
          <a:xfrm>
            <a:off x="0" y="115920"/>
            <a:ext cx="9142560" cy="6549840"/>
            <a:chOff x="0" y="115920"/>
            <a:chExt cx="9142560" cy="6549840"/>
          </a:xfrm>
        </p:grpSpPr>
        <p:grpSp>
          <p:nvGrpSpPr>
            <p:cNvPr id="6825" name="Group 3"/>
            <p:cNvGrpSpPr/>
            <p:nvPr/>
          </p:nvGrpSpPr>
          <p:grpSpPr>
            <a:xfrm>
              <a:off x="0" y="115920"/>
              <a:ext cx="9142560" cy="6549840"/>
              <a:chOff x="0" y="115920"/>
              <a:chExt cx="9142560" cy="6549840"/>
            </a:xfrm>
          </p:grpSpPr>
          <p:sp>
            <p:nvSpPr>
              <p:cNvPr id="682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2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1"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7"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Το 2000, στο παγκόσμιο </a:t>
            </a:r>
            <a:r>
              <a:rPr b="0" lang="en-US" sz="2800" spc="-1" strike="noStrike">
                <a:solidFill>
                  <a:srgbClr val="000000"/>
                </a:solidFill>
                <a:latin typeface="Times New Roman"/>
              </a:rPr>
              <a:t>forum</a:t>
            </a:r>
            <a:r>
              <a:rPr b="0" lang="el-GR" sz="2800" spc="-1" strike="noStrike">
                <a:solidFill>
                  <a:srgbClr val="000000"/>
                </a:solidFill>
                <a:latin typeface="Times New Roman"/>
              </a:rPr>
              <a:t>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για την εκπαίδευση στο </a:t>
            </a:r>
            <a:r>
              <a:rPr b="0" lang="en-US" sz="2800" spc="-1" strike="noStrike">
                <a:solidFill>
                  <a:srgbClr val="000000"/>
                </a:solidFill>
                <a:latin typeface="Times New Roman"/>
              </a:rPr>
              <a:t>Dakar</a:t>
            </a:r>
            <a:r>
              <a:rPr b="0" lang="el-GR" sz="2800" spc="-1" strike="noStrike">
                <a:solidFill>
                  <a:srgbClr val="000000"/>
                </a:solidFill>
                <a:latin typeface="Times New Roman"/>
              </a:rPr>
              <a:t>, τονίζεται ότι η εκπαίδευση πρέπει να αφορά  όλους  τους μαθητές και να επεκτείνεται σε δεξιότητες ζωής. </a:t>
            </a:r>
            <a:endParaRPr b="0" lang="en-US" sz="2800" spc="-1" strike="noStrike">
              <a:solidFill>
                <a:srgbClr val="ffffff"/>
              </a:solidFill>
              <a:latin typeface="Times New Roman"/>
            </a:endParaRPr>
          </a:p>
        </p:txBody>
      </p:sp>
      <p:grpSp>
        <p:nvGrpSpPr>
          <p:cNvPr id="6428" name="Group 2"/>
          <p:cNvGrpSpPr/>
          <p:nvPr/>
        </p:nvGrpSpPr>
        <p:grpSpPr>
          <a:xfrm>
            <a:off x="0" y="115920"/>
            <a:ext cx="9142560" cy="6549840"/>
            <a:chOff x="0" y="115920"/>
            <a:chExt cx="9142560" cy="6549840"/>
          </a:xfrm>
        </p:grpSpPr>
        <p:grpSp>
          <p:nvGrpSpPr>
            <p:cNvPr id="6429" name="Group 3"/>
            <p:cNvGrpSpPr/>
            <p:nvPr/>
          </p:nvGrpSpPr>
          <p:grpSpPr>
            <a:xfrm>
              <a:off x="0" y="115920"/>
              <a:ext cx="9142560" cy="6549840"/>
              <a:chOff x="0" y="115920"/>
              <a:chExt cx="9142560" cy="6549840"/>
            </a:xfrm>
          </p:grpSpPr>
          <p:sp>
            <p:nvSpPr>
              <p:cNvPr id="643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3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5"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2"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ίναι σημαντικό ο κοινός σχεδιασμός και η πραγματική συνεργασία, καθώς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a:t>
            </a:r>
            <a:br>
              <a:rPr sz="2800"/>
            </a:br>
            <a:r>
              <a:rPr b="0" lang="el-GR" sz="2800" spc="-1" strike="noStrike">
                <a:solidFill>
                  <a:srgbClr val="000000"/>
                </a:solidFill>
                <a:latin typeface="Times New Roman"/>
              </a:rPr>
              <a:t>Είναι καλό και προτείνεται οι εκπαιδευτικοί  να εναλλάσσουν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endParaRPr b="0" lang="en-US" sz="2800" spc="-1" strike="noStrike">
              <a:solidFill>
                <a:srgbClr val="ffffff"/>
              </a:solidFill>
              <a:latin typeface="Times New Roman"/>
            </a:endParaRPr>
          </a:p>
        </p:txBody>
      </p:sp>
      <p:grpSp>
        <p:nvGrpSpPr>
          <p:cNvPr id="6833" name="Group 2"/>
          <p:cNvGrpSpPr/>
          <p:nvPr/>
        </p:nvGrpSpPr>
        <p:grpSpPr>
          <a:xfrm>
            <a:off x="0" y="115920"/>
            <a:ext cx="9142560" cy="6549840"/>
            <a:chOff x="0" y="115920"/>
            <a:chExt cx="9142560" cy="6549840"/>
          </a:xfrm>
        </p:grpSpPr>
        <p:grpSp>
          <p:nvGrpSpPr>
            <p:cNvPr id="6834" name="Group 3"/>
            <p:cNvGrpSpPr/>
            <p:nvPr/>
          </p:nvGrpSpPr>
          <p:grpSpPr>
            <a:xfrm>
              <a:off x="0" y="115920"/>
              <a:ext cx="9142560" cy="6549840"/>
              <a:chOff x="0" y="115920"/>
              <a:chExt cx="9142560" cy="6549840"/>
            </a:xfrm>
          </p:grpSpPr>
          <p:sp>
            <p:nvSpPr>
              <p:cNvPr id="683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3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0"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1" name="Text Box 1"/>
          <p:cNvSpPr/>
          <p:nvPr/>
        </p:nvSpPr>
        <p:spPr>
          <a:xfrm>
            <a:off x="324000" y="1052640"/>
            <a:ext cx="8640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3. 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από πολλούς ειδικούς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a:t>
            </a:r>
            <a:br>
              <a:rPr sz="2800"/>
            </a:br>
            <a:br>
              <a:rPr sz="2000"/>
            </a:br>
            <a:endParaRPr b="0" lang="en-US" sz="2800" spc="-1" strike="noStrike">
              <a:solidFill>
                <a:srgbClr val="ffffff"/>
              </a:solidFill>
              <a:latin typeface="Times New Roman"/>
            </a:endParaRPr>
          </a:p>
        </p:txBody>
      </p:sp>
      <p:grpSp>
        <p:nvGrpSpPr>
          <p:cNvPr id="6842" name="Group 2"/>
          <p:cNvGrpSpPr/>
          <p:nvPr/>
        </p:nvGrpSpPr>
        <p:grpSpPr>
          <a:xfrm>
            <a:off x="0" y="115920"/>
            <a:ext cx="9142560" cy="6549840"/>
            <a:chOff x="0" y="115920"/>
            <a:chExt cx="9142560" cy="6549840"/>
          </a:xfrm>
        </p:grpSpPr>
        <p:grpSp>
          <p:nvGrpSpPr>
            <p:cNvPr id="6843" name="Group 3"/>
            <p:cNvGrpSpPr/>
            <p:nvPr/>
          </p:nvGrpSpPr>
          <p:grpSpPr>
            <a:xfrm>
              <a:off x="0" y="115920"/>
              <a:ext cx="9142560" cy="6549840"/>
              <a:chOff x="0" y="115920"/>
              <a:chExt cx="9142560" cy="6549840"/>
            </a:xfrm>
          </p:grpSpPr>
          <p:sp>
            <p:nvSpPr>
              <p:cNvPr id="684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4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9"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0" name="Text Box 1"/>
          <p:cNvSpPr/>
          <p:nvPr/>
        </p:nvSpPr>
        <p:spPr>
          <a:xfrm>
            <a:off x="324000" y="1052640"/>
            <a:ext cx="8640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έσα από την ομαδική διδασκαλία  ενισχύεται το συνεργατικό κλίμα και αυξάνεται η συμμετοχή των μαθητών, ενώ οι εκπαιδευτικοί έχουν </a:t>
            </a:r>
            <a:br>
              <a:rPr sz="2800"/>
            </a:br>
            <a:r>
              <a:rPr b="0" lang="el-GR" sz="2800" spc="-1" strike="noStrike">
                <a:solidFill>
                  <a:srgbClr val="000000"/>
                </a:solidFill>
                <a:latin typeface="Times New Roman"/>
              </a:rPr>
              <a:t>τη δυνατότητα να εφαρμόσουν καινοτόμες ιδέες </a:t>
            </a:r>
            <a:br>
              <a:rPr sz="2800"/>
            </a:br>
            <a:r>
              <a:rPr b="0" lang="el-GR" sz="2800" spc="-1" strike="noStrike">
                <a:solidFill>
                  <a:srgbClr val="000000"/>
                </a:solidFill>
                <a:latin typeface="Times New Roman"/>
              </a:rPr>
              <a:t>και παιδαγωγικές και διδακτικές στρατηγικές και μεθόδους. </a:t>
            </a:r>
            <a:br>
              <a:rPr sz="2000"/>
            </a:br>
            <a:endParaRPr b="0" lang="en-US" sz="2800" spc="-1" strike="noStrike">
              <a:solidFill>
                <a:srgbClr val="ffffff"/>
              </a:solidFill>
              <a:latin typeface="Times New Roman"/>
            </a:endParaRPr>
          </a:p>
        </p:txBody>
      </p:sp>
      <p:grpSp>
        <p:nvGrpSpPr>
          <p:cNvPr id="6851" name="Group 2"/>
          <p:cNvGrpSpPr/>
          <p:nvPr/>
        </p:nvGrpSpPr>
        <p:grpSpPr>
          <a:xfrm>
            <a:off x="0" y="115920"/>
            <a:ext cx="9142560" cy="6549840"/>
            <a:chOff x="0" y="115920"/>
            <a:chExt cx="9142560" cy="6549840"/>
          </a:xfrm>
        </p:grpSpPr>
        <p:grpSp>
          <p:nvGrpSpPr>
            <p:cNvPr id="6852" name="Group 3"/>
            <p:cNvGrpSpPr/>
            <p:nvPr/>
          </p:nvGrpSpPr>
          <p:grpSpPr>
            <a:xfrm>
              <a:off x="0" y="115920"/>
              <a:ext cx="9142560" cy="6549840"/>
              <a:chOff x="0" y="115920"/>
              <a:chExt cx="9142560" cy="6549840"/>
            </a:xfrm>
          </p:grpSpPr>
          <p:sp>
            <p:nvSpPr>
              <p:cNvPr id="685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5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8"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αυτό </a:t>
            </a:r>
            <a:r>
              <a:rPr b="1" lang="el-GR" sz="2800" spc="-1" strike="noStrike">
                <a:solidFill>
                  <a:srgbClr val="000000"/>
                </a:solidFill>
                <a:latin typeface="Times New Roman"/>
              </a:rPr>
              <a:t>της ομαδικής διδασκαλίας </a:t>
            </a:r>
            <a:r>
              <a:rPr b="0" lang="el-GR" sz="2800" spc="-1" strike="noStrike">
                <a:solidFill>
                  <a:srgbClr val="000000"/>
                </a:solidFill>
                <a:latin typeface="Times New Roman"/>
              </a:rPr>
              <a:t>διέπεται από ισοτιμία μεταξύ των συναδέλφων και αμοιβαία εμπιστοσύνη.</a:t>
            </a:r>
            <a:br>
              <a:rPr sz="2800"/>
            </a:br>
            <a:r>
              <a:rPr b="0" lang="el-GR" sz="2800" spc="-1" strike="noStrike">
                <a:solidFill>
                  <a:srgbClr val="000000"/>
                </a:solidFill>
                <a:latin typeface="Times New Roman"/>
              </a:rPr>
              <a:t> Για να έχει αποτελεσματικότητα , όμως, απαιτεί κοινή φιλοσοφία  και κουλτούρα, </a:t>
            </a:r>
            <a:br>
              <a:rPr sz="2800"/>
            </a:br>
            <a:r>
              <a:rPr b="0" lang="el-GR" sz="2800" spc="-1" strike="noStrike">
                <a:solidFill>
                  <a:srgbClr val="000000"/>
                </a:solidFill>
                <a:latin typeface="Times New Roman"/>
              </a:rPr>
              <a:t>κοινό ρυθμό παράδοσης του μαθήματος, κοινές παιδαγωγικές και διδακτικές θεωρήσεις </a:t>
            </a:r>
            <a:br>
              <a:rPr sz="2800"/>
            </a:br>
            <a:r>
              <a:rPr b="0" lang="el-GR" sz="2800" spc="-1" strike="noStrike">
                <a:solidFill>
                  <a:srgbClr val="000000"/>
                </a:solidFill>
                <a:latin typeface="Times New Roman"/>
              </a:rPr>
              <a:t>και ταυτόσημες απόψεις για την συνεκπαίδευση, </a:t>
            </a:r>
            <a:br>
              <a:rPr sz="2800"/>
            </a:br>
            <a:r>
              <a:rPr b="0" lang="el-GR" sz="2800" spc="-1" strike="noStrike">
                <a:solidFill>
                  <a:srgbClr val="000000"/>
                </a:solidFill>
                <a:latin typeface="Times New Roman"/>
              </a:rPr>
              <a:t>τη διαφορετικότητα, τους σκοπούς και την αξία της εκπαίδευσης και του ρόλου των εκπαιδευτικών.</a:t>
            </a:r>
            <a:br>
              <a:rPr sz="2000"/>
            </a:br>
            <a:endParaRPr b="0" lang="en-US" sz="2800" spc="-1" strike="noStrike">
              <a:solidFill>
                <a:srgbClr val="ffffff"/>
              </a:solidFill>
              <a:latin typeface="Times New Roman"/>
            </a:endParaRPr>
          </a:p>
        </p:txBody>
      </p:sp>
      <p:grpSp>
        <p:nvGrpSpPr>
          <p:cNvPr id="6860" name="Group 2"/>
          <p:cNvGrpSpPr/>
          <p:nvPr/>
        </p:nvGrpSpPr>
        <p:grpSpPr>
          <a:xfrm>
            <a:off x="0" y="115920"/>
            <a:ext cx="9142560" cy="6549840"/>
            <a:chOff x="0" y="115920"/>
            <a:chExt cx="9142560" cy="6549840"/>
          </a:xfrm>
        </p:grpSpPr>
        <p:grpSp>
          <p:nvGrpSpPr>
            <p:cNvPr id="6861" name="Group 3"/>
            <p:cNvGrpSpPr/>
            <p:nvPr/>
          </p:nvGrpSpPr>
          <p:grpSpPr>
            <a:xfrm>
              <a:off x="0" y="115920"/>
              <a:ext cx="9142560" cy="6549840"/>
              <a:chOff x="0" y="115920"/>
              <a:chExt cx="9142560" cy="6549840"/>
            </a:xfrm>
          </p:grpSpPr>
          <p:sp>
            <p:nvSpPr>
              <p:cNvPr id="686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6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7"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8"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4.Σταθμοί διδασκαλίας ( </a:t>
            </a:r>
            <a:r>
              <a:rPr b="1" lang="en-US" sz="2400" spc="-1" strike="noStrike">
                <a:solidFill>
                  <a:srgbClr val="000000"/>
                </a:solidFill>
                <a:latin typeface="Times New Roman"/>
              </a:rPr>
              <a:t>Station teach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Σε αυτό τον τύπο συνδιδασκαλίας οι εκπαιδευτικοί διατηρούν τις δικές τους τάξεις, αλλά διαχωρίζουν το περιεχόμενο . </a:t>
            </a:r>
            <a:br>
              <a:rPr sz="2400"/>
            </a:br>
            <a:r>
              <a:rPr b="0" lang="el-GR" sz="2400" spc="-1" strike="noStrike">
                <a:solidFill>
                  <a:srgbClr val="000000"/>
                </a:solidFill>
                <a:latin typeface="Times New Roman"/>
              </a:rPr>
              <a:t>Οι μαθητές  μπορούν να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br>
              <a:rPr sz="2400"/>
            </a:br>
            <a:r>
              <a:rPr b="0" lang="el-GR" sz="24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a:t>
            </a:r>
            <a:br>
              <a:rPr sz="2400"/>
            </a:br>
            <a:endParaRPr b="0" lang="en-US" sz="2400" spc="-1" strike="noStrike">
              <a:solidFill>
                <a:srgbClr val="ffffff"/>
              </a:solidFill>
              <a:latin typeface="Times New Roman"/>
            </a:endParaRPr>
          </a:p>
        </p:txBody>
      </p:sp>
      <p:grpSp>
        <p:nvGrpSpPr>
          <p:cNvPr id="6869" name="Group 2"/>
          <p:cNvGrpSpPr/>
          <p:nvPr/>
        </p:nvGrpSpPr>
        <p:grpSpPr>
          <a:xfrm>
            <a:off x="0" y="115920"/>
            <a:ext cx="9142560" cy="6549840"/>
            <a:chOff x="0" y="115920"/>
            <a:chExt cx="9142560" cy="6549840"/>
          </a:xfrm>
        </p:grpSpPr>
        <p:grpSp>
          <p:nvGrpSpPr>
            <p:cNvPr id="6870" name="Group 3"/>
            <p:cNvGrpSpPr/>
            <p:nvPr/>
          </p:nvGrpSpPr>
          <p:grpSpPr>
            <a:xfrm>
              <a:off x="0" y="115920"/>
              <a:ext cx="9142560" cy="6549840"/>
              <a:chOff x="0" y="115920"/>
              <a:chExt cx="9142560" cy="6549840"/>
            </a:xfrm>
          </p:grpSpPr>
          <p:sp>
            <p:nvSpPr>
              <p:cNvPr id="687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7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6"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7"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br>
              <a:rPr sz="2800"/>
            </a:br>
            <a:br>
              <a:rPr sz="2800"/>
            </a:br>
            <a:r>
              <a:rPr b="0" lang="el-GR" sz="2800" spc="-1" strike="noStrike">
                <a:solidFill>
                  <a:srgbClr val="000000"/>
                </a:solidFill>
                <a:latin typeface="Times New Roman"/>
              </a:rPr>
              <a:t>Από την άλλη πλευρά, η μετακίνηση των μαθητών δημιουργεί αναστάτωση και θόρυβο, χάσιμο χρόνου κάτι που πρέπει οι εκπαιδευτικοί να υπολογίσουν, ενώ θα πρέπει να αποφασίσουν από κοινού για το πώς θα διδάσκεται η ύλη. </a:t>
            </a:r>
            <a:br>
              <a:rPr sz="2000"/>
            </a:br>
            <a:endParaRPr b="0" lang="en-US" sz="2800" spc="-1" strike="noStrike">
              <a:solidFill>
                <a:srgbClr val="ffffff"/>
              </a:solidFill>
              <a:latin typeface="Times New Roman"/>
            </a:endParaRPr>
          </a:p>
        </p:txBody>
      </p:sp>
      <p:grpSp>
        <p:nvGrpSpPr>
          <p:cNvPr id="6878" name="Group 2"/>
          <p:cNvGrpSpPr/>
          <p:nvPr/>
        </p:nvGrpSpPr>
        <p:grpSpPr>
          <a:xfrm>
            <a:off x="0" y="115920"/>
            <a:ext cx="9142560" cy="6549840"/>
            <a:chOff x="0" y="115920"/>
            <a:chExt cx="9142560" cy="6549840"/>
          </a:xfrm>
        </p:grpSpPr>
        <p:grpSp>
          <p:nvGrpSpPr>
            <p:cNvPr id="6879" name="Group 3"/>
            <p:cNvGrpSpPr/>
            <p:nvPr/>
          </p:nvGrpSpPr>
          <p:grpSpPr>
            <a:xfrm>
              <a:off x="0" y="115920"/>
              <a:ext cx="9142560" cy="6549840"/>
              <a:chOff x="0" y="115920"/>
              <a:chExt cx="9142560" cy="6549840"/>
            </a:xfrm>
          </p:grpSpPr>
          <p:sp>
            <p:nvSpPr>
              <p:cNvPr id="688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8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5"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6"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5.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οι εκπαιδευτικοί σχεδιάζουν από κοινού τη διδασκαλία, αλλά ο καθένας διδάσκει μια διαφορετική-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endParaRPr b="0" lang="en-US" sz="2800" spc="-1" strike="noStrike">
              <a:solidFill>
                <a:srgbClr val="ffffff"/>
              </a:solidFill>
              <a:latin typeface="Times New Roman"/>
            </a:endParaRPr>
          </a:p>
        </p:txBody>
      </p:sp>
      <p:grpSp>
        <p:nvGrpSpPr>
          <p:cNvPr id="6887" name="Group 2"/>
          <p:cNvGrpSpPr/>
          <p:nvPr/>
        </p:nvGrpSpPr>
        <p:grpSpPr>
          <a:xfrm>
            <a:off x="0" y="115920"/>
            <a:ext cx="9142560" cy="6549840"/>
            <a:chOff x="0" y="115920"/>
            <a:chExt cx="9142560" cy="6549840"/>
          </a:xfrm>
        </p:grpSpPr>
        <p:grpSp>
          <p:nvGrpSpPr>
            <p:cNvPr id="6888" name="Group 3"/>
            <p:cNvGrpSpPr/>
            <p:nvPr/>
          </p:nvGrpSpPr>
          <p:grpSpPr>
            <a:xfrm>
              <a:off x="0" y="115920"/>
              <a:ext cx="9142560" cy="6549840"/>
              <a:chOff x="0" y="115920"/>
              <a:chExt cx="9142560" cy="6549840"/>
            </a:xfrm>
          </p:grpSpPr>
          <p:sp>
            <p:nvSpPr>
              <p:cNvPr id="688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9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4"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5"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ασικός σκοπός  αυτής της μορφής  είναι </a:t>
            </a:r>
            <a:br>
              <a:rPr sz="2800"/>
            </a:br>
            <a:r>
              <a:rPr b="0" lang="el-GR" sz="2800" spc="-1" strike="noStrike">
                <a:solidFill>
                  <a:srgbClr val="000000"/>
                </a:solidFill>
                <a:latin typeface="Times New Roman"/>
              </a:rPr>
              <a:t>να μειωθεί η αναλογία εκπαιδευτικού ανά μαθητή, </a:t>
            </a:r>
            <a:br>
              <a:rPr sz="2800"/>
            </a:br>
            <a:r>
              <a:rPr b="0" lang="el-GR" sz="2800" spc="-1" strike="noStrike">
                <a:solidFill>
                  <a:srgbClr val="000000"/>
                </a:solidFill>
                <a:latin typeface="Times New Roman"/>
              </a:rPr>
              <a:t>ώστε τα παιδιά να αποκτήσουν τη δυνατότητα ουσιαστικής  συμμετοχής στο μάθημα. </a:t>
            </a:r>
            <a:br>
              <a:rPr sz="2800"/>
            </a:br>
            <a:r>
              <a:rPr b="0" lang="el-GR" sz="2800" spc="-1" strike="noStrike">
                <a:solidFill>
                  <a:srgbClr val="000000"/>
                </a:solidFill>
                <a:latin typeface="Times New Roman"/>
              </a:rPr>
              <a:t>Αυτή η μορφή παράλληλης διδασκαλίας χρησιμοποιείται για εργασίες που απαιτούν περισσότερη συζήτηση κριτική τοποθέτηση από τους μαθητές  και έντονη πρόβλεψη</a:t>
            </a:r>
            <a:r>
              <a:rPr b="0" lang="el-GR"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6896" name="Group 2"/>
          <p:cNvGrpSpPr/>
          <p:nvPr/>
        </p:nvGrpSpPr>
        <p:grpSpPr>
          <a:xfrm>
            <a:off x="0" y="115920"/>
            <a:ext cx="9142560" cy="6549840"/>
            <a:chOff x="0" y="115920"/>
            <a:chExt cx="9142560" cy="6549840"/>
          </a:xfrm>
        </p:grpSpPr>
        <p:grpSp>
          <p:nvGrpSpPr>
            <p:cNvPr id="6897" name="Group 3"/>
            <p:cNvGrpSpPr/>
            <p:nvPr/>
          </p:nvGrpSpPr>
          <p:grpSpPr>
            <a:xfrm>
              <a:off x="0" y="115920"/>
              <a:ext cx="9142560" cy="6549840"/>
              <a:chOff x="0" y="115920"/>
              <a:chExt cx="9142560" cy="6549840"/>
            </a:xfrm>
          </p:grpSpPr>
          <p:sp>
            <p:nvSpPr>
              <p:cNvPr id="689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0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3"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4" name="Text Box 1"/>
          <p:cNvSpPr/>
          <p:nvPr/>
        </p:nvSpPr>
        <p:spPr>
          <a:xfrm>
            <a:off x="17928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είναι πιο εσωστρεφείς, επομένως, μπορούν με περισσότερη ευκολία να συμμετέχουν. Η συνεργασία προωθείται και στο επίπεδο των μαθητών, καθώς εργάζονται σε μικρές ομάδες και παρουσιάζουν τις εργασίες τους στην τάξη συζητώντας και ανταλλάσοντας απόψεις. </a:t>
            </a:r>
            <a:br>
              <a:rPr sz="2800"/>
            </a:br>
            <a:r>
              <a:rPr b="0" lang="el-GR" sz="2800" spc="-1" strike="noStrike">
                <a:solidFill>
                  <a:srgbClr val="000000"/>
                </a:solidFill>
                <a:latin typeface="Times New Roman"/>
              </a:rPr>
              <a:t>Με αυτόν τον τρόπο οι εκπαιδευτικοί μπορούν να ανταποκριθούν στις ιδιαίτερες ανάγκες των μαθητών.  </a:t>
            </a:r>
            <a:br>
              <a:rPr sz="2000"/>
            </a:br>
            <a:endParaRPr b="0" lang="en-US" sz="2800" spc="-1" strike="noStrike">
              <a:solidFill>
                <a:srgbClr val="ffffff"/>
              </a:solidFill>
              <a:latin typeface="Times New Roman"/>
            </a:endParaRPr>
          </a:p>
        </p:txBody>
      </p:sp>
      <p:grpSp>
        <p:nvGrpSpPr>
          <p:cNvPr id="6905" name="Group 2"/>
          <p:cNvGrpSpPr/>
          <p:nvPr/>
        </p:nvGrpSpPr>
        <p:grpSpPr>
          <a:xfrm>
            <a:off x="0" y="115920"/>
            <a:ext cx="9142560" cy="6549840"/>
            <a:chOff x="0" y="115920"/>
            <a:chExt cx="9142560" cy="6549840"/>
          </a:xfrm>
        </p:grpSpPr>
        <p:grpSp>
          <p:nvGrpSpPr>
            <p:cNvPr id="6906" name="Group 3"/>
            <p:cNvGrpSpPr/>
            <p:nvPr/>
          </p:nvGrpSpPr>
          <p:grpSpPr>
            <a:xfrm>
              <a:off x="0" y="115920"/>
              <a:ext cx="9142560" cy="6549840"/>
              <a:chOff x="0" y="115920"/>
              <a:chExt cx="9142560" cy="6549840"/>
            </a:xfrm>
          </p:grpSpPr>
          <p:sp>
            <p:nvSpPr>
              <p:cNvPr id="690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0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2"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3" name="Text Box 1"/>
          <p:cNvSpPr/>
          <p:nvPr/>
        </p:nvSpPr>
        <p:spPr>
          <a:xfrm>
            <a:off x="17928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000"/>
            </a:br>
            <a:endParaRPr b="0" lang="en-US" sz="2800" spc="-1" strike="noStrike">
              <a:solidFill>
                <a:srgbClr val="ffffff"/>
              </a:solidFill>
              <a:latin typeface="Times New Roman"/>
            </a:endParaRPr>
          </a:p>
        </p:txBody>
      </p:sp>
      <p:grpSp>
        <p:nvGrpSpPr>
          <p:cNvPr id="6914" name="Group 2"/>
          <p:cNvGrpSpPr/>
          <p:nvPr/>
        </p:nvGrpSpPr>
        <p:grpSpPr>
          <a:xfrm>
            <a:off x="0" y="115920"/>
            <a:ext cx="9142560" cy="6549840"/>
            <a:chOff x="0" y="115920"/>
            <a:chExt cx="9142560" cy="6549840"/>
          </a:xfrm>
        </p:grpSpPr>
        <p:grpSp>
          <p:nvGrpSpPr>
            <p:cNvPr id="6915" name="Group 3"/>
            <p:cNvGrpSpPr/>
            <p:nvPr/>
          </p:nvGrpSpPr>
          <p:grpSpPr>
            <a:xfrm>
              <a:off x="0" y="115920"/>
              <a:ext cx="9142560" cy="6549840"/>
              <a:chOff x="0" y="115920"/>
              <a:chExt cx="9142560" cy="6549840"/>
            </a:xfrm>
          </p:grpSpPr>
          <p:sp>
            <p:nvSpPr>
              <p:cNvPr id="691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1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1"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6"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2006,  έχουμε την Διακήρυξη των Ηνωμένων Εθνών για την εκπαίδευση. </a:t>
            </a:r>
            <a:br>
              <a:rPr sz="2800"/>
            </a:br>
            <a:r>
              <a:rPr b="0" lang="el-GR" sz="2800" spc="-1" strike="noStrike">
                <a:solidFill>
                  <a:srgbClr val="000000"/>
                </a:solidFill>
                <a:latin typeface="Times New Roman"/>
              </a:rPr>
              <a:t>Στο άρθρο 24 αναγνωρίζεται το δικαίωμα των ατόμων με αναπηρία στην εκπαίδευση και </a:t>
            </a:r>
            <a:br>
              <a:rPr sz="2800"/>
            </a:br>
            <a:r>
              <a:rPr b="0" lang="el-GR" sz="2800" spc="-1" strike="noStrike">
                <a:solidFill>
                  <a:srgbClr val="000000"/>
                </a:solidFill>
                <a:latin typeface="Times New Roman"/>
              </a:rPr>
              <a:t>η ανάγκη να εξασφαλιστεί </a:t>
            </a:r>
            <a:br>
              <a:rPr sz="2800"/>
            </a:br>
            <a:r>
              <a:rPr b="0" lang="el-GR" sz="2800" spc="-1" strike="noStrike">
                <a:solidFill>
                  <a:srgbClr val="000000"/>
                </a:solidFill>
                <a:latin typeface="Times New Roman"/>
              </a:rPr>
              <a:t>ένα εκπαιδευτικό σύστημα χωρίς αποκλεισμούς, </a:t>
            </a:r>
            <a:br>
              <a:rPr sz="2800"/>
            </a:br>
            <a:r>
              <a:rPr b="0" lang="el-GR" sz="2800" spc="-1" strike="noStrike">
                <a:solidFill>
                  <a:srgbClr val="000000"/>
                </a:solidFill>
                <a:latin typeface="Times New Roman"/>
              </a:rPr>
              <a:t>που να σέβεται τη διαφορετικότητα και </a:t>
            </a:r>
            <a:br>
              <a:rPr sz="2800"/>
            </a:br>
            <a:r>
              <a:rPr b="0" lang="el-GR" sz="2800" spc="-1" strike="noStrike">
                <a:solidFill>
                  <a:srgbClr val="000000"/>
                </a:solidFill>
                <a:latin typeface="Times New Roman"/>
              </a:rPr>
              <a:t>να παρέχει ίσες ευκαιρίες για όλους. </a:t>
            </a:r>
            <a:br>
              <a:rPr sz="2000"/>
            </a:br>
            <a:endParaRPr b="0" lang="en-US" sz="2800" spc="-1" strike="noStrike">
              <a:solidFill>
                <a:srgbClr val="ffffff"/>
              </a:solidFill>
              <a:latin typeface="Times New Roman"/>
            </a:endParaRPr>
          </a:p>
        </p:txBody>
      </p:sp>
      <p:grpSp>
        <p:nvGrpSpPr>
          <p:cNvPr id="6437" name="Group 2"/>
          <p:cNvGrpSpPr/>
          <p:nvPr/>
        </p:nvGrpSpPr>
        <p:grpSpPr>
          <a:xfrm>
            <a:off x="0" y="115920"/>
            <a:ext cx="9142560" cy="6549840"/>
            <a:chOff x="0" y="115920"/>
            <a:chExt cx="9142560" cy="6549840"/>
          </a:xfrm>
        </p:grpSpPr>
        <p:grpSp>
          <p:nvGrpSpPr>
            <p:cNvPr id="6438" name="Group 3"/>
            <p:cNvGrpSpPr/>
            <p:nvPr/>
          </p:nvGrpSpPr>
          <p:grpSpPr>
            <a:xfrm>
              <a:off x="0" y="115920"/>
              <a:ext cx="9142560" cy="6549840"/>
              <a:chOff x="0" y="115920"/>
              <a:chExt cx="9142560" cy="6549840"/>
            </a:xfrm>
          </p:grpSpPr>
          <p:sp>
            <p:nvSpPr>
              <p:cNvPr id="643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4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4"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2"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6. 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της  εναλλακτικής διδασκαλίας- λαμβάνει χώρα 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a:t>
            </a:r>
            <a:endParaRPr b="0" lang="en-US" sz="2800" spc="-1" strike="noStrike">
              <a:solidFill>
                <a:srgbClr val="ffffff"/>
              </a:solidFill>
              <a:latin typeface="Times New Roman"/>
            </a:endParaRPr>
          </a:p>
        </p:txBody>
      </p:sp>
      <p:grpSp>
        <p:nvGrpSpPr>
          <p:cNvPr id="6923" name="Group 2"/>
          <p:cNvGrpSpPr/>
          <p:nvPr/>
        </p:nvGrpSpPr>
        <p:grpSpPr>
          <a:xfrm>
            <a:off x="0" y="115920"/>
            <a:ext cx="9142560" cy="6549840"/>
            <a:chOff x="0" y="115920"/>
            <a:chExt cx="9142560" cy="6549840"/>
          </a:xfrm>
        </p:grpSpPr>
        <p:grpSp>
          <p:nvGrpSpPr>
            <p:cNvPr id="6924" name="Group 3"/>
            <p:cNvGrpSpPr/>
            <p:nvPr/>
          </p:nvGrpSpPr>
          <p:grpSpPr>
            <a:xfrm>
              <a:off x="0" y="115920"/>
              <a:ext cx="9142560" cy="6549840"/>
              <a:chOff x="0" y="115920"/>
              <a:chExt cx="9142560" cy="6549840"/>
            </a:xfrm>
          </p:grpSpPr>
          <p:sp>
            <p:nvSpPr>
              <p:cNvPr id="692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2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0"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1"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ή τη μορφή συνδιδασκαλίας οι μαθητές έχουν ευκαιρίες περισσότερες και πιο πλούσιες ευκαιρίες αλληλεπίδρασης με τους συμμαθητές τους και τους δασκάλους τους  και λαμβάνουν βοήθεια σε θέματα συμπεριφοράς, ενώ μπορούν να συμμετέχουν σε εργασίες  και να καλύπτουν τα κενά τους. </a:t>
            </a:r>
            <a:endParaRPr b="0" lang="en-US" sz="2800" spc="-1" strike="noStrike">
              <a:solidFill>
                <a:srgbClr val="ffffff"/>
              </a:solidFill>
              <a:latin typeface="Times New Roman"/>
            </a:endParaRPr>
          </a:p>
        </p:txBody>
      </p:sp>
      <p:grpSp>
        <p:nvGrpSpPr>
          <p:cNvPr id="6932" name="Group 2"/>
          <p:cNvGrpSpPr/>
          <p:nvPr/>
        </p:nvGrpSpPr>
        <p:grpSpPr>
          <a:xfrm>
            <a:off x="0" y="115920"/>
            <a:ext cx="9142560" cy="6549840"/>
            <a:chOff x="0" y="115920"/>
            <a:chExt cx="9142560" cy="6549840"/>
          </a:xfrm>
        </p:grpSpPr>
        <p:grpSp>
          <p:nvGrpSpPr>
            <p:cNvPr id="6933" name="Group 3"/>
            <p:cNvGrpSpPr/>
            <p:nvPr/>
          </p:nvGrpSpPr>
          <p:grpSpPr>
            <a:xfrm>
              <a:off x="0" y="115920"/>
              <a:ext cx="9142560" cy="6549840"/>
              <a:chOff x="0" y="115920"/>
              <a:chExt cx="9142560" cy="6549840"/>
            </a:xfrm>
          </p:grpSpPr>
          <p:sp>
            <p:nvSpPr>
              <p:cNvPr id="693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3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9"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a:t>
            </a:r>
            <a:br>
              <a:rPr sz="2800"/>
            </a:br>
            <a:r>
              <a:rPr b="0" lang="el-GR" sz="2800" spc="-1" strike="noStrike">
                <a:solidFill>
                  <a:srgbClr val="000000"/>
                </a:solidFill>
                <a:latin typeface="Times New Roman"/>
              </a:rPr>
              <a:t>Για αυτό το λόγο είναι σημαντικό να αλλάζει τακτικά η σύνθεση της ομάδας που θα λάβει τη διαφοροποιημένη διδασκαλία. </a:t>
            </a:r>
            <a:br>
              <a:rPr sz="2000"/>
            </a:br>
            <a:endParaRPr b="0" lang="en-US" sz="2800" spc="-1" strike="noStrike">
              <a:solidFill>
                <a:srgbClr val="ffffff"/>
              </a:solidFill>
              <a:latin typeface="Times New Roman"/>
            </a:endParaRPr>
          </a:p>
        </p:txBody>
      </p:sp>
      <p:grpSp>
        <p:nvGrpSpPr>
          <p:cNvPr id="6941" name="Group 2"/>
          <p:cNvGrpSpPr/>
          <p:nvPr/>
        </p:nvGrpSpPr>
        <p:grpSpPr>
          <a:xfrm>
            <a:off x="0" y="115920"/>
            <a:ext cx="9142560" cy="6549840"/>
            <a:chOff x="0" y="115920"/>
            <a:chExt cx="9142560" cy="6549840"/>
          </a:xfrm>
        </p:grpSpPr>
        <p:grpSp>
          <p:nvGrpSpPr>
            <p:cNvPr id="6942" name="Group 3"/>
            <p:cNvGrpSpPr/>
            <p:nvPr/>
          </p:nvGrpSpPr>
          <p:grpSpPr>
            <a:xfrm>
              <a:off x="0" y="115920"/>
              <a:ext cx="9142560" cy="6549840"/>
              <a:chOff x="0" y="115920"/>
              <a:chExt cx="9142560" cy="6549840"/>
            </a:xfrm>
          </p:grpSpPr>
          <p:sp>
            <p:nvSpPr>
              <p:cNvPr id="694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4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8"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9"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ΘΕΣΜΙΚΟ ΠΛΑΙΣΙΟ ΣΥΝΔΙΔΑΣΚΑΛΙΑΣ ΣΤΗΝ ΕΛΛΑΔΑ</a:t>
            </a:r>
            <a:br>
              <a:rPr sz="2400"/>
            </a:br>
            <a:br>
              <a:rPr sz="2400"/>
            </a:br>
            <a:r>
              <a:rPr b="0" lang="el-GR" sz="2400" spc="-1" strike="noStrike">
                <a:solidFill>
                  <a:srgbClr val="000000"/>
                </a:solidFill>
                <a:latin typeface="Times New Roman"/>
              </a:rPr>
              <a:t>Στην Ελλάδα  οι μορφές συνδιδασκαλίας  με σκοπό να γίνει φανερό με ποιο τρόπο λειτουργούσε αυτή η εκπαίδευση και αν τελικά η Ελλάδα κατάφερε να προσεγγίσει τη συνεκπαίδευση.</a:t>
            </a:r>
            <a:r>
              <a:rPr b="0" lang="el-GR" sz="2000" spc="-1" strike="noStrike">
                <a:solidFill>
                  <a:srgbClr val="000000"/>
                </a:solidFill>
                <a:latin typeface="Times New Roman"/>
              </a:rPr>
              <a:t> </a:t>
            </a:r>
            <a:endParaRPr b="0" lang="en-US" sz="2000" spc="-1" strike="noStrike">
              <a:solidFill>
                <a:srgbClr val="ffffff"/>
              </a:solidFill>
              <a:latin typeface="Times New Roman"/>
            </a:endParaRPr>
          </a:p>
        </p:txBody>
      </p:sp>
      <p:grpSp>
        <p:nvGrpSpPr>
          <p:cNvPr id="6950" name="Group 2"/>
          <p:cNvGrpSpPr/>
          <p:nvPr/>
        </p:nvGrpSpPr>
        <p:grpSpPr>
          <a:xfrm>
            <a:off x="0" y="115920"/>
            <a:ext cx="9142560" cy="6549840"/>
            <a:chOff x="0" y="115920"/>
            <a:chExt cx="9142560" cy="6549840"/>
          </a:xfrm>
        </p:grpSpPr>
        <p:grpSp>
          <p:nvGrpSpPr>
            <p:cNvPr id="6951" name="Group 3"/>
            <p:cNvGrpSpPr/>
            <p:nvPr/>
          </p:nvGrpSpPr>
          <p:grpSpPr>
            <a:xfrm>
              <a:off x="0" y="115920"/>
              <a:ext cx="9142560" cy="6549840"/>
              <a:chOff x="0" y="115920"/>
              <a:chExt cx="9142560" cy="6549840"/>
            </a:xfrm>
          </p:grpSpPr>
          <p:sp>
            <p:nvSpPr>
              <p:cNvPr id="695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5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7"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Αρχικά, η πρώτη συνταγματική αναφορά για την εκπαίδευση των ατόμων με αναπηρία γίνεται  στο σύνταγμα  του 1975, με το άρθρο 21. </a:t>
            </a:r>
            <a:br>
              <a:rPr sz="2400"/>
            </a:br>
            <a:r>
              <a:rPr b="0" lang="el-GR" sz="2400" spc="-1" strike="noStrike">
                <a:solidFill>
                  <a:srgbClr val="000000"/>
                </a:solidFill>
                <a:latin typeface="Times New Roman"/>
              </a:rPr>
              <a:t>Λίγα χρόνια αργότερα έχουμε πιο ουσιαστική καταγραφή με το ν. 1143/1981, ο οποίος αφορά την Ειδική Αγωγή και την Ειδική Επαγγελματική Εκπαίδευση. </a:t>
            </a:r>
            <a:br>
              <a:rPr sz="2400"/>
            </a:br>
            <a:br>
              <a:rPr sz="2400"/>
            </a:br>
            <a:r>
              <a:rPr b="0" lang="el-GR" sz="2400" spc="-1" strike="noStrike">
                <a:solidFill>
                  <a:srgbClr val="000000"/>
                </a:solidFill>
                <a:latin typeface="Times New Roman"/>
              </a:rPr>
              <a:t>Στο  ν. 1143/1981 με εξουσιοδοτικές διατάξεις( με προεδρικά διατάγματα )προβλέπεται και η λειτουργία «Ειδικών Τάξεων» στα σχολεία γενικής εκπαίδευσης, η οποία ξεκίνησε δύο με τρία αργότερα.</a:t>
            </a:r>
            <a:endParaRPr b="0" lang="en-US" sz="2400" spc="-1" strike="noStrike">
              <a:solidFill>
                <a:srgbClr val="ffffff"/>
              </a:solidFill>
              <a:latin typeface="Times New Roman"/>
            </a:endParaRPr>
          </a:p>
        </p:txBody>
      </p:sp>
      <p:grpSp>
        <p:nvGrpSpPr>
          <p:cNvPr id="6959" name="Group 2"/>
          <p:cNvGrpSpPr/>
          <p:nvPr/>
        </p:nvGrpSpPr>
        <p:grpSpPr>
          <a:xfrm>
            <a:off x="0" y="115920"/>
            <a:ext cx="9142560" cy="6549840"/>
            <a:chOff x="0" y="115920"/>
            <a:chExt cx="9142560" cy="6549840"/>
          </a:xfrm>
        </p:grpSpPr>
        <p:grpSp>
          <p:nvGrpSpPr>
            <p:cNvPr id="6960" name="Group 3"/>
            <p:cNvGrpSpPr/>
            <p:nvPr/>
          </p:nvGrpSpPr>
          <p:grpSpPr>
            <a:xfrm>
              <a:off x="0" y="115920"/>
              <a:ext cx="9142560" cy="6549840"/>
              <a:chOff x="0" y="115920"/>
              <a:chExt cx="9142560" cy="6549840"/>
            </a:xfrm>
          </p:grpSpPr>
          <p:sp>
            <p:nvSpPr>
              <p:cNvPr id="696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6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5"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6"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7" name="Text Box 1"/>
          <p:cNvSpPr/>
          <p:nvPr/>
        </p:nvSpPr>
        <p:spPr>
          <a:xfrm>
            <a:off x="53964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Πλαίσιο 1566/ 1985 αναφέρεται στην ένταξη της Ειδικής Αγωγής στην γενική εκπαίδευση. Σύμφωνα με αυτό το νόμο η πολιτεία αναλαμβάνει ως δικό της έργο την εκπαίδευση των ατόμων  με αναπηρία και θεσπίζει υπηρεσίες υποστήριξης και ειδικούς επιστήμονες, όπως παιδαγωγούς, φυσιοθεραπευτές, κοινωνικούς λειτουργούς και λογοθεραπευτές να πλαισιώσουν τις υπηρεσίες αυτές. </a:t>
            </a:r>
            <a:endParaRPr b="0" lang="en-US" sz="2800" spc="-1" strike="noStrike">
              <a:solidFill>
                <a:srgbClr val="ffffff"/>
              </a:solidFill>
              <a:latin typeface="Times New Roman"/>
            </a:endParaRPr>
          </a:p>
        </p:txBody>
      </p:sp>
      <p:grpSp>
        <p:nvGrpSpPr>
          <p:cNvPr id="6968" name="Group 2"/>
          <p:cNvGrpSpPr/>
          <p:nvPr/>
        </p:nvGrpSpPr>
        <p:grpSpPr>
          <a:xfrm>
            <a:off x="0" y="115920"/>
            <a:ext cx="9142560" cy="6549840"/>
            <a:chOff x="0" y="115920"/>
            <a:chExt cx="9142560" cy="6549840"/>
          </a:xfrm>
        </p:grpSpPr>
        <p:grpSp>
          <p:nvGrpSpPr>
            <p:cNvPr id="6969" name="Group 3"/>
            <p:cNvGrpSpPr/>
            <p:nvPr/>
          </p:nvGrpSpPr>
          <p:grpSpPr>
            <a:xfrm>
              <a:off x="0" y="115920"/>
              <a:ext cx="9142560" cy="6549840"/>
              <a:chOff x="0" y="115920"/>
              <a:chExt cx="9142560" cy="6549840"/>
            </a:xfrm>
          </p:grpSpPr>
          <p:sp>
            <p:nvSpPr>
              <p:cNvPr id="697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7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5"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τηρούμε ότι τις δεκαετίες αυτές υπάρχει μία προσπάθεια βελτίωσης και εξασφάλισης της δημόσιας εκπαίδευσης των ατόμων με αναπηρία και ειδικές εκπαιδευτικές ανάγκες, όμως το ελληνικό σύστημα κινείται  στα πλαίσια του «ιατροκεντρικού μοντέλου», διότι η ορολογία (π.χ. «αποκλίνον άτομο») και οι παροχές φαίνεται να τηρούν κατά βάση ένα σύστημα διαχωρισμού.  </a:t>
            </a:r>
            <a:endParaRPr b="0" lang="en-US" sz="2800" spc="-1" strike="noStrike">
              <a:solidFill>
                <a:srgbClr val="ffffff"/>
              </a:solidFill>
              <a:latin typeface="Times New Roman"/>
            </a:endParaRPr>
          </a:p>
        </p:txBody>
      </p:sp>
      <p:grpSp>
        <p:nvGrpSpPr>
          <p:cNvPr id="6977" name="Group 2"/>
          <p:cNvGrpSpPr/>
          <p:nvPr/>
        </p:nvGrpSpPr>
        <p:grpSpPr>
          <a:xfrm>
            <a:off x="0" y="115920"/>
            <a:ext cx="9142560" cy="6549840"/>
            <a:chOff x="0" y="115920"/>
            <a:chExt cx="9142560" cy="6549840"/>
          </a:xfrm>
        </p:grpSpPr>
        <p:grpSp>
          <p:nvGrpSpPr>
            <p:cNvPr id="6978" name="Group 3"/>
            <p:cNvGrpSpPr/>
            <p:nvPr/>
          </p:nvGrpSpPr>
          <p:grpSpPr>
            <a:xfrm>
              <a:off x="0" y="115920"/>
              <a:ext cx="9142560" cy="6549840"/>
              <a:chOff x="0" y="115920"/>
              <a:chExt cx="9142560" cy="6549840"/>
            </a:xfrm>
          </p:grpSpPr>
          <p:sp>
            <p:nvSpPr>
              <p:cNvPr id="697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8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4"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ύο πιο πρόσφατοι νόμοι για την ειδική αγωγή  ν.2817/2000  και ν. 3699/2008 κινούνται σε πιο φιλελεύθερες  κατευθύνσεις.</a:t>
            </a:r>
            <a:br>
              <a:rPr sz="2800"/>
            </a:br>
            <a:r>
              <a:rPr b="0" lang="el-GR" sz="2800" spc="-1" strike="noStrike">
                <a:solidFill>
                  <a:srgbClr val="000000"/>
                </a:solidFill>
                <a:latin typeface="Times New Roman"/>
              </a:rPr>
              <a:t>Η αύξηση των παιδιών με ειδικές εκπαιδευτικές ανάγκες και αναπηρία, η εξέλιξη στο χώρο της Παιδαγωγικής στην Ελλάδα και η επιρροή από τα δεδομένα του εξωτερικού οδηγούν στην αλλαγή της νομοθεσίας στην Ελλάδα και στη θέσπιση μίας μορφής συνδιδασκαλίας που στην Ελλάδα παίρνει τη μορφή της Παράλληλης Στήριξης. </a:t>
            </a:r>
            <a:br>
              <a:rPr sz="2000"/>
            </a:br>
            <a:endParaRPr b="0" lang="en-US" sz="2800" spc="-1" strike="noStrike">
              <a:solidFill>
                <a:srgbClr val="ffffff"/>
              </a:solidFill>
              <a:latin typeface="Times New Roman"/>
            </a:endParaRPr>
          </a:p>
        </p:txBody>
      </p:sp>
      <p:grpSp>
        <p:nvGrpSpPr>
          <p:cNvPr id="6986" name="Group 2"/>
          <p:cNvGrpSpPr/>
          <p:nvPr/>
        </p:nvGrpSpPr>
        <p:grpSpPr>
          <a:xfrm>
            <a:off x="0" y="115920"/>
            <a:ext cx="9142560" cy="6549840"/>
            <a:chOff x="0" y="115920"/>
            <a:chExt cx="9142560" cy="6549840"/>
          </a:xfrm>
        </p:grpSpPr>
        <p:grpSp>
          <p:nvGrpSpPr>
            <p:cNvPr id="6987" name="Group 3"/>
            <p:cNvGrpSpPr/>
            <p:nvPr/>
          </p:nvGrpSpPr>
          <p:grpSpPr>
            <a:xfrm>
              <a:off x="0" y="115920"/>
              <a:ext cx="9142560" cy="6549840"/>
              <a:chOff x="0" y="115920"/>
              <a:chExt cx="9142560" cy="6549840"/>
            </a:xfrm>
          </p:grpSpPr>
          <p:sp>
            <p:nvSpPr>
              <p:cNvPr id="698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9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3"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4" name="Text Box 1"/>
          <p:cNvSpPr/>
          <p:nvPr/>
        </p:nvSpPr>
        <p:spPr>
          <a:xfrm>
            <a:off x="46836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 2817/2000 προσδιορίζει  τις κατηγορίες των ειδικών εκπαιδευτικών αναγκών και τους σκοπούς της ειδικής εκπαίδευσης και της επαγγελματικής ειδικής εκπαίδευσης. </a:t>
            </a:r>
            <a:br>
              <a:rPr sz="2800"/>
            </a:br>
            <a:r>
              <a:rPr b="0" lang="el-GR" sz="2800" spc="-1" strike="noStrike">
                <a:solidFill>
                  <a:srgbClr val="000000"/>
                </a:solidFill>
                <a:latin typeface="Times New Roman"/>
              </a:rPr>
              <a:t>Αναλυτικότερα, οι σκοποί αυτοί αφορούν την ανάπτυξη της προσωπικότητας και τη βελτίωση των δεξιοτήτων, αλλά και την επαγγελματική γνώση και την κοινωνική ένταξη και ισότιμη κοινωνική συμμετοχή. </a:t>
            </a:r>
            <a:br>
              <a:rPr sz="2000"/>
            </a:br>
            <a:endParaRPr b="0" lang="en-US" sz="2800" spc="-1" strike="noStrike">
              <a:solidFill>
                <a:srgbClr val="ffffff"/>
              </a:solidFill>
              <a:latin typeface="Times New Roman"/>
            </a:endParaRPr>
          </a:p>
        </p:txBody>
      </p:sp>
      <p:grpSp>
        <p:nvGrpSpPr>
          <p:cNvPr id="6995" name="Group 2"/>
          <p:cNvGrpSpPr/>
          <p:nvPr/>
        </p:nvGrpSpPr>
        <p:grpSpPr>
          <a:xfrm>
            <a:off x="0" y="115920"/>
            <a:ext cx="9142560" cy="6549840"/>
            <a:chOff x="0" y="115920"/>
            <a:chExt cx="9142560" cy="6549840"/>
          </a:xfrm>
        </p:grpSpPr>
        <p:grpSp>
          <p:nvGrpSpPr>
            <p:cNvPr id="6996" name="Group 3"/>
            <p:cNvGrpSpPr/>
            <p:nvPr/>
          </p:nvGrpSpPr>
          <p:grpSpPr>
            <a:xfrm>
              <a:off x="0" y="115920"/>
              <a:ext cx="9142560" cy="6549840"/>
              <a:chOff x="0" y="115920"/>
              <a:chExt cx="9142560" cy="6549840"/>
            </a:xfrm>
          </p:grpSpPr>
          <p:sp>
            <p:nvSpPr>
              <p:cNvPr id="699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9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2"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3" name="Text Box 1"/>
          <p:cNvSpPr/>
          <p:nvPr/>
        </p:nvSpPr>
        <p:spPr>
          <a:xfrm>
            <a:off x="46836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3200" spc="-1" strike="noStrike">
                <a:solidFill>
                  <a:srgbClr val="000000"/>
                </a:solidFill>
                <a:latin typeface="Times New Roman"/>
              </a:rPr>
              <a:t>Στον ίδιο νόμο αναφέρεται ξεκάθαρα και η δυνατότητα εκπαίδευσης μέσα στο γενικό σχολείο με παράλληλη στήριξη από εκπαιδευτικό ειδικής αγωγής </a:t>
            </a:r>
            <a:br>
              <a:rPr sz="3200"/>
            </a:br>
            <a:r>
              <a:rPr b="0" lang="el-GR" sz="3200" spc="-1" strike="noStrike">
                <a:solidFill>
                  <a:srgbClr val="000000"/>
                </a:solidFill>
                <a:latin typeface="Times New Roman"/>
              </a:rPr>
              <a:t>( άρθρο 7 τουΝ. 2817/2000). </a:t>
            </a:r>
            <a:br>
              <a:rPr sz="2000"/>
            </a:br>
            <a:endParaRPr b="0" lang="en-US" sz="3200" spc="-1" strike="noStrike">
              <a:solidFill>
                <a:srgbClr val="ffffff"/>
              </a:solidFill>
              <a:latin typeface="Times New Roman"/>
            </a:endParaRPr>
          </a:p>
        </p:txBody>
      </p:sp>
      <p:grpSp>
        <p:nvGrpSpPr>
          <p:cNvPr id="7004" name="Group 2"/>
          <p:cNvGrpSpPr/>
          <p:nvPr/>
        </p:nvGrpSpPr>
        <p:grpSpPr>
          <a:xfrm>
            <a:off x="0" y="115920"/>
            <a:ext cx="9142560" cy="6549840"/>
            <a:chOff x="0" y="115920"/>
            <a:chExt cx="9142560" cy="6549840"/>
          </a:xfrm>
        </p:grpSpPr>
        <p:grpSp>
          <p:nvGrpSpPr>
            <p:cNvPr id="7005" name="Group 3"/>
            <p:cNvGrpSpPr/>
            <p:nvPr/>
          </p:nvGrpSpPr>
          <p:grpSpPr>
            <a:xfrm>
              <a:off x="0" y="115920"/>
              <a:ext cx="9142560" cy="6549840"/>
              <a:chOff x="0" y="115920"/>
              <a:chExt cx="9142560" cy="6549840"/>
            </a:xfrm>
          </p:grpSpPr>
          <p:sp>
            <p:nvSpPr>
              <p:cNvPr id="700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0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1"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5"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κράτη είναι υπεύθυνα </a:t>
            </a:r>
            <a:br>
              <a:rPr sz="2800"/>
            </a:br>
            <a:r>
              <a:rPr b="0" lang="el-GR" sz="2800" spc="-1" strike="noStrike">
                <a:solidFill>
                  <a:srgbClr val="000000"/>
                </a:solidFill>
                <a:latin typeface="Times New Roman"/>
              </a:rPr>
              <a:t>να παρέχουν ισότιμη πρόσβαση σε όλους </a:t>
            </a:r>
            <a:br>
              <a:rPr sz="2800"/>
            </a:br>
            <a:r>
              <a:rPr b="0" lang="el-GR" sz="2800" spc="-1" strike="noStrike">
                <a:solidFill>
                  <a:srgbClr val="000000"/>
                </a:solidFill>
                <a:latin typeface="Times New Roman"/>
              </a:rPr>
              <a:t>ανεξαιρέτως και εξειδικευμένα προγράμματα υποστήριξης. </a:t>
            </a:r>
            <a:br>
              <a:rPr sz="2800"/>
            </a:br>
            <a:br>
              <a:rPr sz="2800"/>
            </a:br>
            <a:r>
              <a:rPr b="0" lang="el-GR" sz="2800" spc="-1" strike="noStrike">
                <a:solidFill>
                  <a:srgbClr val="000000"/>
                </a:solidFill>
                <a:latin typeface="Times New Roman"/>
              </a:rPr>
              <a:t> Έτσι σιγά σιγά οδηγούμαστε προς </a:t>
            </a:r>
            <a:r>
              <a:rPr b="1" lang="el-GR" sz="2800" spc="-1" strike="noStrike">
                <a:solidFill>
                  <a:srgbClr val="000000"/>
                </a:solidFill>
                <a:latin typeface="Times New Roman"/>
              </a:rPr>
              <a:t>την κατεύθυνση </a:t>
            </a:r>
            <a:br>
              <a:rPr sz="2800"/>
            </a:br>
            <a:r>
              <a:rPr b="1" lang="el-GR" sz="2800" spc="-1" strike="noStrike">
                <a:solidFill>
                  <a:srgbClr val="000000"/>
                </a:solidFill>
                <a:latin typeface="Times New Roman"/>
              </a:rPr>
              <a:t>της συνεκπαίδευσης και του Ενιαίου Σχολείου</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πό πολλούς επιστήμονες εκφράζονται προβληματισμοί για το αν αυτό επιτυγχάνεται ή μπορεί να επιτευχθεί και στην πράξη. </a:t>
            </a:r>
            <a:br>
              <a:rPr sz="2000"/>
            </a:br>
            <a:endParaRPr b="0" lang="en-US" sz="2800" spc="-1" strike="noStrike">
              <a:solidFill>
                <a:srgbClr val="ffffff"/>
              </a:solidFill>
              <a:latin typeface="Times New Roman"/>
            </a:endParaRPr>
          </a:p>
        </p:txBody>
      </p:sp>
      <p:grpSp>
        <p:nvGrpSpPr>
          <p:cNvPr id="6446" name="Group 2"/>
          <p:cNvGrpSpPr/>
          <p:nvPr/>
        </p:nvGrpSpPr>
        <p:grpSpPr>
          <a:xfrm>
            <a:off x="0" y="115920"/>
            <a:ext cx="9142560" cy="6549840"/>
            <a:chOff x="0" y="115920"/>
            <a:chExt cx="9142560" cy="6549840"/>
          </a:xfrm>
        </p:grpSpPr>
        <p:grpSp>
          <p:nvGrpSpPr>
            <p:cNvPr id="6447" name="Group 3"/>
            <p:cNvGrpSpPr/>
            <p:nvPr/>
          </p:nvGrpSpPr>
          <p:grpSpPr>
            <a:xfrm>
              <a:off x="0" y="115920"/>
              <a:ext cx="9142560" cy="6549840"/>
              <a:chOff x="0" y="115920"/>
              <a:chExt cx="9142560" cy="6549840"/>
            </a:xfrm>
          </p:grpSpPr>
          <p:sp>
            <p:nvSpPr>
              <p:cNvPr id="644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5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3"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ιο πρόσφατος νόμος 3699/2008  δίνει  τη δυνατότητα φοίτησης στο γενικό σχολείο και στα παιδιά με ειδικές εκπαιδευτικές ανάγκες με υποστήριξη από ειδικό παιδαγωγό, ανάλογα με τη σοβαρότητα και το είδος της διάγνωσης. </a:t>
            </a:r>
            <a:br>
              <a:rPr sz="2800"/>
            </a:br>
            <a:r>
              <a:rPr b="1" lang="el-GR" sz="2800" spc="-1" strike="noStrike">
                <a:solidFill>
                  <a:srgbClr val="000000"/>
                </a:solidFill>
                <a:latin typeface="Times New Roman"/>
              </a:rPr>
              <a:t>Αυτή η μορφή συνδιδασκαλίας είναι η   Παράλληλη Στήριξη.</a:t>
            </a:r>
            <a:br>
              <a:rPr sz="2000"/>
            </a:br>
            <a:endParaRPr b="0" lang="en-US" sz="2800" spc="-1" strike="noStrike">
              <a:solidFill>
                <a:srgbClr val="ffffff"/>
              </a:solidFill>
              <a:latin typeface="Times New Roman"/>
            </a:endParaRPr>
          </a:p>
        </p:txBody>
      </p:sp>
      <p:grpSp>
        <p:nvGrpSpPr>
          <p:cNvPr id="7013" name="Group 2"/>
          <p:cNvGrpSpPr/>
          <p:nvPr/>
        </p:nvGrpSpPr>
        <p:grpSpPr>
          <a:xfrm>
            <a:off x="0" y="115920"/>
            <a:ext cx="9142560" cy="6549840"/>
            <a:chOff x="0" y="115920"/>
            <a:chExt cx="9142560" cy="6549840"/>
          </a:xfrm>
        </p:grpSpPr>
        <p:grpSp>
          <p:nvGrpSpPr>
            <p:cNvPr id="7014" name="Group 3"/>
            <p:cNvGrpSpPr/>
            <p:nvPr/>
          </p:nvGrpSpPr>
          <p:grpSpPr>
            <a:xfrm>
              <a:off x="0" y="115920"/>
              <a:ext cx="9142560" cy="6549840"/>
              <a:chOff x="0" y="115920"/>
              <a:chExt cx="9142560" cy="6549840"/>
            </a:xfrm>
          </p:grpSpPr>
          <p:sp>
            <p:nvSpPr>
              <p:cNvPr id="701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1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0"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1"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Στήριξη καθορίζεται από το αρμόδιο ΚΕΣΥ, το οποίο εισηγείται με γραπτή γνωμάτευση που είναι απαραίτητη και εξηγεί τους λόγους και τις ώρες της παράλληλης στήριξης, που μπορεί να παρέχεται στο παιδί ακόμη και αν λειτουργεί στο σχολείο τμήμα ένταξης. Η Παράλληλη Στήριξη υλοποιείται από τους εκπαιδευτικούς που είναι εγγεγραμμένοι στον Πίνακα Β1(Κύριος πίνακας)</a:t>
            </a:r>
            <a:br>
              <a:rPr sz="2800"/>
            </a:br>
            <a:br>
              <a:rPr sz="2800"/>
            </a:br>
            <a:endParaRPr b="0" lang="en-US" sz="2800" spc="-1" strike="noStrike">
              <a:solidFill>
                <a:srgbClr val="ffffff"/>
              </a:solidFill>
              <a:latin typeface="Times New Roman"/>
            </a:endParaRPr>
          </a:p>
        </p:txBody>
      </p:sp>
      <p:grpSp>
        <p:nvGrpSpPr>
          <p:cNvPr id="7022" name="Group 2"/>
          <p:cNvGrpSpPr/>
          <p:nvPr/>
        </p:nvGrpSpPr>
        <p:grpSpPr>
          <a:xfrm>
            <a:off x="0" y="115920"/>
            <a:ext cx="9142560" cy="6549840"/>
            <a:chOff x="0" y="115920"/>
            <a:chExt cx="9142560" cy="6549840"/>
          </a:xfrm>
        </p:grpSpPr>
        <p:grpSp>
          <p:nvGrpSpPr>
            <p:cNvPr id="7023" name="Group 3"/>
            <p:cNvGrpSpPr/>
            <p:nvPr/>
          </p:nvGrpSpPr>
          <p:grpSpPr>
            <a:xfrm>
              <a:off x="0" y="115920"/>
              <a:ext cx="9142560" cy="6549840"/>
              <a:chOff x="0" y="115920"/>
              <a:chExt cx="9142560" cy="6549840"/>
            </a:xfrm>
          </p:grpSpPr>
          <p:sp>
            <p:nvSpPr>
              <p:cNvPr id="702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2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9"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0"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ανάγκες για ειδικούς εκπαιδευτικούς δεν επαρκούν για να καλύψουν τα κενά, τότε σύμφωνα με το Ν. 3879/2010, προσλαμβάνονται   εκπαιδευτικοί που είναι εγγεγραμμένοι στον Πίνακα Β2(Επικουρικός πίνακας)  και στη συνέχεια αν και αυτοί οι πίνακες εξαντληθούν από τους γενικούς πίνακες </a:t>
            </a:r>
            <a:r>
              <a:rPr b="0" lang="el-GR"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7031" name="Group 2"/>
          <p:cNvGrpSpPr/>
          <p:nvPr/>
        </p:nvGrpSpPr>
        <p:grpSpPr>
          <a:xfrm>
            <a:off x="0" y="115920"/>
            <a:ext cx="9142560" cy="6549840"/>
            <a:chOff x="0" y="115920"/>
            <a:chExt cx="9142560" cy="6549840"/>
          </a:xfrm>
        </p:grpSpPr>
        <p:grpSp>
          <p:nvGrpSpPr>
            <p:cNvPr id="7032" name="Group 3"/>
            <p:cNvGrpSpPr/>
            <p:nvPr/>
          </p:nvGrpSpPr>
          <p:grpSpPr>
            <a:xfrm>
              <a:off x="0" y="115920"/>
              <a:ext cx="9142560" cy="6549840"/>
              <a:chOff x="0" y="115920"/>
              <a:chExt cx="9142560" cy="6549840"/>
            </a:xfrm>
          </p:grpSpPr>
          <p:sp>
            <p:nvSpPr>
              <p:cNvPr id="703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3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3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8"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Τέλος, όσοι εκπαιδευτικοί αναλαμβάνουν παιδιά με προβλήματα ακοής  είναι απαραίτητο να γνωρίζουν τη Νοηματική Γλώσσα, </a:t>
            </a:r>
            <a:br>
              <a:rPr sz="2400"/>
            </a:br>
            <a:r>
              <a:rPr b="0" lang="el-GR" sz="2400" spc="-1" strike="noStrike">
                <a:solidFill>
                  <a:srgbClr val="000000"/>
                </a:solidFill>
                <a:latin typeface="Times New Roman"/>
              </a:rPr>
              <a:t>ενώ όσοι αναλαμβάνουν παιδιά με προβλήματα όρασης πρέπει να είναι γνώστες του συστήματος </a:t>
            </a:r>
            <a:r>
              <a:rPr b="0" lang="en-US" sz="2400" spc="-1" strike="noStrike">
                <a:solidFill>
                  <a:srgbClr val="000000"/>
                </a:solidFill>
                <a:latin typeface="Times New Roman"/>
              </a:rPr>
              <a:t>Braile</a:t>
            </a:r>
            <a:r>
              <a:rPr b="0" lang="el-GR" sz="2400" spc="-1" strike="noStrike">
                <a:solidFill>
                  <a:srgbClr val="000000"/>
                </a:solidFill>
                <a:latin typeface="Times New Roman"/>
              </a:rPr>
              <a:t>. </a:t>
            </a:r>
            <a:br>
              <a:rPr sz="2400"/>
            </a:br>
            <a:br>
              <a:rPr sz="2400"/>
            </a:br>
            <a:r>
              <a:rPr b="0" lang="el-GR" sz="2400" spc="-1" strike="noStrike">
                <a:solidFill>
                  <a:srgbClr val="000000"/>
                </a:solidFill>
                <a:latin typeface="Times New Roman"/>
              </a:rPr>
              <a:t> Προβλέπεται επίσης βοηθητικό προσωπικό για τα παιδιά που δεν αυτοεξυπηρετούνται. </a:t>
            </a:r>
            <a:br>
              <a:rPr sz="2400"/>
            </a:br>
            <a:br>
              <a:rPr sz="2000"/>
            </a:br>
            <a:endParaRPr b="0" lang="en-US" sz="2400" spc="-1" strike="noStrike">
              <a:solidFill>
                <a:srgbClr val="ffffff"/>
              </a:solidFill>
              <a:latin typeface="Times New Roman"/>
            </a:endParaRPr>
          </a:p>
        </p:txBody>
      </p:sp>
      <p:grpSp>
        <p:nvGrpSpPr>
          <p:cNvPr id="7040" name="Group 2"/>
          <p:cNvGrpSpPr/>
          <p:nvPr/>
        </p:nvGrpSpPr>
        <p:grpSpPr>
          <a:xfrm>
            <a:off x="0" y="115920"/>
            <a:ext cx="9142560" cy="6549840"/>
            <a:chOff x="0" y="115920"/>
            <a:chExt cx="9142560" cy="6549840"/>
          </a:xfrm>
        </p:grpSpPr>
        <p:grpSp>
          <p:nvGrpSpPr>
            <p:cNvPr id="7041" name="Group 3"/>
            <p:cNvGrpSpPr/>
            <p:nvPr/>
          </p:nvGrpSpPr>
          <p:grpSpPr>
            <a:xfrm>
              <a:off x="0" y="115920"/>
              <a:ext cx="9142560" cy="6549840"/>
              <a:chOff x="0" y="115920"/>
              <a:chExt cx="9142560" cy="6549840"/>
            </a:xfrm>
          </p:grpSpPr>
          <p:sp>
            <p:nvSpPr>
              <p:cNvPr id="704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4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4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47"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8"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ό το πλαίσιο </a:t>
            </a:r>
            <a:br>
              <a:rPr sz="2800"/>
            </a:br>
            <a:r>
              <a:rPr b="0" lang="el-GR" sz="2800" spc="-1" strike="noStrike">
                <a:solidFill>
                  <a:srgbClr val="000000"/>
                </a:solidFill>
                <a:latin typeface="Times New Roman"/>
              </a:rPr>
              <a:t>λειτουργεί σήμερα στην Ελλάδα </a:t>
            </a:r>
            <a:br>
              <a:rPr sz="2800"/>
            </a:br>
            <a:r>
              <a:rPr b="0" lang="el-GR" sz="2800" spc="-1" strike="noStrike">
                <a:solidFill>
                  <a:srgbClr val="000000"/>
                </a:solidFill>
                <a:latin typeface="Times New Roman"/>
              </a:rPr>
              <a:t>ο θεσμός της συνδιδασκαλίας και </a:t>
            </a:r>
            <a:br>
              <a:rPr sz="2800"/>
            </a:br>
            <a:r>
              <a:rPr b="0" lang="el-GR" sz="2800" spc="-1" strike="noStrike">
                <a:solidFill>
                  <a:srgbClr val="000000"/>
                </a:solidFill>
                <a:latin typeface="Times New Roman"/>
              </a:rPr>
              <a:t>της συνεκπαίδευσης.  </a:t>
            </a:r>
            <a:endParaRPr b="0" lang="en-US" sz="2800" spc="-1" strike="noStrike">
              <a:solidFill>
                <a:srgbClr val="ffffff"/>
              </a:solidFill>
              <a:latin typeface="Times New Roman"/>
            </a:endParaRPr>
          </a:p>
        </p:txBody>
      </p:sp>
      <p:grpSp>
        <p:nvGrpSpPr>
          <p:cNvPr id="7049" name="Group 2"/>
          <p:cNvGrpSpPr/>
          <p:nvPr/>
        </p:nvGrpSpPr>
        <p:grpSpPr>
          <a:xfrm>
            <a:off x="0" y="115920"/>
            <a:ext cx="9142560" cy="6549840"/>
            <a:chOff x="0" y="115920"/>
            <a:chExt cx="9142560" cy="6549840"/>
          </a:xfrm>
        </p:grpSpPr>
        <p:grpSp>
          <p:nvGrpSpPr>
            <p:cNvPr id="7050" name="Group 3"/>
            <p:cNvGrpSpPr/>
            <p:nvPr/>
          </p:nvGrpSpPr>
          <p:grpSpPr>
            <a:xfrm>
              <a:off x="0" y="115920"/>
              <a:ext cx="9142560" cy="6549840"/>
              <a:chOff x="0" y="115920"/>
              <a:chExt cx="9142560" cy="6549840"/>
            </a:xfrm>
          </p:grpSpPr>
          <p:sp>
            <p:nvSpPr>
              <p:cNvPr id="705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5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5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56"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7"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ΑΝΤΙΛΗΨΕΙΣ ΚΑΙ ΡΟΛΟΙ ΕΚΠΑΙΔΕΥΤΙΚΩΝ </a:t>
            </a:r>
            <a:br>
              <a:rPr sz="2000"/>
            </a:br>
            <a:r>
              <a:rPr b="1" lang="el-GR" sz="2000" spc="-1" strike="noStrike">
                <a:solidFill>
                  <a:srgbClr val="000000"/>
                </a:solidFill>
                <a:latin typeface="Times New Roman"/>
              </a:rPr>
              <a:t>ΓΙΑ ΤΗΝ ΠΑΡΑΛΛΗΛΗ ΣΤΗΡΙΞΗ </a:t>
            </a:r>
            <a:br>
              <a:rPr sz="2000"/>
            </a:br>
            <a:r>
              <a:rPr b="1" lang="el-GR" sz="2000" spc="-1" strike="noStrike">
                <a:solidFill>
                  <a:srgbClr val="000000"/>
                </a:solidFill>
                <a:latin typeface="Times New Roman"/>
              </a:rPr>
              <a:t>ΚΑΙ ΤΗ ΣΥΝΔΙΔΑΣΚΑΛΙΑ</a:t>
            </a:r>
            <a:br>
              <a:rPr sz="2000"/>
            </a:br>
            <a:br>
              <a:rPr sz="2000"/>
            </a:br>
            <a:r>
              <a:rPr b="0" lang="el-GR" sz="2400" spc="-1" strike="noStrike">
                <a:solidFill>
                  <a:srgbClr val="000000"/>
                </a:solidFill>
                <a:latin typeface="Times New Roman"/>
              </a:rPr>
              <a:t>Σύμφωνα με την </a:t>
            </a:r>
            <a:r>
              <a:rPr b="0" lang="en-US" sz="2400" spc="-1" strike="noStrike">
                <a:solidFill>
                  <a:srgbClr val="000000"/>
                </a:solidFill>
                <a:latin typeface="Times New Roman"/>
              </a:rPr>
              <a:t>UNESCO</a:t>
            </a:r>
            <a:r>
              <a:rPr b="0" lang="el-GR" sz="2400" spc="-1" strike="noStrike">
                <a:solidFill>
                  <a:srgbClr val="000000"/>
                </a:solidFill>
                <a:latin typeface="Times New Roman"/>
              </a:rPr>
              <a:t> (1994)  η επιτυχία ενός προγράμματος συνεκπαίδευσης έχει να κάνει με το βαθμό της παιδοκεντρικότητας και τη διδακτική μέθοδο. Το 2003 ο Ευρωπαϊκός Φορέας Ειδικής Αγωγής εξάγει τη διαπίστωση ότι οι εκπαιδευτικοί έχουν θετική στάση απέναντι στη συνεκπαίδευση όμως δεν έχουν τα ίδια θετικά συναισθήματα όταν πρέπει να εντάξουν στην πραγματικότητα στην τάξη τους παιδιά με ειδικές εκπαιδευτικές ανάγκες και αναπηρία. </a:t>
            </a:r>
            <a:br>
              <a:rPr sz="2000"/>
            </a:br>
            <a:endParaRPr b="0" lang="en-US" sz="2400" spc="-1" strike="noStrike">
              <a:solidFill>
                <a:srgbClr val="ffffff"/>
              </a:solidFill>
              <a:latin typeface="Times New Roman"/>
            </a:endParaRPr>
          </a:p>
        </p:txBody>
      </p:sp>
      <p:grpSp>
        <p:nvGrpSpPr>
          <p:cNvPr id="7058" name="Group 2"/>
          <p:cNvGrpSpPr/>
          <p:nvPr/>
        </p:nvGrpSpPr>
        <p:grpSpPr>
          <a:xfrm>
            <a:off x="0" y="115920"/>
            <a:ext cx="9142560" cy="6549840"/>
            <a:chOff x="0" y="115920"/>
            <a:chExt cx="9142560" cy="6549840"/>
          </a:xfrm>
        </p:grpSpPr>
        <p:grpSp>
          <p:nvGrpSpPr>
            <p:cNvPr id="7059" name="Group 3"/>
            <p:cNvGrpSpPr/>
            <p:nvPr/>
          </p:nvGrpSpPr>
          <p:grpSpPr>
            <a:xfrm>
              <a:off x="0" y="115920"/>
              <a:ext cx="9142560" cy="6549840"/>
              <a:chOff x="0" y="115920"/>
              <a:chExt cx="9142560" cy="6549840"/>
            </a:xfrm>
          </p:grpSpPr>
          <p:sp>
            <p:nvSpPr>
              <p:cNvPr id="706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6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6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4" name="Rectangle 8"/>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65"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διάφορες έρευνες που έχουν διεξαχθεί στην Ελλάδα και στο εξωτερικό οι εκπαιδευτικοί έχουν αναδείξει κάποιους βασικούς παράγοντες που επηρεάζουν τη θετική ή αρνητική αντίληψή τους απέναντι στην ενταξιακή μέθοδο της συνδιδασκαλίας. </a:t>
            </a:r>
            <a:br>
              <a:rPr sz="2400"/>
            </a:br>
            <a:r>
              <a:rPr b="0" lang="el-GR" sz="2400" spc="-1" strike="noStrike">
                <a:solidFill>
                  <a:srgbClr val="000000"/>
                </a:solidFill>
                <a:latin typeface="Times New Roman"/>
              </a:rPr>
              <a:t>Τα θέματα αυτά είναι η ελλιπής επιμόρφωση, εκπαίδευση και κατάρτιση, η ελλιπής υποστήριξη, η έλλειψη εργαστηριακού εξοπλισμού και υποστήριξης από το κράτος. </a:t>
            </a:r>
            <a:endParaRPr b="0" lang="en-US" sz="2400" spc="-1" strike="noStrike">
              <a:solidFill>
                <a:srgbClr val="ffffff"/>
              </a:solidFill>
              <a:latin typeface="Times New Roman"/>
            </a:endParaRPr>
          </a:p>
        </p:txBody>
      </p:sp>
      <p:grpSp>
        <p:nvGrpSpPr>
          <p:cNvPr id="7067" name="Group 2"/>
          <p:cNvGrpSpPr/>
          <p:nvPr/>
        </p:nvGrpSpPr>
        <p:grpSpPr>
          <a:xfrm>
            <a:off x="0" y="115920"/>
            <a:ext cx="9142560" cy="6549840"/>
            <a:chOff x="0" y="115920"/>
            <a:chExt cx="9142560" cy="6549840"/>
          </a:xfrm>
        </p:grpSpPr>
        <p:grpSp>
          <p:nvGrpSpPr>
            <p:cNvPr id="7068" name="Group 3"/>
            <p:cNvGrpSpPr/>
            <p:nvPr/>
          </p:nvGrpSpPr>
          <p:grpSpPr>
            <a:xfrm>
              <a:off x="0" y="115920"/>
              <a:ext cx="9142560" cy="6549840"/>
              <a:chOff x="0" y="115920"/>
              <a:chExt cx="9142560" cy="6549840"/>
            </a:xfrm>
          </p:grpSpPr>
          <p:sp>
            <p:nvSpPr>
              <p:cNvPr id="706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7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7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74"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5" name="Text Box 1"/>
          <p:cNvSpPr/>
          <p:nvPr/>
        </p:nvSpPr>
        <p:spPr>
          <a:xfrm>
            <a:off x="1042920" y="1233360"/>
            <a:ext cx="7596360" cy="4391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Πιο αναλυτικά, σε έρευνα  ερευνητών </a:t>
            </a:r>
            <a:br>
              <a:rPr sz="2400"/>
            </a:br>
            <a:r>
              <a:rPr b="0" lang="el-GR" sz="2400" spc="-1" strike="noStrike">
                <a:solidFill>
                  <a:srgbClr val="000000"/>
                </a:solidFill>
                <a:latin typeface="Times New Roman"/>
              </a:rPr>
              <a:t>( </a:t>
            </a:r>
            <a:r>
              <a:rPr b="0" lang="en-US" sz="2400" spc="-1" strike="noStrike">
                <a:solidFill>
                  <a:srgbClr val="000000"/>
                </a:solidFill>
                <a:latin typeface="Times New Roman"/>
              </a:rPr>
              <a:t>Pijl </a:t>
            </a:r>
            <a:r>
              <a:rPr b="0" lang="el-GR" sz="2400" spc="-1" strike="noStrike">
                <a:solidFill>
                  <a:srgbClr val="000000"/>
                </a:solidFill>
                <a:latin typeface="Times New Roman"/>
              </a:rPr>
              <a:t>&amp; </a:t>
            </a:r>
            <a:r>
              <a:rPr b="0" lang="en-US" sz="2400" spc="-1" strike="noStrike">
                <a:solidFill>
                  <a:srgbClr val="000000"/>
                </a:solidFill>
                <a:latin typeface="Times New Roman"/>
              </a:rPr>
              <a:t>Minnaert</a:t>
            </a:r>
            <a:r>
              <a:rPr b="0" lang="el-GR" sz="2400" spc="-1" strike="noStrike">
                <a:solidFill>
                  <a:srgbClr val="000000"/>
                </a:solidFill>
                <a:latin typeface="Times New Roman"/>
              </a:rPr>
              <a:t> 2011) φάνηκε ότι οι περισσότεροι εκπαιδευτικοί είναι ουδέτεροι ή αρνητικοί στο να εντάξουν μαθητές με ειδικές ανάγκες και αναπηρίες αλλά είναι αρνητικοί γενικά και με τη μέθοδο της συνδιδασκαλίας. </a:t>
            </a:r>
            <a:endParaRPr b="0" lang="en-US" sz="2400" spc="-1" strike="noStrike">
              <a:solidFill>
                <a:srgbClr val="ffffff"/>
              </a:solidFill>
              <a:latin typeface="Times New Roman"/>
            </a:endParaRPr>
          </a:p>
        </p:txBody>
      </p:sp>
      <p:grpSp>
        <p:nvGrpSpPr>
          <p:cNvPr id="7076" name="Group 2"/>
          <p:cNvGrpSpPr/>
          <p:nvPr/>
        </p:nvGrpSpPr>
        <p:grpSpPr>
          <a:xfrm>
            <a:off x="0" y="115920"/>
            <a:ext cx="9142560" cy="6549840"/>
            <a:chOff x="0" y="115920"/>
            <a:chExt cx="9142560" cy="6549840"/>
          </a:xfrm>
        </p:grpSpPr>
        <p:grpSp>
          <p:nvGrpSpPr>
            <p:cNvPr id="7077" name="Group 3"/>
            <p:cNvGrpSpPr/>
            <p:nvPr/>
          </p:nvGrpSpPr>
          <p:grpSpPr>
            <a:xfrm>
              <a:off x="0" y="115920"/>
              <a:ext cx="9142560" cy="6549840"/>
              <a:chOff x="0" y="115920"/>
              <a:chExt cx="9142560" cy="6549840"/>
            </a:xfrm>
          </p:grpSpPr>
          <p:sp>
            <p:nvSpPr>
              <p:cNvPr id="707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8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83"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4"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Η στάση τους εξαρτάται από το βαθμό επιμόρφωσής τους σε θέματα ειδικής αγωγής (</a:t>
            </a:r>
            <a:r>
              <a:rPr b="0" lang="en-US" sz="2400" spc="-1" strike="noStrike">
                <a:solidFill>
                  <a:srgbClr val="000000"/>
                </a:solidFill>
                <a:latin typeface="Times New Roman"/>
              </a:rPr>
              <a:t>Ofsed</a:t>
            </a:r>
            <a:r>
              <a:rPr b="0" lang="el-GR" sz="2400" spc="-1" strike="noStrike">
                <a:solidFill>
                  <a:srgbClr val="000000"/>
                </a:solidFill>
                <a:latin typeface="Times New Roman"/>
              </a:rPr>
              <a:t>, 2004). </a:t>
            </a:r>
            <a:br>
              <a:rPr sz="2400"/>
            </a:br>
            <a:r>
              <a:rPr b="0" lang="el-GR" sz="2400" spc="-1" strike="noStrike">
                <a:solidFill>
                  <a:srgbClr val="000000"/>
                </a:solidFill>
                <a:latin typeface="Times New Roman"/>
              </a:rPr>
              <a:t>Η ελλιπής μόρφωση επηρεάζει αρνητικά τη στάση τους. Στην έρευνα των </a:t>
            </a:r>
            <a:r>
              <a:rPr b="0" lang="en-US" sz="2400" spc="-1" strike="noStrike">
                <a:solidFill>
                  <a:srgbClr val="000000"/>
                </a:solidFill>
                <a:latin typeface="Times New Roman"/>
              </a:rPr>
              <a:t>Avramidis</a:t>
            </a:r>
            <a:r>
              <a:rPr b="0" lang="el-GR" sz="2400" spc="-1" strike="noStrike">
                <a:solidFill>
                  <a:srgbClr val="000000"/>
                </a:solidFill>
                <a:latin typeface="Times New Roman"/>
              </a:rPr>
              <a:t> &amp; </a:t>
            </a:r>
            <a:r>
              <a:rPr b="0" lang="en-US" sz="2400" spc="-1" strike="noStrike">
                <a:solidFill>
                  <a:srgbClr val="000000"/>
                </a:solidFill>
                <a:latin typeface="Times New Roman"/>
              </a:rPr>
              <a:t>Norwich </a:t>
            </a:r>
            <a:r>
              <a:rPr b="0" lang="el-GR" sz="2400" spc="-1" strike="noStrike">
                <a:solidFill>
                  <a:srgbClr val="000000"/>
                </a:solidFill>
                <a:latin typeface="Times New Roman"/>
              </a:rPr>
              <a:t>(2002) η εργασιακή εμπειρία είναι ένας σημαντικός παράγοντας, που πρέπει να τονίσουμε πως όσο μικρότερη εμπειρία έχει κάποιος παιδαγωγός στην ειδική αγωγή τόσο πιο θετική στάση έχει. </a:t>
            </a:r>
            <a:endParaRPr b="0" lang="en-US" sz="2400" spc="-1" strike="noStrike">
              <a:solidFill>
                <a:srgbClr val="ffffff"/>
              </a:solidFill>
              <a:latin typeface="Times New Roman"/>
            </a:endParaRPr>
          </a:p>
        </p:txBody>
      </p:sp>
      <p:grpSp>
        <p:nvGrpSpPr>
          <p:cNvPr id="7085" name="Group 2"/>
          <p:cNvGrpSpPr/>
          <p:nvPr/>
        </p:nvGrpSpPr>
        <p:grpSpPr>
          <a:xfrm>
            <a:off x="0" y="115920"/>
            <a:ext cx="9142560" cy="6549840"/>
            <a:chOff x="0" y="115920"/>
            <a:chExt cx="9142560" cy="6549840"/>
          </a:xfrm>
        </p:grpSpPr>
        <p:grpSp>
          <p:nvGrpSpPr>
            <p:cNvPr id="7086" name="Group 3"/>
            <p:cNvGrpSpPr/>
            <p:nvPr/>
          </p:nvGrpSpPr>
          <p:grpSpPr>
            <a:xfrm>
              <a:off x="0" y="115920"/>
              <a:ext cx="9142560" cy="6549840"/>
              <a:chOff x="0" y="115920"/>
              <a:chExt cx="9142560" cy="6549840"/>
            </a:xfrm>
          </p:grpSpPr>
          <p:sp>
            <p:nvSpPr>
              <p:cNvPr id="708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8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92" name="Picture 9"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3"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Οι εκπαιδευτικοί με μεγαλύτερη εμπειρία στην ειδική αγωγή εμφανίζουν αρνητική στάση, αλλά είναι πολύ πιο θετικοί στην εκπαίδευση των μαθητών στην γενική τάξη.</a:t>
            </a:r>
            <a:br>
              <a:rPr sz="2400"/>
            </a:br>
            <a:br>
              <a:rPr sz="2400"/>
            </a:br>
            <a:r>
              <a:rPr b="0" lang="el-GR" sz="2400" spc="-1" strike="noStrike">
                <a:solidFill>
                  <a:srgbClr val="000000"/>
                </a:solidFill>
                <a:latin typeface="Times New Roman"/>
              </a:rPr>
              <a:t> Οι </a:t>
            </a:r>
            <a:r>
              <a:rPr b="0" lang="en-US" sz="2400" spc="-1" strike="noStrike">
                <a:solidFill>
                  <a:srgbClr val="000000"/>
                </a:solidFill>
                <a:latin typeface="Times New Roman"/>
              </a:rPr>
              <a:t>Mastropieri</a:t>
            </a:r>
            <a:r>
              <a:rPr b="0" lang="el-GR" sz="2400" spc="-1" strike="noStrike">
                <a:solidFill>
                  <a:srgbClr val="000000"/>
                </a:solidFill>
                <a:latin typeface="Times New Roman"/>
              </a:rPr>
              <a:t> &amp; </a:t>
            </a:r>
            <a:r>
              <a:rPr b="0" lang="en-US" sz="2400" spc="-1" strike="noStrike">
                <a:solidFill>
                  <a:srgbClr val="000000"/>
                </a:solidFill>
                <a:latin typeface="Times New Roman"/>
              </a:rPr>
              <a:t>Scruggs</a:t>
            </a:r>
            <a:r>
              <a:rPr b="0" lang="el-GR" sz="2400" spc="-1" strike="noStrike">
                <a:solidFill>
                  <a:srgbClr val="000000"/>
                </a:solidFill>
                <a:latin typeface="Times New Roman"/>
              </a:rPr>
              <a:t> (1996) αναφέρουν και την έλλειψη εργαστηριακού εξοπλισμού ως παράγοντα διαμόρφωσης αρνητικής στάσης των εκπαιδευτικών.</a:t>
            </a:r>
            <a:endParaRPr b="0" lang="en-US" sz="2400" spc="-1" strike="noStrike">
              <a:solidFill>
                <a:srgbClr val="ffffff"/>
              </a:solidFill>
              <a:latin typeface="Times New Roman"/>
            </a:endParaRPr>
          </a:p>
        </p:txBody>
      </p:sp>
      <p:grpSp>
        <p:nvGrpSpPr>
          <p:cNvPr id="7094" name="Group 2"/>
          <p:cNvGrpSpPr/>
          <p:nvPr/>
        </p:nvGrpSpPr>
        <p:grpSpPr>
          <a:xfrm>
            <a:off x="0" y="115920"/>
            <a:ext cx="9142560" cy="6549840"/>
            <a:chOff x="0" y="115920"/>
            <a:chExt cx="9142560" cy="6549840"/>
          </a:xfrm>
        </p:grpSpPr>
        <p:grpSp>
          <p:nvGrpSpPr>
            <p:cNvPr id="7095" name="Group 3"/>
            <p:cNvGrpSpPr/>
            <p:nvPr/>
          </p:nvGrpSpPr>
          <p:grpSpPr>
            <a:xfrm>
              <a:off x="0" y="115920"/>
              <a:ext cx="9142560" cy="6549840"/>
              <a:chOff x="0" y="115920"/>
              <a:chExt cx="9142560" cy="6549840"/>
            </a:xfrm>
          </p:grpSpPr>
          <p:sp>
            <p:nvSpPr>
              <p:cNvPr id="709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9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1"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4" name="Text Box 1"/>
          <p:cNvSpPr/>
          <p:nvPr/>
        </p:nvSpPr>
        <p:spPr>
          <a:xfrm>
            <a:off x="179280" y="1392120"/>
            <a:ext cx="8785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ά τα πλαίσια διαμορφώνεται </a:t>
            </a: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η οποία αφορά παιδαγωγικές θεωρήσεις και πρακτικές μέσα από τις οποίες αναγνωρίζεται το δικαίωμα της διαφορετικότητας, αίρονται τα στερεότυπα και δίνεται η δυνατότητα ισότιμης συμμετοχής στην πολιτική και κοινωνική ζωή σε όλους τους μαθητές. </a:t>
            </a:r>
            <a:br>
              <a:rPr sz="2800"/>
            </a:br>
            <a:br>
              <a:rPr sz="2800"/>
            </a:br>
            <a:br>
              <a:rPr sz="2000"/>
            </a:br>
            <a:endParaRPr b="0" lang="en-US" sz="2800" spc="-1" strike="noStrike">
              <a:solidFill>
                <a:srgbClr val="ffffff"/>
              </a:solidFill>
              <a:latin typeface="Times New Roman"/>
            </a:endParaRPr>
          </a:p>
        </p:txBody>
      </p:sp>
      <p:grpSp>
        <p:nvGrpSpPr>
          <p:cNvPr id="6455" name="Group 2"/>
          <p:cNvGrpSpPr/>
          <p:nvPr/>
        </p:nvGrpSpPr>
        <p:grpSpPr>
          <a:xfrm>
            <a:off x="0" y="115920"/>
            <a:ext cx="9142560" cy="6549840"/>
            <a:chOff x="0" y="115920"/>
            <a:chExt cx="9142560" cy="6549840"/>
          </a:xfrm>
        </p:grpSpPr>
        <p:grpSp>
          <p:nvGrpSpPr>
            <p:cNvPr id="6456" name="Group 3"/>
            <p:cNvGrpSpPr/>
            <p:nvPr/>
          </p:nvGrpSpPr>
          <p:grpSpPr>
            <a:xfrm>
              <a:off x="0" y="115920"/>
              <a:ext cx="9142560" cy="6549840"/>
              <a:chOff x="0" y="115920"/>
              <a:chExt cx="9142560" cy="6549840"/>
            </a:xfrm>
          </p:grpSpPr>
          <p:sp>
            <p:nvSpPr>
              <p:cNvPr id="645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5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2"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2" name="Text Box 1"/>
          <p:cNvSpPr/>
          <p:nvPr/>
        </p:nvSpPr>
        <p:spPr>
          <a:xfrm>
            <a:off x="32400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400" spc="-1" strike="noStrike">
                <a:solidFill>
                  <a:srgbClr val="000000"/>
                </a:solidFill>
                <a:latin typeface="Times New Roman"/>
              </a:rPr>
              <a:t>Η συνδιδασκαλία στην Ελληνική πραγματικότητα</a:t>
            </a:r>
            <a:br>
              <a:rPr sz="2400"/>
            </a:br>
            <a:br>
              <a:rPr sz="2400"/>
            </a:br>
            <a:r>
              <a:rPr b="0" lang="el-GR" sz="2400" spc="-1" strike="noStrike">
                <a:solidFill>
                  <a:srgbClr val="000000"/>
                </a:solidFill>
                <a:latin typeface="Times New Roman"/>
              </a:rPr>
              <a:t>Όσον αφορά τα ελληνικά δεδομένα η εφαρμογή της συνδιδασκαλίας δεν ανήκει σε κάποιο από τα έξι είδη της συνδιδασκαλίας. Θα λέγαμε ότι η Παράλληλη Στήριξη, όπως ονομάζεται ο θεσμός της συνδιδασκαλίας στην Ελλάδα  προσιδιάζει </a:t>
            </a:r>
            <a:r>
              <a:rPr b="1" lang="el-GR" sz="2400" spc="-1" strike="noStrike">
                <a:solidFill>
                  <a:srgbClr val="000000"/>
                </a:solidFill>
                <a:latin typeface="Times New Roman"/>
              </a:rPr>
              <a:t>στο είδος «Ένας διδάσκει, ένας βοηθάει»,</a:t>
            </a:r>
            <a:r>
              <a:rPr b="0" lang="el-GR" sz="2400" spc="-1" strike="noStrike">
                <a:solidFill>
                  <a:srgbClr val="000000"/>
                </a:solidFill>
                <a:latin typeface="Times New Roman"/>
              </a:rPr>
              <a:t> που σημαίνει ότι ο εκπαιδευτικός της τάξης διδάσκει και ο ειδικός εκπαιδευτικός βοηθάει.</a:t>
            </a:r>
            <a:endParaRPr b="0" lang="en-US" sz="2400" spc="-1" strike="noStrike">
              <a:solidFill>
                <a:srgbClr val="ffffff"/>
              </a:solidFill>
              <a:latin typeface="Times New Roman"/>
            </a:endParaRPr>
          </a:p>
        </p:txBody>
      </p:sp>
      <p:grpSp>
        <p:nvGrpSpPr>
          <p:cNvPr id="7103" name="Group 2"/>
          <p:cNvGrpSpPr/>
          <p:nvPr/>
        </p:nvGrpSpPr>
        <p:grpSpPr>
          <a:xfrm>
            <a:off x="0" y="115920"/>
            <a:ext cx="9142560" cy="6549840"/>
            <a:chOff x="0" y="115920"/>
            <a:chExt cx="9142560" cy="6549840"/>
          </a:xfrm>
        </p:grpSpPr>
        <p:grpSp>
          <p:nvGrpSpPr>
            <p:cNvPr id="7104" name="Group 3"/>
            <p:cNvGrpSpPr/>
            <p:nvPr/>
          </p:nvGrpSpPr>
          <p:grpSpPr>
            <a:xfrm>
              <a:off x="0" y="115920"/>
              <a:ext cx="9142560" cy="6549840"/>
              <a:chOff x="0" y="115920"/>
              <a:chExt cx="9142560" cy="6549840"/>
            </a:xfrm>
          </p:grpSpPr>
          <p:sp>
            <p:nvSpPr>
              <p:cNvPr id="710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0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0" name="Picture 9"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1" name="Text Box 1"/>
          <p:cNvSpPr/>
          <p:nvPr/>
        </p:nvSpPr>
        <p:spPr>
          <a:xfrm>
            <a:off x="32400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πρακτική εφαρμογή οι εκπαιδευτικοί αναφέρουν ότι επιστρατεύουν ποικιλία μεθόδων </a:t>
            </a:r>
            <a:br>
              <a:rPr sz="2400"/>
            </a:br>
            <a:r>
              <a:rPr b="0" lang="el-GR" sz="2400" spc="-1" strike="noStrike">
                <a:solidFill>
                  <a:srgbClr val="000000"/>
                </a:solidFill>
                <a:latin typeface="Times New Roman"/>
              </a:rPr>
              <a:t>για να προσεγγίσουν τους στόχους και </a:t>
            </a:r>
            <a:br>
              <a:rPr sz="2400"/>
            </a:br>
            <a:r>
              <a:rPr b="0" lang="el-GR" sz="2400" spc="-1" strike="noStrike">
                <a:solidFill>
                  <a:srgbClr val="000000"/>
                </a:solidFill>
                <a:latin typeface="Times New Roman"/>
              </a:rPr>
              <a:t>να δημιουργήσουν κίνητρα στους μαθητές </a:t>
            </a:r>
            <a:br>
              <a:rPr sz="2400"/>
            </a:br>
            <a:r>
              <a:rPr b="0" lang="el-GR" sz="2400" spc="-1" strike="noStrike">
                <a:solidFill>
                  <a:srgbClr val="000000"/>
                </a:solidFill>
                <a:latin typeface="Times New Roman"/>
              </a:rPr>
              <a:t>μέσα στο πλαίσιο της Παράλληλης Στήριξης. </a:t>
            </a:r>
            <a:endParaRPr b="0" lang="en-US" sz="2400" spc="-1" strike="noStrike">
              <a:solidFill>
                <a:srgbClr val="ffffff"/>
              </a:solidFill>
              <a:latin typeface="Times New Roman"/>
            </a:endParaRPr>
          </a:p>
        </p:txBody>
      </p:sp>
      <p:grpSp>
        <p:nvGrpSpPr>
          <p:cNvPr id="7112" name="Group 2"/>
          <p:cNvGrpSpPr/>
          <p:nvPr/>
        </p:nvGrpSpPr>
        <p:grpSpPr>
          <a:xfrm>
            <a:off x="0" y="115920"/>
            <a:ext cx="9142560" cy="6549840"/>
            <a:chOff x="0" y="115920"/>
            <a:chExt cx="9142560" cy="6549840"/>
          </a:xfrm>
        </p:grpSpPr>
        <p:grpSp>
          <p:nvGrpSpPr>
            <p:cNvPr id="7113" name="Group 3"/>
            <p:cNvGrpSpPr/>
            <p:nvPr/>
          </p:nvGrpSpPr>
          <p:grpSpPr>
            <a:xfrm>
              <a:off x="0" y="115920"/>
              <a:ext cx="9142560" cy="6549840"/>
              <a:chOff x="0" y="115920"/>
              <a:chExt cx="9142560" cy="6549840"/>
            </a:xfrm>
          </p:grpSpPr>
          <p:sp>
            <p:nvSpPr>
              <p:cNvPr id="711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1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1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9" name="Picture 9"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0"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αφορούν και το θέμα της κοινωνικοποίησης και της συναισθηματικής ανάπτυξης.</a:t>
            </a:r>
            <a:br>
              <a:rPr sz="2800"/>
            </a:br>
            <a:br>
              <a:rPr sz="2800"/>
            </a:br>
            <a:r>
              <a:rPr b="0" lang="el-GR" sz="2800" spc="-1" strike="noStrike">
                <a:solidFill>
                  <a:srgbClr val="000000"/>
                </a:solidFill>
                <a:latin typeface="Times New Roman"/>
              </a:rPr>
              <a:t>Οι εκπαιδευτικοί της Παράλληλης Στήριξης αναφέρουν ότι στις περισσότερες τάξεις η παραδοσιακή διάταξη τους κάνει να κάθονται δίπλα στους μαθητές και αυτό δημιουργεί εμπόδια στην αλληλεπίδραση με τους συμμαθητές. </a:t>
            </a:r>
            <a:br>
              <a:rPr sz="2000"/>
            </a:br>
            <a:endParaRPr b="0" lang="en-US" sz="2800" spc="-1" strike="noStrike">
              <a:solidFill>
                <a:srgbClr val="ffffff"/>
              </a:solidFill>
              <a:latin typeface="Times New Roman"/>
            </a:endParaRPr>
          </a:p>
        </p:txBody>
      </p:sp>
      <p:grpSp>
        <p:nvGrpSpPr>
          <p:cNvPr id="7121" name="Group 2"/>
          <p:cNvGrpSpPr/>
          <p:nvPr/>
        </p:nvGrpSpPr>
        <p:grpSpPr>
          <a:xfrm>
            <a:off x="0" y="115920"/>
            <a:ext cx="9142560" cy="6549840"/>
            <a:chOff x="0" y="115920"/>
            <a:chExt cx="9142560" cy="6549840"/>
          </a:xfrm>
        </p:grpSpPr>
        <p:grpSp>
          <p:nvGrpSpPr>
            <p:cNvPr id="7122" name="Group 3"/>
            <p:cNvGrpSpPr/>
            <p:nvPr/>
          </p:nvGrpSpPr>
          <p:grpSpPr>
            <a:xfrm>
              <a:off x="0" y="115920"/>
              <a:ext cx="9142560" cy="6549840"/>
              <a:chOff x="0" y="115920"/>
              <a:chExt cx="9142560" cy="6549840"/>
            </a:xfrm>
          </p:grpSpPr>
          <p:sp>
            <p:nvSpPr>
              <p:cNvPr id="712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2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2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8" name="Picture 9"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Ελλάδα το σύνολο των εκπαιδευτικών έχει θετική άποψη για την Παράλληλη Στήριξη, αναφέροντας πώς είναι ένας σημαντικός θεσμός που βοηθάει στην ένταξη των παιδιών με ειδικές ανάγκες και αναπηρίες στο σχολείο και στην κοινωνία αλλά προσφέρει και αρωγή και στους γονείς. </a:t>
            </a:r>
            <a:endParaRPr b="0" lang="en-US" sz="2400" spc="-1" strike="noStrike">
              <a:solidFill>
                <a:srgbClr val="ffffff"/>
              </a:solidFill>
              <a:latin typeface="Times New Roman"/>
            </a:endParaRPr>
          </a:p>
        </p:txBody>
      </p:sp>
      <p:grpSp>
        <p:nvGrpSpPr>
          <p:cNvPr id="7130" name="Group 2"/>
          <p:cNvGrpSpPr/>
          <p:nvPr/>
        </p:nvGrpSpPr>
        <p:grpSpPr>
          <a:xfrm>
            <a:off x="0" y="115920"/>
            <a:ext cx="9142560" cy="6549840"/>
            <a:chOff x="0" y="115920"/>
            <a:chExt cx="9142560" cy="6549840"/>
          </a:xfrm>
        </p:grpSpPr>
        <p:grpSp>
          <p:nvGrpSpPr>
            <p:cNvPr id="7131" name="Group 3"/>
            <p:cNvGrpSpPr/>
            <p:nvPr/>
          </p:nvGrpSpPr>
          <p:grpSpPr>
            <a:xfrm>
              <a:off x="0" y="115920"/>
              <a:ext cx="9142560" cy="6549840"/>
              <a:chOff x="0" y="115920"/>
              <a:chExt cx="9142560" cy="6549840"/>
            </a:xfrm>
          </p:grpSpPr>
          <p:sp>
            <p:nvSpPr>
              <p:cNvPr id="713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3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3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37" name="Picture 9"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χρειάζεται στο σχολείο καθώς προσφέρει ίσες ευκαιρίες, αλληλεπίδραση μεταξύ των συνομηλίκων κάτι που επιδρά θετικά στη βελτίωση της συμπεριφοράς, στον κοινωνικό και συναισθηματικό τομέα.</a:t>
            </a:r>
            <a:endParaRPr b="0" lang="en-US" sz="2400" spc="-1" strike="noStrike">
              <a:solidFill>
                <a:srgbClr val="ffffff"/>
              </a:solidFill>
              <a:latin typeface="Times New Roman"/>
            </a:endParaRPr>
          </a:p>
        </p:txBody>
      </p:sp>
      <p:grpSp>
        <p:nvGrpSpPr>
          <p:cNvPr id="7139" name="Group 2"/>
          <p:cNvGrpSpPr/>
          <p:nvPr/>
        </p:nvGrpSpPr>
        <p:grpSpPr>
          <a:xfrm>
            <a:off x="0" y="115920"/>
            <a:ext cx="9142560" cy="6549840"/>
            <a:chOff x="0" y="115920"/>
            <a:chExt cx="9142560" cy="6549840"/>
          </a:xfrm>
        </p:grpSpPr>
        <p:grpSp>
          <p:nvGrpSpPr>
            <p:cNvPr id="7140" name="Group 3"/>
            <p:cNvGrpSpPr/>
            <p:nvPr/>
          </p:nvGrpSpPr>
          <p:grpSpPr>
            <a:xfrm>
              <a:off x="0" y="115920"/>
              <a:ext cx="9142560" cy="6549840"/>
              <a:chOff x="0" y="115920"/>
              <a:chExt cx="9142560" cy="6549840"/>
            </a:xfrm>
          </p:grpSpPr>
          <p:sp>
            <p:nvSpPr>
              <p:cNvPr id="714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4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4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46" name="Picture 9"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Οι εκπαιδευτικοί στην Ελλάδα παρουσιάζουν και την πτυχή της βελτίωσης των κοινωνικών δεξιοτήτων των συμμαθητών καθώς έρχονται καθημερινά σε επαφή με τα παιδιά  με ειδικές εκπαιδευτικές ανάγκες, τα γνωρίζουν καλύτερα και ευαισθητοποιούνται. </a:t>
            </a:r>
            <a:br>
              <a:rPr sz="2400"/>
            </a:br>
            <a:br>
              <a:rPr sz="2400"/>
            </a:br>
            <a:r>
              <a:rPr b="0" lang="el-GR" sz="2400" spc="-1" strike="noStrike">
                <a:solidFill>
                  <a:srgbClr val="000000"/>
                </a:solidFill>
                <a:latin typeface="Times New Roman"/>
              </a:rPr>
              <a:t>Ακόμη, ο εκπαιδευτικός της τάξης έχει τη δυνατότητα να ασχοληθεί περισσότερο με τις γνωστικές δεξιότητες και την ευαισθητοποίηση των μαθητών, όσο ο ειδικός εκπαιδευτικός προσφέρει υποστηρικτικές υπηρεσίες στο μαθητή με ειδικές εκπαιδευτικές ανάγκες και αναπηρία. </a:t>
            </a:r>
            <a:endParaRPr b="0" lang="en-US" sz="2400" spc="-1" strike="noStrike">
              <a:solidFill>
                <a:srgbClr val="ffffff"/>
              </a:solidFill>
              <a:latin typeface="Times New Roman"/>
            </a:endParaRPr>
          </a:p>
        </p:txBody>
      </p:sp>
      <p:grpSp>
        <p:nvGrpSpPr>
          <p:cNvPr id="7148" name="Group 2"/>
          <p:cNvGrpSpPr/>
          <p:nvPr/>
        </p:nvGrpSpPr>
        <p:grpSpPr>
          <a:xfrm>
            <a:off x="0" y="115920"/>
            <a:ext cx="9142560" cy="6549840"/>
            <a:chOff x="0" y="115920"/>
            <a:chExt cx="9142560" cy="6549840"/>
          </a:xfrm>
        </p:grpSpPr>
        <p:grpSp>
          <p:nvGrpSpPr>
            <p:cNvPr id="7149" name="Group 3"/>
            <p:cNvGrpSpPr/>
            <p:nvPr/>
          </p:nvGrpSpPr>
          <p:grpSpPr>
            <a:xfrm>
              <a:off x="0" y="115920"/>
              <a:ext cx="9142560" cy="6549840"/>
              <a:chOff x="0" y="115920"/>
              <a:chExt cx="9142560" cy="6549840"/>
            </a:xfrm>
          </p:grpSpPr>
          <p:sp>
            <p:nvSpPr>
              <p:cNvPr id="715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5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5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55" name="Picture 9"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στην Ελλάδα είναι ένας βιώσιμος τύπος συνδιδασκαλίας, ο οποίος όμως δεν εφαρμόζεται με βάση τις αρχές της ενιαίας εκπαίδευσης. </a:t>
            </a:r>
            <a:br>
              <a:rPr sz="2400"/>
            </a:br>
            <a:r>
              <a:rPr b="0" lang="el-GR" sz="2400" spc="-1" strike="noStrike">
                <a:solidFill>
                  <a:srgbClr val="000000"/>
                </a:solidFill>
                <a:latin typeface="Times New Roman"/>
              </a:rPr>
              <a:t>Ο ειδικός εκπαιδευτικός  στην ουσία λειτουργεί ως βοηθός και δεν έχουν θεσμοθετηθεί μέχρι τώρα από το κράτος μόνιμες θέσεις Παράλληλης Στήριξης, ώστε να υπάρχει όσμωση και κουλτούρα συνεργασίας μεταξύ των εκπαιδευτικών.</a:t>
            </a:r>
            <a:endParaRPr b="0" lang="en-US" sz="2400" spc="-1" strike="noStrike">
              <a:solidFill>
                <a:srgbClr val="ffffff"/>
              </a:solidFill>
              <a:latin typeface="Times New Roman"/>
            </a:endParaRPr>
          </a:p>
        </p:txBody>
      </p:sp>
      <p:grpSp>
        <p:nvGrpSpPr>
          <p:cNvPr id="7157" name="Group 2"/>
          <p:cNvGrpSpPr/>
          <p:nvPr/>
        </p:nvGrpSpPr>
        <p:grpSpPr>
          <a:xfrm>
            <a:off x="0" y="115920"/>
            <a:ext cx="9142560" cy="6549840"/>
            <a:chOff x="0" y="115920"/>
            <a:chExt cx="9142560" cy="6549840"/>
          </a:xfrm>
        </p:grpSpPr>
        <p:grpSp>
          <p:nvGrpSpPr>
            <p:cNvPr id="7158" name="Group 3"/>
            <p:cNvGrpSpPr/>
            <p:nvPr/>
          </p:nvGrpSpPr>
          <p:grpSpPr>
            <a:xfrm>
              <a:off x="0" y="115920"/>
              <a:ext cx="9142560" cy="6549840"/>
              <a:chOff x="0" y="115920"/>
              <a:chExt cx="9142560" cy="6549840"/>
            </a:xfrm>
          </p:grpSpPr>
          <p:sp>
            <p:nvSpPr>
              <p:cNvPr id="715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6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6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64" name="Picture 9"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έρευνα (Χρυσανθοπούλου 2012) αναδείχτηκαν οι απόψεις των εκπαιδευτικών σχετικά με την υλοποίηση της Παράλληλης Στήριξης και το τι επηρεάζει την αποτελεσματικότητά της. </a:t>
            </a:r>
            <a:br>
              <a:rPr sz="2400"/>
            </a:br>
            <a:br>
              <a:rPr sz="2400"/>
            </a:br>
            <a:r>
              <a:rPr b="0" lang="el-GR" sz="2400" spc="-1" strike="noStrike">
                <a:solidFill>
                  <a:srgbClr val="000000"/>
                </a:solidFill>
                <a:latin typeface="Times New Roman"/>
              </a:rPr>
              <a:t>Πιο αναλυτικά, οι εκπαιδευτικοί ανέφεραν το θέμα της οργανωτικής αγωγής. οι εκπαιδευτικοί εστιάζουν στην μη επαρκή κατάρτισή τους σε θέματα ειδικής.</a:t>
            </a:r>
            <a:endParaRPr b="0" lang="en-US" sz="2400" spc="-1" strike="noStrike">
              <a:solidFill>
                <a:srgbClr val="ffffff"/>
              </a:solidFill>
              <a:latin typeface="Times New Roman"/>
            </a:endParaRPr>
          </a:p>
        </p:txBody>
      </p:sp>
      <p:grpSp>
        <p:nvGrpSpPr>
          <p:cNvPr id="7166" name="Group 2"/>
          <p:cNvGrpSpPr/>
          <p:nvPr/>
        </p:nvGrpSpPr>
        <p:grpSpPr>
          <a:xfrm>
            <a:off x="0" y="115920"/>
            <a:ext cx="9142560" cy="6549840"/>
            <a:chOff x="0" y="115920"/>
            <a:chExt cx="9142560" cy="6549840"/>
          </a:xfrm>
        </p:grpSpPr>
        <p:grpSp>
          <p:nvGrpSpPr>
            <p:cNvPr id="7167" name="Group 3"/>
            <p:cNvGrpSpPr/>
            <p:nvPr/>
          </p:nvGrpSpPr>
          <p:grpSpPr>
            <a:xfrm>
              <a:off x="0" y="115920"/>
              <a:ext cx="9142560" cy="6549840"/>
              <a:chOff x="0" y="115920"/>
              <a:chExt cx="9142560" cy="6549840"/>
            </a:xfrm>
          </p:grpSpPr>
          <p:sp>
            <p:nvSpPr>
              <p:cNvPr id="716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7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73" name="Picture 9"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4"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έρουν και έναν σημαντικό παράγοντα που είναι οι συνθήκες εργασίας. Πιο ειδικά, οι εκπαιδευτικοί στην Ελλάδα αναλαμβάνουν μεγάλες σε αριθμό μαθητών τάξεις, δεν διαθέτουν υποστήριξη με υλικό και πολλές φορές αντιμετωπίζουν δυσκολίες με την ακαμψία του αναλυτικού προγράμματος και της οργάνωσης της σχολικής ύλης. </a:t>
            </a:r>
            <a:endParaRPr b="0" lang="en-US" sz="2800" spc="-1" strike="noStrike">
              <a:solidFill>
                <a:srgbClr val="ffffff"/>
              </a:solidFill>
              <a:latin typeface="Times New Roman"/>
            </a:endParaRPr>
          </a:p>
        </p:txBody>
      </p:sp>
      <p:grpSp>
        <p:nvGrpSpPr>
          <p:cNvPr id="7175" name="Group 2"/>
          <p:cNvGrpSpPr/>
          <p:nvPr/>
        </p:nvGrpSpPr>
        <p:grpSpPr>
          <a:xfrm>
            <a:off x="0" y="115920"/>
            <a:ext cx="9142560" cy="6549840"/>
            <a:chOff x="0" y="115920"/>
            <a:chExt cx="9142560" cy="6549840"/>
          </a:xfrm>
        </p:grpSpPr>
        <p:grpSp>
          <p:nvGrpSpPr>
            <p:cNvPr id="7176" name="Group 3"/>
            <p:cNvGrpSpPr/>
            <p:nvPr/>
          </p:nvGrpSpPr>
          <p:grpSpPr>
            <a:xfrm>
              <a:off x="0" y="115920"/>
              <a:ext cx="9142560" cy="6549840"/>
              <a:chOff x="0" y="115920"/>
              <a:chExt cx="9142560" cy="6549840"/>
            </a:xfrm>
          </p:grpSpPr>
          <p:sp>
            <p:nvSpPr>
              <p:cNvPr id="717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7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82" name="Picture 9"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δευτεροβάθμια εκπαίδευση λόγω της ειδίκευσης που έχουν οι εκπαιδευτικοί είναι λιγότερο θετικοί στην ιδέα της παράλληλης στήριξης σε σχέση με τους εκπαιδευτικούς της πρωτοβάθμιας. </a:t>
            </a:r>
            <a:br>
              <a:rPr sz="2800"/>
            </a:br>
            <a:r>
              <a:rPr b="0" lang="el-GR" sz="2800" spc="-1" strike="noStrike">
                <a:solidFill>
                  <a:srgbClr val="000000"/>
                </a:solidFill>
                <a:latin typeface="Times New Roman"/>
              </a:rPr>
              <a:t>Τέλος, είναι απαραίτητη η επιμόρφωση όχι μόνο των εκπαιδευτικών γενικής αγωγής αλλά και των εκπαιδευτικών ειδικής αγωγής καθώς πολλές φορές και οι ίδιοι λανθάνουν σε θέματα μεθοδολογίας και διαχείρισης της γενικής τάξης και της παρουσίας τους μέσα στη γενική τάξη (Καμπανέλλου, 2011).  </a:t>
            </a:r>
            <a:br>
              <a:rPr sz="2000"/>
            </a:br>
            <a:endParaRPr b="0" lang="en-US" sz="2800" spc="-1" strike="noStrike">
              <a:solidFill>
                <a:srgbClr val="ffffff"/>
              </a:solidFill>
              <a:latin typeface="Times New Roman"/>
            </a:endParaRPr>
          </a:p>
        </p:txBody>
      </p:sp>
      <p:grpSp>
        <p:nvGrpSpPr>
          <p:cNvPr id="7184" name="Group 2"/>
          <p:cNvGrpSpPr/>
          <p:nvPr/>
        </p:nvGrpSpPr>
        <p:grpSpPr>
          <a:xfrm>
            <a:off x="0" y="115920"/>
            <a:ext cx="9142560" cy="6549840"/>
            <a:chOff x="0" y="115920"/>
            <a:chExt cx="9142560" cy="6549840"/>
          </a:xfrm>
        </p:grpSpPr>
        <p:grpSp>
          <p:nvGrpSpPr>
            <p:cNvPr id="7185" name="Group 3"/>
            <p:cNvGrpSpPr/>
            <p:nvPr/>
          </p:nvGrpSpPr>
          <p:grpSpPr>
            <a:xfrm>
              <a:off x="0" y="115920"/>
              <a:ext cx="9142560" cy="6549840"/>
              <a:chOff x="0" y="115920"/>
              <a:chExt cx="9142560" cy="6549840"/>
            </a:xfrm>
          </p:grpSpPr>
          <p:sp>
            <p:nvSpPr>
              <p:cNvPr id="718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8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1"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3" name="Text Box 1"/>
          <p:cNvSpPr/>
          <p:nvPr/>
        </p:nvSpPr>
        <p:spPr>
          <a:xfrm>
            <a:off x="179280" y="1392120"/>
            <a:ext cx="8785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Η Παιδαγωγική της Ένταξης </a:t>
            </a:r>
            <a:r>
              <a:rPr b="0" lang="el-GR" sz="2800" spc="-1" strike="noStrike">
                <a:solidFill>
                  <a:srgbClr val="000000"/>
                </a:solidFill>
                <a:latin typeface="Times New Roman"/>
              </a:rPr>
              <a:t>προτάσσει  και αναδεικνύει το σχολείο ως ένα χώρο με ετερογενείς ομάδες  και θέτει ως κυρίαρχο ζήτημα τη σύνδεση του σχολείου με την καθημερινή ζωή.</a:t>
            </a:r>
            <a:br>
              <a:rPr sz="2000"/>
            </a:br>
            <a:endParaRPr b="0" lang="en-US" sz="2800" spc="-1" strike="noStrike">
              <a:solidFill>
                <a:srgbClr val="ffffff"/>
              </a:solidFill>
              <a:latin typeface="Times New Roman"/>
            </a:endParaRPr>
          </a:p>
        </p:txBody>
      </p:sp>
      <p:grpSp>
        <p:nvGrpSpPr>
          <p:cNvPr id="6464" name="Group 2"/>
          <p:cNvGrpSpPr/>
          <p:nvPr/>
        </p:nvGrpSpPr>
        <p:grpSpPr>
          <a:xfrm>
            <a:off x="0" y="115920"/>
            <a:ext cx="9142560" cy="6549840"/>
            <a:chOff x="0" y="115920"/>
            <a:chExt cx="9142560" cy="6549840"/>
          </a:xfrm>
        </p:grpSpPr>
        <p:grpSp>
          <p:nvGrpSpPr>
            <p:cNvPr id="6465" name="Group 3"/>
            <p:cNvGrpSpPr/>
            <p:nvPr/>
          </p:nvGrpSpPr>
          <p:grpSpPr>
            <a:xfrm>
              <a:off x="0" y="115920"/>
              <a:ext cx="9142560" cy="6549840"/>
              <a:chOff x="0" y="115920"/>
              <a:chExt cx="9142560" cy="6549840"/>
            </a:xfrm>
          </p:grpSpPr>
          <p:sp>
            <p:nvSpPr>
              <p:cNvPr id="646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6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1" name="Picture 9"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2"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άλλη μία πρόσφατη έρευνα των </a:t>
            </a:r>
            <a:r>
              <a:rPr b="0" lang="en-US" sz="2800" spc="-1" strike="noStrike">
                <a:solidFill>
                  <a:srgbClr val="000000"/>
                </a:solidFill>
                <a:latin typeface="Times New Roman"/>
              </a:rPr>
              <a:t>Tsakiridou</a:t>
            </a:r>
            <a:r>
              <a:rPr b="0" lang="el-GR" sz="2800" spc="-1" strike="noStrike">
                <a:solidFill>
                  <a:srgbClr val="000000"/>
                </a:solidFill>
                <a:latin typeface="Times New Roman"/>
              </a:rPr>
              <a:t> &amp; </a:t>
            </a:r>
            <a:r>
              <a:rPr b="0" lang="en-US" sz="2800" spc="-1" strike="noStrike">
                <a:solidFill>
                  <a:srgbClr val="000000"/>
                </a:solidFill>
                <a:latin typeface="Times New Roman"/>
              </a:rPr>
              <a:t>Polyzopoulou</a:t>
            </a:r>
            <a:r>
              <a:rPr b="0" lang="el-GR" sz="2800" spc="-1" strike="noStrike">
                <a:solidFill>
                  <a:srgbClr val="000000"/>
                </a:solidFill>
                <a:latin typeface="Times New Roman"/>
              </a:rPr>
              <a:t> (2014) αναδείχτηκε ότι οι εκπαιδευτικοί με εμπειρία είχαν πιο θετική στάση για τη συμπερίληψη και την παράλληλη στήριξη στη γενική τάξη. </a:t>
            </a:r>
            <a:br>
              <a:rPr sz="2800"/>
            </a:br>
            <a:br>
              <a:rPr sz="2800"/>
            </a:br>
            <a:r>
              <a:rPr b="0" lang="el-GR" sz="2800" spc="-1" strike="noStrike">
                <a:solidFill>
                  <a:srgbClr val="000000"/>
                </a:solidFill>
                <a:latin typeface="Times New Roman"/>
              </a:rPr>
              <a:t>Οι δάσκαλοι της γενικής αγωγής θέτουν την έλλειψη εμπειρίας ως κύριο εμπόδιο και προτείνουν να αποκτήσουν τη δυνατότητα για άμεση διδασκαλία σε μαθητές με ειδικές εκπαιδευτικές ανάγκ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5). </a:t>
            </a:r>
            <a:br>
              <a:rPr sz="2000"/>
            </a:br>
            <a:endParaRPr b="0" lang="en-US" sz="2800" spc="-1" strike="noStrike">
              <a:solidFill>
                <a:srgbClr val="ffffff"/>
              </a:solidFill>
              <a:latin typeface="Times New Roman"/>
            </a:endParaRPr>
          </a:p>
        </p:txBody>
      </p:sp>
      <p:grpSp>
        <p:nvGrpSpPr>
          <p:cNvPr id="7193" name="Group 2"/>
          <p:cNvGrpSpPr/>
          <p:nvPr/>
        </p:nvGrpSpPr>
        <p:grpSpPr>
          <a:xfrm>
            <a:off x="0" y="115920"/>
            <a:ext cx="9142560" cy="6549840"/>
            <a:chOff x="0" y="115920"/>
            <a:chExt cx="9142560" cy="6549840"/>
          </a:xfrm>
        </p:grpSpPr>
        <p:grpSp>
          <p:nvGrpSpPr>
            <p:cNvPr id="7194" name="Group 3"/>
            <p:cNvGrpSpPr/>
            <p:nvPr/>
          </p:nvGrpSpPr>
          <p:grpSpPr>
            <a:xfrm>
              <a:off x="0" y="115920"/>
              <a:ext cx="9142560" cy="6549840"/>
              <a:chOff x="0" y="115920"/>
              <a:chExt cx="9142560" cy="6549840"/>
            </a:xfrm>
          </p:grpSpPr>
          <p:sp>
            <p:nvSpPr>
              <p:cNvPr id="719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9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0" name="Picture 9"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1"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στην Παράλληλη Στήριξη στην Ελλάδα οι εμπλεκόμενοι παιδαγωγοί αποφεύγουν να συνεργαστούν ώστε να υπάρξει αποτελεσματική και ουσιαστική συνεκπαίδευση ( </a:t>
            </a:r>
            <a:r>
              <a:rPr b="0" lang="en-US" sz="2800" spc="-1" strike="noStrike">
                <a:solidFill>
                  <a:srgbClr val="000000"/>
                </a:solidFill>
                <a:latin typeface="Times New Roman"/>
              </a:rPr>
              <a:t>Vlachou</a:t>
            </a:r>
            <a:r>
              <a:rPr b="0" lang="el-GR" sz="2800" spc="-1" strike="noStrike">
                <a:solidFill>
                  <a:srgbClr val="000000"/>
                </a:solidFill>
                <a:latin typeface="Times New Roman"/>
              </a:rPr>
              <a:t> &amp; </a:t>
            </a:r>
            <a:r>
              <a:rPr b="0" lang="en-US" sz="2800" spc="-1" strike="noStrike">
                <a:solidFill>
                  <a:srgbClr val="000000"/>
                </a:solidFill>
                <a:latin typeface="Times New Roman"/>
              </a:rPr>
              <a:t>Avramidis</a:t>
            </a:r>
            <a:r>
              <a:rPr b="0" lang="el-GR" sz="2800" spc="-1" strike="noStrike">
                <a:solidFill>
                  <a:srgbClr val="000000"/>
                </a:solidFill>
                <a:latin typeface="Times New Roman"/>
              </a:rPr>
              <a:t>, 2014). </a:t>
            </a:r>
            <a:br>
              <a:rPr sz="2800"/>
            </a:b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 διαπιστώνουν ότι μεγάλο ποσοστό των εκπαιδευτικών γενικής αγωγής όλων των βαθμίδων εκπαίδευσης υποστήριξε ότι την ευθύνη για την εκπαίδευση των μαθητών με αναπηρία και ειδικές εκπαιδευτικές ανάγκες φέρουν οι ειδικοί παιδαγωγοί. </a:t>
            </a:r>
            <a:br>
              <a:rPr sz="2000"/>
            </a:br>
            <a:endParaRPr b="0" lang="en-US" sz="2800" spc="-1" strike="noStrike">
              <a:solidFill>
                <a:srgbClr val="ffffff"/>
              </a:solidFill>
              <a:latin typeface="Times New Roman"/>
            </a:endParaRPr>
          </a:p>
        </p:txBody>
      </p:sp>
      <p:grpSp>
        <p:nvGrpSpPr>
          <p:cNvPr id="7202" name="Group 2"/>
          <p:cNvGrpSpPr/>
          <p:nvPr/>
        </p:nvGrpSpPr>
        <p:grpSpPr>
          <a:xfrm>
            <a:off x="0" y="115920"/>
            <a:ext cx="9142560" cy="6549840"/>
            <a:chOff x="0" y="115920"/>
            <a:chExt cx="9142560" cy="6549840"/>
          </a:xfrm>
        </p:grpSpPr>
        <p:grpSp>
          <p:nvGrpSpPr>
            <p:cNvPr id="7203" name="Group 3"/>
            <p:cNvGrpSpPr/>
            <p:nvPr/>
          </p:nvGrpSpPr>
          <p:grpSpPr>
            <a:xfrm>
              <a:off x="0" y="115920"/>
              <a:ext cx="9142560" cy="6549840"/>
              <a:chOff x="0" y="115920"/>
              <a:chExt cx="9142560" cy="6549840"/>
            </a:xfrm>
          </p:grpSpPr>
          <p:sp>
            <p:nvSpPr>
              <p:cNvPr id="720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0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0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9" name="Picture 9"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0"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Ρόλοι εκπαιδευτικών στην Παράλληλη Στήριξη</a:t>
            </a:r>
            <a:br>
              <a:rPr sz="2800"/>
            </a:br>
            <a:br>
              <a:rPr sz="2800"/>
            </a:br>
            <a:r>
              <a:rPr b="0" lang="el-GR" sz="2800" spc="-1" strike="noStrike">
                <a:solidFill>
                  <a:srgbClr val="000000"/>
                </a:solidFill>
                <a:latin typeface="Times New Roman"/>
              </a:rPr>
              <a:t>Παρόλα τα θετικά στοιχεία της Παράλληλης Στήριξης, στην ελληνική πραγματικότητα η συνδιδασκαλία έχει δεχτεί στρεβλώσεις, χρειάζεται απαραίτητα βελτίωση και αναθεώρηση των ρόλων των εκπαιδευτικών. </a:t>
            </a:r>
            <a:br>
              <a:rPr sz="2800"/>
            </a:br>
            <a:r>
              <a:rPr b="0" lang="el-GR" sz="2800" spc="-1" strike="noStrike">
                <a:solidFill>
                  <a:srgbClr val="000000"/>
                </a:solidFill>
                <a:latin typeface="Times New Roman"/>
              </a:rPr>
              <a:t>Στην Ελλάδα οι συνδιδάσκαλοι δεν μοιράζονται την ευθύνη της διδακτικής διαδικασίας και οι εκπαιδευτικοί της ειδικής αγωγής έχουν ένα συμπληρωματικό και βοηθητικό ρόλο (Μαυροπαλιάς, 2013).</a:t>
            </a:r>
            <a:br>
              <a:rPr sz="2000"/>
            </a:br>
            <a:endParaRPr b="0" lang="en-US" sz="2800" spc="-1" strike="noStrike">
              <a:solidFill>
                <a:srgbClr val="ffffff"/>
              </a:solidFill>
              <a:latin typeface="Times New Roman"/>
            </a:endParaRPr>
          </a:p>
        </p:txBody>
      </p:sp>
      <p:grpSp>
        <p:nvGrpSpPr>
          <p:cNvPr id="7211" name="Group 2"/>
          <p:cNvGrpSpPr/>
          <p:nvPr/>
        </p:nvGrpSpPr>
        <p:grpSpPr>
          <a:xfrm>
            <a:off x="0" y="115920"/>
            <a:ext cx="9142560" cy="6549840"/>
            <a:chOff x="0" y="115920"/>
            <a:chExt cx="9142560" cy="6549840"/>
          </a:xfrm>
        </p:grpSpPr>
        <p:grpSp>
          <p:nvGrpSpPr>
            <p:cNvPr id="7212" name="Group 3"/>
            <p:cNvGrpSpPr/>
            <p:nvPr/>
          </p:nvGrpSpPr>
          <p:grpSpPr>
            <a:xfrm>
              <a:off x="0" y="115920"/>
              <a:ext cx="9142560" cy="6549840"/>
              <a:chOff x="0" y="115920"/>
              <a:chExt cx="9142560" cy="6549840"/>
            </a:xfrm>
          </p:grpSpPr>
          <p:sp>
            <p:nvSpPr>
              <p:cNvPr id="721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1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1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8" name="Picture 9"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9"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Επικρατεί μία λανθασμένη αντίληψη ότι ο ειδικός παιδαγωγός έχει την κύρια ευθύνη για το παιδί με αναπηρία ή ειδικές εκπαιδευτικές ανάγκες, ενώ ο παιδαγωγός γενικής αγωγής έχει την κύρια ευθύνη για τη συνολική διδακτική διαδικασία. </a:t>
            </a:r>
            <a:br>
              <a:rPr sz="2400"/>
            </a:br>
            <a:r>
              <a:rPr b="0" lang="el-GR" sz="2400" spc="-1" strike="noStrike">
                <a:solidFill>
                  <a:srgbClr val="000000"/>
                </a:solidFill>
                <a:latin typeface="Times New Roman"/>
              </a:rPr>
              <a:t>Αν και ο θεσμός της συνδιδασκαλίας προτάθηκε από ειδικούς παιδαγωγούς προκειμένου να αμβλυνθούν οι δομές αποκλεισμού και ο διαχωρισμός, οι ίδιοι φαίνεται σε κάποιο βαθμό να αποδέχονται τον βοηθητικό τους ρόλο (</a:t>
            </a:r>
            <a:r>
              <a:rPr b="0" lang="en-US" sz="2400" spc="-1" strike="noStrike">
                <a:solidFill>
                  <a:srgbClr val="000000"/>
                </a:solidFill>
                <a:latin typeface="Times New Roman"/>
              </a:rPr>
              <a:t>Dunforth</a:t>
            </a:r>
            <a:r>
              <a:rPr b="0" lang="el-GR" sz="2400" spc="-1" strike="noStrike">
                <a:solidFill>
                  <a:srgbClr val="000000"/>
                </a:solidFill>
                <a:latin typeface="Times New Roman"/>
              </a:rPr>
              <a:t> &amp; </a:t>
            </a:r>
            <a:r>
              <a:rPr b="0" lang="en-US" sz="2400" spc="-1" strike="noStrike">
                <a:solidFill>
                  <a:srgbClr val="000000"/>
                </a:solidFill>
                <a:latin typeface="Times New Roman"/>
              </a:rPr>
              <a:t>Naraian</a:t>
            </a:r>
            <a:r>
              <a:rPr b="0" lang="el-GR" sz="2400" spc="-1" strike="noStrike">
                <a:solidFill>
                  <a:srgbClr val="000000"/>
                </a:solidFill>
                <a:latin typeface="Times New Roman"/>
              </a:rPr>
              <a:t>, 2015). </a:t>
            </a:r>
            <a:endParaRPr b="0" lang="en-US" sz="2400" spc="-1" strike="noStrike">
              <a:solidFill>
                <a:srgbClr val="ffffff"/>
              </a:solidFill>
              <a:latin typeface="Times New Roman"/>
            </a:endParaRPr>
          </a:p>
        </p:txBody>
      </p:sp>
      <p:grpSp>
        <p:nvGrpSpPr>
          <p:cNvPr id="7220" name="Group 2"/>
          <p:cNvGrpSpPr/>
          <p:nvPr/>
        </p:nvGrpSpPr>
        <p:grpSpPr>
          <a:xfrm>
            <a:off x="0" y="115920"/>
            <a:ext cx="9142560" cy="6549840"/>
            <a:chOff x="0" y="115920"/>
            <a:chExt cx="9142560" cy="6549840"/>
          </a:xfrm>
        </p:grpSpPr>
        <p:grpSp>
          <p:nvGrpSpPr>
            <p:cNvPr id="7221" name="Group 3"/>
            <p:cNvGrpSpPr/>
            <p:nvPr/>
          </p:nvGrpSpPr>
          <p:grpSpPr>
            <a:xfrm>
              <a:off x="0" y="115920"/>
              <a:ext cx="9142560" cy="6549840"/>
              <a:chOff x="0" y="115920"/>
              <a:chExt cx="9142560" cy="6549840"/>
            </a:xfrm>
          </p:grpSpPr>
          <p:sp>
            <p:nvSpPr>
              <p:cNvPr id="722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2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2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27" name="Picture 9"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8"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ια τα ελληνικά δεδομένα ο ρόλος του εκπαιδευτικού της Παράλληλης Στήριξης πρέπει να γίνει ισότιμος με το ρόλο του εκπαιδευτικού της τάξη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2001). </a:t>
            </a:r>
            <a:br>
              <a:rPr sz="2800"/>
            </a:br>
            <a:r>
              <a:rPr b="0" lang="el-GR" sz="2800" spc="-1" strike="noStrike">
                <a:solidFill>
                  <a:srgbClr val="000000"/>
                </a:solidFill>
                <a:latin typeface="Times New Roman"/>
              </a:rPr>
              <a:t>Αυτό σημαίνει ότι ο εκπαιδευτικός ειδικής αγωγής είναι απαραίτητο να προχωρά σε προσαρμογές του σχολικού περιβάλλοντος και να παρέχει διδασκαλία στους μαθητές με αναπηρίες και ειδικές εκπαιδευτικές ανάγκες με στόχο να μπορέσουν να κατακτήσουν τη νέα γνώση και δεξιότητες ζωής (Μαυροπαλιάς, 2013).  </a:t>
            </a:r>
            <a:endParaRPr b="0" lang="en-US" sz="2800" spc="-1" strike="noStrike">
              <a:solidFill>
                <a:srgbClr val="ffffff"/>
              </a:solidFill>
              <a:latin typeface="Times New Roman"/>
            </a:endParaRPr>
          </a:p>
        </p:txBody>
      </p:sp>
      <p:grpSp>
        <p:nvGrpSpPr>
          <p:cNvPr id="7229" name="Group 2"/>
          <p:cNvGrpSpPr/>
          <p:nvPr/>
        </p:nvGrpSpPr>
        <p:grpSpPr>
          <a:xfrm>
            <a:off x="0" y="115920"/>
            <a:ext cx="9142560" cy="6549840"/>
            <a:chOff x="0" y="115920"/>
            <a:chExt cx="9142560" cy="6549840"/>
          </a:xfrm>
        </p:grpSpPr>
        <p:grpSp>
          <p:nvGrpSpPr>
            <p:cNvPr id="7230" name="Group 3"/>
            <p:cNvGrpSpPr/>
            <p:nvPr/>
          </p:nvGrpSpPr>
          <p:grpSpPr>
            <a:xfrm>
              <a:off x="0" y="115920"/>
              <a:ext cx="9142560" cy="6549840"/>
              <a:chOff x="0" y="115920"/>
              <a:chExt cx="9142560" cy="6549840"/>
            </a:xfrm>
          </p:grpSpPr>
          <p:sp>
            <p:nvSpPr>
              <p:cNvPr id="723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3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3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36" name="Picture 9"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θήκες εργασίας των ειδικών παιδαγωγών στην Ελλάδα δυσκολεύουν τη ανάληψη τέτοιων πρωτοβουλιών καθώς οι εκπαιδευτικοί αυτοί είναι υπεύθυνοι σε όλο το σχολικό πρόγραμμα για έναν μαθητή και σε όλα τα σχολικά αντικείμενα (</a:t>
            </a:r>
            <a:r>
              <a:rPr b="0" lang="en-US" sz="2800" spc="-1" strike="noStrike">
                <a:solidFill>
                  <a:srgbClr val="000000"/>
                </a:solidFill>
                <a:latin typeface="Times New Roman"/>
              </a:rPr>
              <a:t>Stefanidis</a:t>
            </a:r>
            <a:r>
              <a:rPr b="0" lang="el-GR" sz="2800" spc="-1" strike="noStrike">
                <a:solidFill>
                  <a:srgbClr val="000000"/>
                </a:solidFill>
                <a:latin typeface="Times New Roman"/>
              </a:rPr>
              <a:t> &amp; </a:t>
            </a:r>
            <a:r>
              <a:rPr b="0" lang="en-US" sz="2800" spc="-1" strike="noStrike">
                <a:solidFill>
                  <a:srgbClr val="000000"/>
                </a:solidFill>
                <a:latin typeface="Times New Roman"/>
              </a:rPr>
              <a:t>Strogilos</a:t>
            </a:r>
            <a:r>
              <a:rPr b="0" lang="el-GR" sz="2800" spc="-1" strike="noStrike">
                <a:solidFill>
                  <a:srgbClr val="000000"/>
                </a:solidFill>
                <a:latin typeface="Times New Roman"/>
              </a:rPr>
              <a:t>, 2015). Επιπλέον, σύμφωνα με τον Σούλη (2008) θετική επίδραση στους μαθητές έχει ο σεβασμός, η αλληλεπίδραση και οι σχέσεις ισοτιμίας ανάμεσα στους δύο συνδιδασκάλους. </a:t>
            </a:r>
            <a:endParaRPr b="0" lang="en-US" sz="2800" spc="-1" strike="noStrike">
              <a:solidFill>
                <a:srgbClr val="ffffff"/>
              </a:solidFill>
              <a:latin typeface="Times New Roman"/>
            </a:endParaRPr>
          </a:p>
        </p:txBody>
      </p:sp>
      <p:grpSp>
        <p:nvGrpSpPr>
          <p:cNvPr id="7238" name="Group 2"/>
          <p:cNvGrpSpPr/>
          <p:nvPr/>
        </p:nvGrpSpPr>
        <p:grpSpPr>
          <a:xfrm>
            <a:off x="0" y="115920"/>
            <a:ext cx="9142560" cy="6549840"/>
            <a:chOff x="0" y="115920"/>
            <a:chExt cx="9142560" cy="6549840"/>
          </a:xfrm>
        </p:grpSpPr>
        <p:grpSp>
          <p:nvGrpSpPr>
            <p:cNvPr id="7239" name="Group 3"/>
            <p:cNvGrpSpPr/>
            <p:nvPr/>
          </p:nvGrpSpPr>
          <p:grpSpPr>
            <a:xfrm>
              <a:off x="0" y="115920"/>
              <a:ext cx="9142560" cy="6549840"/>
              <a:chOff x="0" y="115920"/>
              <a:chExt cx="9142560" cy="6549840"/>
            </a:xfrm>
          </p:grpSpPr>
          <p:sp>
            <p:nvSpPr>
              <p:cNvPr id="724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4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4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45" name="Picture 9"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6"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λληνικό εκπαιδευτικό σύστημα η συνδιδασκαλία δεν αντιμετωπίζεται με ιδιαίτερη προσοχή και λειτουργεί υπό το πρίσμα του επαγγελματισμού και των οικονομικών συμφερόντων, για αυτό σήμερα οι δάσκαλοι διαφωνούν ως προς την ερμηνεία του θεσμού της Παράλληλης Στήριξης. </a:t>
            </a:r>
            <a:endParaRPr b="0" lang="en-US" sz="2800" spc="-1" strike="noStrike">
              <a:solidFill>
                <a:srgbClr val="ffffff"/>
              </a:solidFill>
              <a:latin typeface="Times New Roman"/>
            </a:endParaRPr>
          </a:p>
        </p:txBody>
      </p:sp>
      <p:grpSp>
        <p:nvGrpSpPr>
          <p:cNvPr id="7247" name="Group 2"/>
          <p:cNvGrpSpPr/>
          <p:nvPr/>
        </p:nvGrpSpPr>
        <p:grpSpPr>
          <a:xfrm>
            <a:off x="0" y="115920"/>
            <a:ext cx="9142560" cy="6549840"/>
            <a:chOff x="0" y="115920"/>
            <a:chExt cx="9142560" cy="6549840"/>
          </a:xfrm>
        </p:grpSpPr>
        <p:grpSp>
          <p:nvGrpSpPr>
            <p:cNvPr id="7248" name="Group 3"/>
            <p:cNvGrpSpPr/>
            <p:nvPr/>
          </p:nvGrpSpPr>
          <p:grpSpPr>
            <a:xfrm>
              <a:off x="0" y="115920"/>
              <a:ext cx="9142560" cy="6549840"/>
              <a:chOff x="0" y="115920"/>
              <a:chExt cx="9142560" cy="6549840"/>
            </a:xfrm>
          </p:grpSpPr>
          <p:sp>
            <p:nvSpPr>
              <p:cNvPr id="724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5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5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54" name="Picture 9"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5"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και οι εκπαιδευτικοί ειδικής αγωγής δείχνουν μειωμένο ενδιαφέρον για τη συνεκπαίδευση και δεν έχουν διάθεση για περαιτέρω και πιο εμπεριστατωμένη επιμόρφωση (</a:t>
            </a:r>
            <a:r>
              <a:rPr b="0" lang="en-US" sz="2800" spc="-1" strike="noStrike">
                <a:solidFill>
                  <a:srgbClr val="000000"/>
                </a:solidFill>
                <a:latin typeface="Times New Roman"/>
              </a:rPr>
              <a:t>Boutskou</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Αυτό μπορεί να οφείλεται στο γεγονός ότι στην Ελλάδα η εκάστοτε δομή ειδικής εκπαίδευσης που θα εργαστεί ο εκπαιδευτικός αλλάζει. </a:t>
            </a:r>
            <a:endParaRPr b="0" lang="en-US" sz="2800" spc="-1" strike="noStrike">
              <a:solidFill>
                <a:srgbClr val="ffffff"/>
              </a:solidFill>
              <a:latin typeface="Times New Roman"/>
            </a:endParaRPr>
          </a:p>
        </p:txBody>
      </p:sp>
      <p:grpSp>
        <p:nvGrpSpPr>
          <p:cNvPr id="7256" name="Group 2"/>
          <p:cNvGrpSpPr/>
          <p:nvPr/>
        </p:nvGrpSpPr>
        <p:grpSpPr>
          <a:xfrm>
            <a:off x="0" y="115920"/>
            <a:ext cx="9142560" cy="6549840"/>
            <a:chOff x="0" y="115920"/>
            <a:chExt cx="9142560" cy="6549840"/>
          </a:xfrm>
        </p:grpSpPr>
        <p:grpSp>
          <p:nvGrpSpPr>
            <p:cNvPr id="7257" name="Group 3"/>
            <p:cNvGrpSpPr/>
            <p:nvPr/>
          </p:nvGrpSpPr>
          <p:grpSpPr>
            <a:xfrm>
              <a:off x="0" y="115920"/>
              <a:ext cx="9142560" cy="6549840"/>
              <a:chOff x="0" y="115920"/>
              <a:chExt cx="9142560" cy="6549840"/>
            </a:xfrm>
          </p:grpSpPr>
          <p:sp>
            <p:nvSpPr>
              <p:cNvPr id="725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6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63" name="Picture 9"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αναλυτικά, ένας ειδικός παιδαγωγός μπορεί τη μία χρονιά να εργάζεται σε σχολική μονάδα ειδικής αγωγής, την άλλη σε τμήμα ένταξης στο γενικό σχολείο και την άλλη στην παράλληλη στήριξη. Έτσι, το προσωπικό αυτό δεν είχε την ετοιμότητα να υπερασπιστεί το θεσμό της συνδιδασκαλίας, τα οφέλη και τις κοινωνικές δεξιότητες που είναι δυνατόν να προσφέρει στους μαθητές με ειδικές εκπαιδευτικές ανάγκες και αναπηρία η συνδιδασκαλία έστω και με τη μορφή της παράλληλης που έχει πάρει στο ελληνικό εκπαιδευτικό σύστημα. </a:t>
            </a:r>
            <a:br>
              <a:rPr sz="2000"/>
            </a:br>
            <a:endParaRPr b="0" lang="en-US" sz="2800" spc="-1" strike="noStrike">
              <a:solidFill>
                <a:srgbClr val="ffffff"/>
              </a:solidFill>
              <a:latin typeface="Times New Roman"/>
            </a:endParaRPr>
          </a:p>
        </p:txBody>
      </p:sp>
      <p:grpSp>
        <p:nvGrpSpPr>
          <p:cNvPr id="7265" name="Group 2"/>
          <p:cNvGrpSpPr/>
          <p:nvPr/>
        </p:nvGrpSpPr>
        <p:grpSpPr>
          <a:xfrm>
            <a:off x="0" y="115920"/>
            <a:ext cx="9142560" cy="6549840"/>
            <a:chOff x="0" y="115920"/>
            <a:chExt cx="9142560" cy="6549840"/>
          </a:xfrm>
        </p:grpSpPr>
        <p:grpSp>
          <p:nvGrpSpPr>
            <p:cNvPr id="7266" name="Group 3"/>
            <p:cNvGrpSpPr/>
            <p:nvPr/>
          </p:nvGrpSpPr>
          <p:grpSpPr>
            <a:xfrm>
              <a:off x="0" y="115920"/>
              <a:ext cx="9142560" cy="6549840"/>
              <a:chOff x="0" y="115920"/>
              <a:chExt cx="9142560" cy="6549840"/>
            </a:xfrm>
          </p:grpSpPr>
          <p:sp>
            <p:nvSpPr>
              <p:cNvPr id="726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6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72" name="Picture 9"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3"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ναγκαίο να γίνει κατανοητό το πόσο σημαντική είναι η συνεργασία μεταξύ των συνδιδασκάλων και η αναθεώρηση του ρόλου. Ο ειδικός παιδαγωγός θα ήταν ωφέλιμο να μην μένει στη θέση του βοηθού, αλλά να αναλαμβάνει ευθύνες για το σύνολο της τάξης, κυρίως σε θέματα συμπεριφοράς , όπου μπορεί να βοηθήσει. </a:t>
            </a:r>
            <a:endParaRPr b="0" lang="en-US" sz="2800" spc="-1" strike="noStrike">
              <a:solidFill>
                <a:srgbClr val="ffffff"/>
              </a:solidFill>
              <a:latin typeface="Times New Roman"/>
            </a:endParaRPr>
          </a:p>
        </p:txBody>
      </p:sp>
      <p:grpSp>
        <p:nvGrpSpPr>
          <p:cNvPr id="7274" name="Group 2"/>
          <p:cNvGrpSpPr/>
          <p:nvPr/>
        </p:nvGrpSpPr>
        <p:grpSpPr>
          <a:xfrm>
            <a:off x="0" y="115920"/>
            <a:ext cx="9142560" cy="6549840"/>
            <a:chOff x="0" y="115920"/>
            <a:chExt cx="9142560" cy="6549840"/>
          </a:xfrm>
        </p:grpSpPr>
        <p:grpSp>
          <p:nvGrpSpPr>
            <p:cNvPr id="7275" name="Group 3"/>
            <p:cNvGrpSpPr/>
            <p:nvPr/>
          </p:nvGrpSpPr>
          <p:grpSpPr>
            <a:xfrm>
              <a:off x="0" y="115920"/>
              <a:ext cx="9142560" cy="6549840"/>
              <a:chOff x="0" y="115920"/>
              <a:chExt cx="9142560" cy="6549840"/>
            </a:xfrm>
          </p:grpSpPr>
          <p:sp>
            <p:nvSpPr>
              <p:cNvPr id="727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7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1"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2:07Z</dcterms:modified>
  <cp:revision>1</cp:revision>
  <dc:subject/>
  <dc:title/>
</cp:coreProperties>
</file>